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4AF1-4E97-4749-8D87-0D8656DD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D91E-C905-44EA-9516-58DD0E19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BB20-1135-48CC-B34C-3E05267E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38D9-2A6E-4672-88D1-16D033EC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7B77-74E8-4DB5-9CBE-161EBDCF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0BAE-F592-4A89-B7BD-D84F6097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CFD-022E-4C21-BC44-6AA774EE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A9D8-CFA2-4AF9-8497-05E7A37B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1F7D-ED1D-466C-8A2E-9E6D8DAA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7E2B-F0B1-4CA6-9B41-978C7007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64C3-C439-48E3-B0E7-FC44641F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C91-3705-49F3-947B-0730D007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880A-091D-44D6-A84F-AB26D24A0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4464360"/>
          </a:xfrm>
          <a:prstGeom prst="rect">
            <a:avLst/>
          </a:prstGeom>
          <a:solidFill>
            <a:srgbClr val="cc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ภาพรวมและความเชื่อมโยง</a:t>
            </a:r>
            <a:br>
              <a:rPr sz="3200"/>
            </a:b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การดำเนินการตามตัวชี้วัด</a:t>
            </a:r>
            <a:br>
              <a:rPr sz="3200"/>
            </a:b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ระดับความสำเร็จของการพัฒนา</a:t>
            </a:r>
            <a:br>
              <a:rPr sz="3200"/>
            </a:b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คุณภาพการบริหารจัดการภาครัฐ</a:t>
            </a:r>
            <a:br>
              <a:rPr sz="3200"/>
            </a:b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ประจำปีงบประมาณ พ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552</a:t>
            </a:r>
            <a:br>
              <a:rPr sz="3200"/>
            </a:b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สำหรับสถาบันอุดมศึกษ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51280" y="6453360"/>
            <a:ext cx="1008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รายละเอียดและข้อมูลเพิ่มเติ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1916280"/>
            <a:ext cx="6842160" cy="15840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Download </a:t>
            </a:r>
            <a:r>
              <a:rPr b="1" lang="th-TH" sz="3200" spc="-1" strike="noStrike">
                <a:solidFill>
                  <a:srgbClr val="ffff00"/>
                </a:solidFill>
                <a:latin typeface="Tahoma"/>
                <a:cs typeface="Tahoma"/>
              </a:rPr>
              <a:t>ข้อมูลได้ที่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http</a:t>
            </a:r>
            <a:r>
              <a:rPr b="1" lang="th-TH" sz="3200" spc="-1" strike="noStrike">
                <a:solidFill>
                  <a:srgbClr val="ffff00"/>
                </a:solidFill>
                <a:latin typeface="Tahoma"/>
                <a:ea typeface="Tahoma"/>
              </a:rPr>
              <a:t>//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: www.opdc.go.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1433520"/>
            <a:ext cx="1079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4151160"/>
            <a:ext cx="7632720" cy="23022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0 – 2356 9999 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           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ต่อ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8848 8841  8806  891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3594240"/>
            <a:ext cx="1079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4581360"/>
            <a:ext cx="1541520" cy="15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4280"/>
            <a:ext cx="8353440" cy="719280"/>
          </a:xfrm>
          <a:prstGeom prst="rect">
            <a:avLst/>
          </a:prstGeom>
          <a:solidFill>
            <a:srgbClr val="cc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แผนยุทธศาสตร์การพัฒนาระบบราชการไทย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พ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2551-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พ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2555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341360"/>
            <a:ext cx="7920360" cy="165600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000" spc="-1" strike="noStrike" u="sng">
                <a:solidFill>
                  <a:srgbClr val="ffffff"/>
                </a:solidFill>
                <a:uFillTx/>
                <a:latin typeface="Tahoma"/>
                <a:cs typeface="Tahoma"/>
              </a:rPr>
              <a:t>ประเด็นยุทธศาสตร์ที่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3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: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ุ่งสู่การเป็นองค์การที่มีขีดสมรรถนะสู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บุคลากรมีความพร้อมและความสามารถในการเรียนรู้ คิดริเริ่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เปลี่ยนแปลง และปรับตัวได้อย่างเหมาะสมต่อสถานการณ์ต่าง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3573360"/>
            <a:ext cx="6480360" cy="115272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000" spc="-1" strike="noStrike" u="sng">
                <a:solidFill>
                  <a:srgbClr val="ffffff"/>
                </a:solidFill>
                <a:uFillTx/>
                <a:latin typeface="Tahoma"/>
                <a:cs typeface="Tahoma"/>
              </a:rPr>
              <a:t>เป้าประสงค์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: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ส่วนราชการและหน่วยงานของรั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สามารถพัฒนาขีดสมรรถนะและมีความพร้อ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ในการดำเนินงา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300640"/>
            <a:ext cx="7705800" cy="107964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000" spc="-1" strike="noStrike" u="sng">
                <a:solidFill>
                  <a:srgbClr val="ffffff"/>
                </a:solidFill>
                <a:uFillTx/>
                <a:latin typeface="Tahoma"/>
                <a:cs typeface="Tahoma"/>
              </a:rPr>
              <a:t>ตัวชี้วัด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: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ระดับความสำเร็จของส่วนราชการและหน่วยงานของรั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ในการปรับปรุงและยกระดับคุณภาพการบริหารงา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ตามแผนพัฒนาองค์การ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20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1" lang="th-TH" sz="2000" spc="-1" strike="noStrike">
                <a:solidFill>
                  <a:srgbClr val="ffff00"/>
                </a:solidFill>
                <a:latin typeface="Tahoma"/>
                <a:cs typeface="Tahoma"/>
              </a:rPr>
              <a:t>ไม่น้อยกว่าร้อยละ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80 </a:t>
            </a:r>
            <a:r>
              <a:rPr b="1" lang="th-TH" sz="2000" spc="-1" strike="noStrike">
                <a:solidFill>
                  <a:srgbClr val="ffff00"/>
                </a:solidFill>
                <a:latin typeface="Tahoma"/>
                <a:cs typeface="Tahoma"/>
              </a:rPr>
              <a:t>โดยเฉลี่ย</a:t>
            </a:r>
            <a:r>
              <a:rPr b="1" lang="th-TH" sz="20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836640"/>
            <a:ext cx="122400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3068640"/>
            <a:ext cx="122400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4797360"/>
            <a:ext cx="122400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95640" y="6524640"/>
            <a:ext cx="1008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920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Tahoma"/>
              </a:rPr>
              <a:t>การกำหนดตัวชี้วัด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PMQA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Tahoma"/>
              </a:rPr>
              <a:t>ปี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25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54007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Tahoma"/>
                <a:cs typeface="Tahoma"/>
              </a:rPr>
              <a:t>มุ่งเน้นให้ส่วนราชการปรับปรุงองค์การ โดยการวัดความสำเร็จของการดำเนินการและผลลัพธ์ของ </a:t>
            </a:r>
            <a:r>
              <a:rPr b="1" i="1" lang="th-TH" sz="2200" spc="-1" strike="noStrike">
                <a:solidFill>
                  <a:srgbClr val="ff9900"/>
                </a:solidFill>
                <a:latin typeface="Tahoma"/>
                <a:cs typeface="Tahoma"/>
              </a:rPr>
              <a:t>แผนพัฒนาองค์การ</a:t>
            </a:r>
            <a:r>
              <a:rPr b="1" lang="th-TH" sz="2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i="1" lang="th-TH" sz="2200" spc="-1" strike="noStrike">
                <a:solidFill>
                  <a:srgbClr val="ff9900"/>
                </a:solidFill>
                <a:latin typeface="Tahoma"/>
                <a:ea typeface="Tahoma"/>
              </a:rPr>
              <a:t>(</a:t>
            </a:r>
            <a:r>
              <a:rPr b="1" i="1" lang="en-US" sz="2200" spc="-1" strike="noStrike">
                <a:solidFill>
                  <a:srgbClr val="ff9900"/>
                </a:solidFill>
                <a:latin typeface="Tahoma"/>
                <a:ea typeface="Tahoma"/>
              </a:rPr>
              <a:t>Improvement Plan)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Tahoma"/>
                <a:cs typeface="Tahoma"/>
              </a:rPr>
              <a:t>ส่งเสริมให้ส่วนราชการมีความเข้าใจ และนำเครื่องมือการบริหารจัดการที่เหมาะสม มาใช้เพื่อปรับปรุงและพัฒนาองค์การอย่างต่อเนื่อง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Tahoma"/>
                <a:cs typeface="Tahoma"/>
              </a:rPr>
              <a:t>มุ่งเน้นให้ส่วนราชการสามารถดำเนินการตามแผนพัฒนาองค์การได้อย่างมีประสิทธิภาพ  และยกระดับคุณภาพการบริหารจัดการได้อย่างเป็นระบ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Tahoma"/>
                <a:cs typeface="Tahoma"/>
              </a:rPr>
              <a:t>พัฒนา</a:t>
            </a:r>
            <a:r>
              <a:rPr b="1" i="1" lang="th-TH" sz="2200" spc="-1" strike="noStrike">
                <a:solidFill>
                  <a:srgbClr val="ff9900"/>
                </a:solidFill>
                <a:latin typeface="Tahoma"/>
                <a:cs typeface="Tahoma"/>
              </a:rPr>
              <a:t>เกณฑ์คุณภาพการบริหารจัดการภาครัฐขั้นพื้นฐาน </a:t>
            </a:r>
            <a:r>
              <a:rPr b="1" i="1" lang="th-TH" sz="2200" spc="-1" strike="noStrike">
                <a:solidFill>
                  <a:srgbClr val="ff9900"/>
                </a:solidFill>
                <a:latin typeface="Tahoma"/>
                <a:ea typeface="Tahoma"/>
              </a:rPr>
              <a:t>(</a:t>
            </a:r>
            <a:r>
              <a:rPr b="1" i="1" lang="en-US" sz="2200" spc="-1" strike="noStrike">
                <a:solidFill>
                  <a:srgbClr val="ff9900"/>
                </a:solidFill>
                <a:latin typeface="Tahoma"/>
                <a:ea typeface="Tahoma"/>
              </a:rPr>
              <a:t>Fundamental Level</a:t>
            </a:r>
            <a:r>
              <a:rPr b="1" i="1" lang="th-TH" sz="2200" spc="-1" strike="noStrike">
                <a:solidFill>
                  <a:srgbClr val="ff9900"/>
                </a:solidFill>
                <a:latin typeface="Tahoma"/>
                <a:ea typeface="Tahoma"/>
              </a:rPr>
              <a:t>)</a:t>
            </a:r>
            <a:r>
              <a:rPr b="1" lang="th-TH" sz="2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2200" spc="-1" strike="noStrike">
                <a:solidFill>
                  <a:srgbClr val="ffffff"/>
                </a:solidFill>
                <a:latin typeface="Tahoma"/>
                <a:cs typeface="Tahoma"/>
              </a:rPr>
              <a:t>เพื่อเป็นกรอบการประเมินความสำเร็จของแผนพัฒนาองค์การ ซึ่งถือว่าเป็นกรอบแนวทางในการประเมินองค์กรเบื้องต้นและเป็นแนวทาง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  <a:ea typeface="Tahoma"/>
              </a:rPr>
              <a:t>“</a:t>
            </a:r>
            <a:r>
              <a:rPr b="1" lang="th-TH" sz="2200" spc="-1" strike="noStrike">
                <a:solidFill>
                  <a:srgbClr val="ffffff"/>
                </a:solidFill>
                <a:latin typeface="Tahoma"/>
                <a:cs typeface="Tahoma"/>
              </a:rPr>
              <a:t>การเปลี่ยนแปลงทีละขั้น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  <a:ea typeface="Tahoma"/>
              </a:rPr>
              <a:t>”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51280" y="6381720"/>
            <a:ext cx="1008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200"/>
            <a:ext cx="8209080" cy="54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ความเชื่อมโยงการดำเนินการพัฒนาคุณภาพการบริหารจัดการภาครั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5640" y="2565360"/>
            <a:ext cx="719280" cy="1224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197000"/>
            <a:ext cx="3529080" cy="2089080"/>
          </a:xfrm>
          <a:prstGeom prst="rect">
            <a:avLst/>
          </a:prstGeom>
          <a:solidFill>
            <a:srgbClr val="66ff33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5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มินองค์กรตามแนวทา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1500" spc="-1" strike="noStrike">
                <a:solidFill>
                  <a:srgbClr val="000000"/>
                </a:solidFill>
                <a:latin typeface="Tahoma"/>
                <a:cs typeface="Tahoma"/>
              </a:rPr>
              <a:t>การบริหารจัดการแบบ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ADLI </a:t>
            </a:r>
            <a:r>
              <a:rPr b="0" lang="th-TH" sz="15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1500" spc="-1" strike="noStrike">
                <a:solidFill>
                  <a:srgbClr val="000000"/>
                </a:solidFill>
                <a:latin typeface="Tahoma"/>
                <a:cs typeface="Tahoma"/>
              </a:rPr>
              <a:t>ตรวจสอบการดำเนินการในแต่ล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1500" spc="-1" strike="noStrike">
                <a:solidFill>
                  <a:srgbClr val="000000"/>
                </a:solidFill>
                <a:latin typeface="Tahoma"/>
                <a:cs typeface="Tahoma"/>
              </a:rPr>
              <a:t>ข้อคำถามตามเกณฑ์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PMQ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5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มินผลการดำเนินงานจา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1500" spc="-1" strike="noStrike">
                <a:solidFill>
                  <a:srgbClr val="000000"/>
                </a:solidFill>
                <a:latin typeface="Tahoma"/>
                <a:cs typeface="Tahoma"/>
              </a:rPr>
              <a:t>มาตรฐานที่กำหนดไว้ </a:t>
            </a:r>
            <a:r>
              <a:rPr b="0" lang="th-TH" sz="15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Check List</a:t>
            </a:r>
            <a:r>
              <a:rPr b="0" lang="th-TH" sz="15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3933720"/>
            <a:ext cx="3529080" cy="266544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cs typeface="Tahoma"/>
              </a:rPr>
              <a:t>รายงานผลการประเมินองค์กรด้ว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cs typeface="Tahoma"/>
              </a:rPr>
              <a:t>ตนเองตามมาตรฐาน 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  <a:ea typeface="Tahoma"/>
              </a:rPr>
              <a:t>Check List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cs typeface="Tahoma"/>
              </a:rPr>
              <a:t>การแสดงผลกราฟระดับคะแน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cs typeface="Tahoma"/>
              </a:rPr>
              <a:t>การประเมินองค์กร ฯ รายหัวข้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cs typeface="Tahoma"/>
              </a:rPr>
              <a:t>รายงานจุดแข็ง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  <a:ea typeface="Tahoma"/>
              </a:rPr>
              <a:t> OFIs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cs typeface="Tahoma"/>
              </a:rPr>
              <a:t>พร้อม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Tahoma"/>
                <a:ea typeface="Tahoma"/>
              </a:rPr>
              <a:t>   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cs typeface="Tahoma"/>
              </a:rPr>
              <a:t>การจัดลำดับความสำคัญ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cs typeface="Tahoma"/>
              </a:rPr>
              <a:t>แผนปรับปรุงองค์กร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  <a:ea typeface="Tahoma"/>
              </a:rPr>
              <a:t>2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cs typeface="Tahoma"/>
              </a:rPr>
              <a:t>แผ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cs typeface="Tahoma"/>
              </a:rPr>
              <a:t>หลักฐานสำคัญ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  <a:ea typeface="Tahoma"/>
              </a:rPr>
              <a:t>40 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cs typeface="Tahoma"/>
              </a:rPr>
              <a:t>หลักฐาน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cs typeface="Tahoma"/>
              </a:rPr>
              <a:t>รอตรวจที่ส่วนราชการ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3454560"/>
            <a:ext cx="718920" cy="43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1052640"/>
            <a:ext cx="3816360" cy="244764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มินระดับความสำเร็จของการพัฒนาคุณภา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ของส่วนราชการ ตามเกณฑ์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PMQA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cs typeface="Tahoma"/>
              </a:rPr>
              <a:t>ขั้นพื้น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ายหมวด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ภาคบังคับ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สมัครใ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ละหมวด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7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จัดทำแผนพัฒนาองค์การรายหมว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ปรับปรุงองค์การตามแผนที่กำหน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มินองค์การตามเกณฑ์ฯขั้นพื้น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จัดทำแผนพัฒนาองค์การปี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3933720"/>
            <a:ext cx="4248360" cy="28800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แผนพัฒนาองค์การปี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2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US" sz="1400" spc="-1" strike="noStrike">
                <a:solidFill>
                  <a:srgbClr val="ffff00"/>
                </a:solidFill>
                <a:latin typeface="Tahoma"/>
                <a:ea typeface="Tahoma"/>
              </a:rPr>
              <a:t>30 </a:t>
            </a:r>
            <a:r>
              <a:rPr b="0" lang="th-TH" sz="1400" spc="-1" strike="noStrike">
                <a:solidFill>
                  <a:srgbClr val="ffff00"/>
                </a:solidFill>
                <a:latin typeface="Tahoma"/>
                <a:cs typeface="Tahoma"/>
              </a:rPr>
              <a:t>ม</a:t>
            </a:r>
            <a:r>
              <a:rPr b="0" lang="th-TH" sz="1400" spc="-1" strike="noStrike">
                <a:solidFill>
                  <a:srgbClr val="ffff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ffff00"/>
                </a:solidFill>
                <a:latin typeface="Tahoma"/>
                <a:cs typeface="Tahoma"/>
              </a:rPr>
              <a:t>ค</a:t>
            </a:r>
            <a:r>
              <a:rPr b="0" lang="th-TH" sz="1400" spc="-1" strike="noStrike">
                <a:solidFill>
                  <a:srgbClr val="ffff00"/>
                </a:solidFill>
                <a:latin typeface="Tahoma"/>
                <a:ea typeface="Tahoma"/>
              </a:rPr>
              <a:t>.</a:t>
            </a:r>
            <a:r>
              <a:rPr b="0" lang="en-US" sz="1400" spc="-1" strike="noStrike">
                <a:solidFill>
                  <a:srgbClr val="ffff00"/>
                </a:solidFill>
                <a:latin typeface="Tahoma"/>
                <a:ea typeface="Tahoma"/>
              </a:rPr>
              <a:t>52</a:t>
            </a:r>
            <a:r>
              <a:rPr b="0" lang="th-TH" sz="14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รายงานแสดงตัวชี้วัดผลลัพธ์ แผนพัฒน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องค์การปี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2 </a:t>
            </a:r>
            <a:r>
              <a:rPr b="0" lang="th-TH" sz="14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US" sz="1400" spc="-1" strike="noStrike">
                <a:solidFill>
                  <a:srgbClr val="ffff00"/>
                </a:solidFill>
                <a:latin typeface="Tahoma"/>
                <a:ea typeface="Tahoma"/>
              </a:rPr>
              <a:t>30 </a:t>
            </a:r>
            <a:r>
              <a:rPr b="0" lang="th-TH" sz="1400" spc="-1" strike="noStrike">
                <a:solidFill>
                  <a:srgbClr val="ffff00"/>
                </a:solidFill>
                <a:latin typeface="Tahoma"/>
                <a:cs typeface="Tahoma"/>
              </a:rPr>
              <a:t>ม</a:t>
            </a:r>
            <a:r>
              <a:rPr b="0" lang="th-TH" sz="1400" spc="-1" strike="noStrike">
                <a:solidFill>
                  <a:srgbClr val="ffff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ffff00"/>
                </a:solidFill>
                <a:latin typeface="Tahoma"/>
                <a:cs typeface="Tahoma"/>
              </a:rPr>
              <a:t>ค</a:t>
            </a:r>
            <a:r>
              <a:rPr b="0" lang="th-TH" sz="1400" spc="-1" strike="noStrike">
                <a:solidFill>
                  <a:srgbClr val="ffff00"/>
                </a:solidFill>
                <a:latin typeface="Tahoma"/>
                <a:ea typeface="Tahoma"/>
              </a:rPr>
              <a:t>.</a:t>
            </a:r>
            <a:r>
              <a:rPr b="0" lang="en-US" sz="1400" spc="-1" strike="noStrike">
                <a:solidFill>
                  <a:srgbClr val="ffff00"/>
                </a:solidFill>
                <a:latin typeface="Tahoma"/>
                <a:ea typeface="Tahoma"/>
              </a:rPr>
              <a:t>52</a:t>
            </a:r>
            <a:r>
              <a:rPr b="0" lang="th-TH" sz="14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รายงานผลการดำเนินการ เทียบกับเกณฑ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PMQA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ขั้นพื้นฐา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รายงานผลลัพธ์การดำเนินการตามแผนพัฒนาองค์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รายงานผลการจัดทำลักษณะสำคัญขององค์ก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รายงานผลการประเมินองค์กรด้วยตนเอ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ตามเกณฑ์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PMQA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ขั้นพื้นฐา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แผนพัฒนาองค์การปี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3</a:t>
            </a:r>
            <a:br>
              <a:rPr sz="1400"/>
            </a:br>
            <a:r>
              <a:rPr b="0" lang="th-TH" sz="1400" spc="-1" strike="noStrike">
                <a:solidFill>
                  <a:srgbClr val="ffffff"/>
                </a:solidFill>
                <a:latin typeface="Tahoma"/>
                <a:ea typeface="Tahoma"/>
              </a:rPr>
              <a:t>  (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หมวดภาคบังคับ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,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หมวดสมัครใจ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716040"/>
            <a:ext cx="1150920" cy="358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ปี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25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00720" y="666720"/>
            <a:ext cx="1152720" cy="36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ปี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16720" y="3502080"/>
            <a:ext cx="7192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429408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7640" y="5373720"/>
            <a:ext cx="360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7640" y="4294080"/>
            <a:ext cx="360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7640" y="5878440"/>
            <a:ext cx="3603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58784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6381720"/>
            <a:ext cx="3603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40360" y="4078440"/>
            <a:ext cx="64764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40360" y="4076640"/>
            <a:ext cx="0" cy="792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40360" y="4870440"/>
            <a:ext cx="64764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51280" y="6453360"/>
            <a:ext cx="1008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95640" y="333360"/>
            <a:ext cx="6119640" cy="581400"/>
          </a:xfrm>
          <a:prstGeom prst="rect">
            <a:avLst/>
          </a:prstGeom>
          <a:solidFill>
            <a:srgbClr val="edf6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Roadmap 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ารพัฒนาองค์ก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2000" y="1733400"/>
            <a:ext cx="1712880" cy="503280"/>
          </a:xfrm>
          <a:custGeom>
            <a:avLst/>
            <a:gdLst>
              <a:gd name="textAreaLeft" fmla="*/ 0 w 1712880"/>
              <a:gd name="textAreaRight" fmla="*/ 1713240 w 17128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88000" y="1733400"/>
            <a:ext cx="1944720" cy="47952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30920" y="1733400"/>
            <a:ext cx="2089080" cy="47952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47640" y="17082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25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65880" y="1708200"/>
            <a:ext cx="13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25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58880" y="17002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25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9291800">
            <a:off x="256320" y="620280"/>
            <a:ext cx="133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3300"/>
                </a:solidFill>
                <a:latin typeface="Tahoma"/>
                <a:cs typeface="Tahoma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51280" y="6381720"/>
            <a:ext cx="1008000" cy="36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9280" y="2565360"/>
            <a:ext cx="8785440" cy="21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3078000"/>
            <a:ext cx="22320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4960" y="31748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สถาบันอุดมศึกษ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6920" y="4221000"/>
            <a:ext cx="82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เน้นความสำคัญของการกำหนดทิศทางองค์กรที่ชัดเจน และการพัฒนาบุคลากรเพื่อเน้นผู้เรียนเป็นสำคั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08440" y="296712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70240" y="329256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03960" y="329256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08440" y="346248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02040" y="2997360"/>
            <a:ext cx="50508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62400" y="321300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78400" y="299736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18040" y="342900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48360" y="2925720"/>
            <a:ext cx="194472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cessfu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0"/>
            <a:ext cx="8713800" cy="870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ตัวชี้วัดที่ </a:t>
            </a:r>
            <a:r>
              <a:rPr b="1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br>
              <a:rPr sz="1800"/>
            </a:br>
            <a:r>
              <a:rPr b="1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ระดับความสำเร็จของการพัฒนาคุณภาพการบริหารจัดการภาครัฐ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น้ำหนัก ร้อยละ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919080"/>
          <a:ext cx="8642160" cy="5923080"/>
        </p:xfrm>
        <a:graphic>
          <a:graphicData uri="http://schemas.openxmlformats.org/drawingml/2006/table">
            <a:tbl>
              <a:tblPr/>
              <a:tblGrid>
                <a:gridCol w="582480"/>
                <a:gridCol w="2219400"/>
                <a:gridCol w="403200"/>
                <a:gridCol w="417600"/>
                <a:gridCol w="417240"/>
                <a:gridCol w="621000"/>
                <a:gridCol w="3031920"/>
                <a:gridCol w="949320"/>
              </a:tblGrid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ัวชี้วั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 </a:t>
                      </a:r>
                      <a:br>
                        <a:rPr sz="1400"/>
                      </a:b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ัวชี้วั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 </a:t>
                      </a:r>
                      <a:br>
                        <a:rPr sz="1400"/>
                      </a:b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Arial"/>
                          <a:cs typeface="Tahoma"/>
                        </a:rPr>
                        <a:t>ระดับความสำเร็จของการดำเนินการตามแผนการพัฒนาองค์การ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ที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เฉลี่ยถ่วงน้ำหนักของการจัดทำแผนพัฒนาองค์การปีงบประมาณ พ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7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ของการผ่านเกณฑ์คุณภาพการบริหารจัดการภาครัฐระดับพื้นฐา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วามครบถ้วนของการจัดทำรายงานลักษณะสำคัญขององค์กร 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15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ำถาม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ร้อยละเฉลี่ยถ่วงน้ำหนักในการบรรลุเป้าหมายความสำเร็จของผลลัพธ์ในการดำเนินการตามแผนพัฒนาองค์การ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วามครบถ้วนของการจัดทำรายงานการประเมินองค์กรด้วยตนเองหมวด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-7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ามเกณฑ์คุณภาพการบริหารจัดการภาครัฐระดับพื้นฐา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วามครบถ้วนของแผนพัฒนาองค์การประจำปีงบประมาณ พ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3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5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ร้อยละเฉลี่ยถ่วงน้ำหนักในการบรรลุเป้าหมายความสำเร็จของผลลัพธ์ในการดำเนินการของส่วนราชการ ตามเกณฑ์คุณภาพการบริหารจัดการภาครัฐระดับพื้นฐาน </a:t>
                      </a:r>
                      <a:br>
                        <a:rPr sz="1200"/>
                      </a:b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หมวด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85840" y="210960"/>
            <a:ext cx="5183280" cy="6336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29880"/>
            <a:ext cx="8507520" cy="566100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รายงานมีจำนวน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8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 u="sng">
                <a:solidFill>
                  <a:srgbClr val="ffffff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i="1" lang="ar-SA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1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: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แผนพัฒนาองค์การประจำปีงบประมาณ พ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  <a:ea typeface="Tahoma"/>
              </a:rPr>
              <a:t>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 u="sng">
                <a:solidFill>
                  <a:srgbClr val="ffffff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i="1" lang="ar-SA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2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:</a:t>
            </a:r>
            <a:r>
              <a:rPr b="1" i="1" lang="th-TH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แสดงตัวชี้วัดความสำเร็จของการดำเนินการ</a:t>
            </a:r>
            <a:br>
              <a:rPr sz="1800"/>
            </a:b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ตามแผนพัฒนาองค์การประจำปีงบประมาณ พ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 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 u="sng">
                <a:solidFill>
                  <a:srgbClr val="ffffff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3: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รายงานผลการดำเนินการเมื่อเทียบกับเกณฑ์คุณภา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    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การบริหารจัดการภาครัฐขั้นพื้นฐา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 u="sng">
                <a:solidFill>
                  <a:srgbClr val="ffffff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4: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รายงานผลลัพธ์การดำเนินการตามแผนพัฒนาองค์กา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 u="sng">
                <a:solidFill>
                  <a:srgbClr val="ffffff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5: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รายงานผลการจัดทำลักษณะสำคัญขององค์ก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 u="sng">
                <a:solidFill>
                  <a:srgbClr val="ffffff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6: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รายงานผลการประเมินองค์กรด้วยตนเองตามเกณฑ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     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คุณภาพการบริหารจัดการภาครัฐขั้นพื้นฐา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 u="sng">
                <a:solidFill>
                  <a:srgbClr val="ffffff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7: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 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แผนพัฒนาองค์การ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25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 u="sng">
                <a:solidFill>
                  <a:srgbClr val="ffffff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8: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 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รายงานผลระดับคะแนนระดับความสำเร็จของกา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     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พัฒนาคุณภาพการบริหารจัดการภาครั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51280" y="6453360"/>
            <a:ext cx="1008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63280" y="44280"/>
            <a:ext cx="5543640" cy="71928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Tahoma"/>
              </a:rPr>
              <a:t>การส่งรายงา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3341880"/>
          </a:xfrm>
          <a:prstGeom prst="rect">
            <a:avLst/>
          </a:prstGeom>
          <a:solidFill>
            <a:srgbClr val="6600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กำหนดส่งรายงาน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2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ช่วงเวล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ช่วงที่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1 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2800" spc="-1" strike="noStrike" u="sng">
                <a:solidFill>
                  <a:srgbClr val="ffff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  <a:ea typeface="Tahoma"/>
              </a:rPr>
              <a:t>30 </a:t>
            </a:r>
            <a:r>
              <a:rPr b="1" lang="th-TH" sz="2800" spc="-1" strike="noStrike" u="sng">
                <a:solidFill>
                  <a:srgbClr val="ffff00"/>
                </a:solidFill>
                <a:uFillTx/>
                <a:latin typeface="Tahoma"/>
                <a:cs typeface="Tahoma"/>
              </a:rPr>
              <a:t>มกราคม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  <a:ea typeface="Tahoma"/>
              </a:rPr>
              <a:t>25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ที่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ที่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ช่วงที่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2 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2800" spc="-1" strike="noStrike" u="sng">
                <a:solidFill>
                  <a:srgbClr val="ffff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  <a:ea typeface="Tahoma"/>
              </a:rPr>
              <a:t>30 </a:t>
            </a:r>
            <a:r>
              <a:rPr b="1" lang="th-TH" sz="2800" spc="-1" strike="noStrike" u="sng">
                <a:solidFill>
                  <a:srgbClr val="ffff00"/>
                </a:solidFill>
                <a:uFillTx/>
                <a:latin typeface="Tahoma"/>
                <a:cs typeface="Tahoma"/>
              </a:rPr>
              <a:t>ตุลาคม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  <a:ea typeface="Tahoma"/>
              </a:rPr>
              <a:t>25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ที่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3-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ที่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4437000"/>
            <a:ext cx="8064720" cy="194472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การดำเนินการตามแบบฟอร์มที่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1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ละ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จะต้องได้รับความเห็นชอบจากหัวหน้าสถาบันอุดมศึกษา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ละ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ส่งให้สำนักงาน ก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ร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1" lang="th-TH" sz="1800" spc="-1" strike="noStrike" u="sng">
                <a:solidFill>
                  <a:srgbClr val="ffff00"/>
                </a:solidFill>
                <a:uFillTx/>
                <a:latin typeface="Tahoma"/>
                <a:cs typeface="Tahoma"/>
              </a:rPr>
              <a:t>ภายในวันที่ </a:t>
            </a:r>
            <a:r>
              <a:rPr b="1" lang="th-TH" sz="1800" spc="-1" strike="noStrike" u="sng">
                <a:solidFill>
                  <a:srgbClr val="ffff00"/>
                </a:solidFill>
                <a:uFillTx/>
                <a:latin typeface="Tahoma"/>
                <a:ea typeface="Tahoma"/>
              </a:rPr>
              <a:t>30 </a:t>
            </a:r>
            <a:r>
              <a:rPr b="1" lang="th-TH" sz="1800" spc="-1" strike="noStrike" u="sng">
                <a:solidFill>
                  <a:srgbClr val="ffff00"/>
                </a:solidFill>
                <a:uFillTx/>
                <a:latin typeface="Tahoma"/>
                <a:cs typeface="Tahoma"/>
              </a:rPr>
              <a:t>มกราคม </a:t>
            </a:r>
            <a:r>
              <a:rPr b="1" lang="th-TH" sz="1800" spc="-1" strike="noStrike" u="sng">
                <a:solidFill>
                  <a:srgbClr val="ffff00"/>
                </a:solidFill>
                <a:uFillTx/>
                <a:latin typeface="Tahoma"/>
                <a:ea typeface="Tahoma"/>
              </a:rPr>
              <a:t>255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ทั้งนี้ หากส่วนราชการไม่สามารถส่งได้ทันภายในระยะเวลาที่กำหน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00"/>
                </a:solidFill>
                <a:latin typeface="Tahoma"/>
                <a:cs typeface="Tahoma"/>
              </a:rPr>
              <a:t>จะหักคะแนนจากคะแนนรวมของตัวชี้วัดนี้ 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0.5000 </a:t>
            </a:r>
            <a:r>
              <a:rPr b="1" lang="th-TH" sz="1800" spc="-1" strike="noStrike">
                <a:solidFill>
                  <a:srgbClr val="ffff00"/>
                </a:solidFill>
                <a:latin typeface="Tahoma"/>
                <a:cs typeface="Tahoma"/>
              </a:rPr>
              <a:t>คะแน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51280" y="6453360"/>
            <a:ext cx="1008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5640" y="115920"/>
            <a:ext cx="7201080" cy="85104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Tahoma"/>
                <a:cs typeface="Tahoma"/>
              </a:rPr>
              <a:t>การสนับสนุนจากสำนักงาน ก</a:t>
            </a:r>
            <a:r>
              <a:rPr b="1" lang="th-TH" sz="3200" spc="-1" strike="noStrike">
                <a:solidFill>
                  <a:srgbClr val="ffff00"/>
                </a:solidFill>
                <a:latin typeface="Tahoma"/>
                <a:ea typeface="Tahoma"/>
              </a:rPr>
              <a:t>.</a:t>
            </a:r>
            <a:r>
              <a:rPr b="1" lang="th-TH" sz="3200" spc="-1" strike="noStrike">
                <a:solidFill>
                  <a:srgbClr val="ffff00"/>
                </a:solidFill>
                <a:latin typeface="Tahoma"/>
                <a:cs typeface="Tahoma"/>
              </a:rPr>
              <a:t>พ</a:t>
            </a:r>
            <a:r>
              <a:rPr b="1" lang="th-TH" sz="3200" spc="-1" strike="noStrike">
                <a:solidFill>
                  <a:srgbClr val="ffff00"/>
                </a:solidFill>
                <a:latin typeface="Tahoma"/>
                <a:ea typeface="Tahoma"/>
              </a:rPr>
              <a:t>.</a:t>
            </a:r>
            <a:r>
              <a:rPr b="1" lang="th-TH" sz="3200" spc="-1" strike="noStrike">
                <a:solidFill>
                  <a:srgbClr val="ffff00"/>
                </a:solidFill>
                <a:latin typeface="Tahoma"/>
                <a:cs typeface="Tahoma"/>
              </a:rPr>
              <a:t>ร</a:t>
            </a:r>
            <a:r>
              <a:rPr b="1" lang="th-TH" sz="3200" spc="-1" strike="noStrike">
                <a:solidFill>
                  <a:srgbClr val="ffff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solidFill>
            <a:srgbClr val="00330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ที่ปรึกษาในการพัฒนาองค์การให้คำปรึกษาเชิงลึก</a:t>
            </a:r>
            <a:br>
              <a:rPr sz="2400"/>
            </a:b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รายส่วนราชการ     จำนวน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3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ครั้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ครั้งที่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1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การจัดทำแผนพัฒนาองค์การปี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25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ประมาณเดือนธันวาคม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2551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ครั้งที่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2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เทคนิคการปรับปรุงองค์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ประมาณเดือนกุมภาพันธ์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- 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มีนาคม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2552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ครั้งที่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3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ติดตามผลการปรับปรุง และแนะนำการจัดท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แผนพัฒนาองค์การปี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25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ประมาณเดือนกรกฎาคม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– 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สิงหาคม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2552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51280" y="6453360"/>
            <a:ext cx="1008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01:31:05Z</dcterms:created>
  <dc:creator>toshiba</dc:creator>
  <dc:description/>
  <dc:language>en-US</dc:language>
  <cp:lastModifiedBy>MoZarD</cp:lastModifiedBy>
  <dcterms:modified xsi:type="dcterms:W3CDTF">2008-11-27T15:09:56Z</dcterms:modified>
  <cp:revision>41</cp:revision>
  <dc:subject/>
  <dc:title>ความเชื่อมโยงการดำเนินการพัฒนาคุณภาพการบริหารจัดการภาครัฐของจังหวัด</dc:title>
</cp:coreProperties>
</file>