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24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898560" y="740880"/>
            <a:ext cx="492912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7BA701-F047-484A-80B1-6A75F5F5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52275FE-4898-4942-B7E5-81F43CD7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896400" y="4686480"/>
            <a:ext cx="4930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0A28A9-6023-4992-A4FD-17232091A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4A6AF2-8310-496F-B8D6-9654726F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08440" y="9371160"/>
            <a:ext cx="2914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FB58B28-9088-42B1-9C16-19DCFFB1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1CC269E-1BA0-4F42-BE8C-08500754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4692FBB-FD53-41E9-9EBD-00C0185D4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DDE8FB1-F7D2-4EC6-A11E-0CFA7CD8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52DBD62-B5F0-454E-AE7B-7E62B822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3075D45-9CB1-4C38-978D-A914CC92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3160" y="6324480"/>
            <a:ext cx="817560" cy="297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0920" y="260280"/>
            <a:ext cx="640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71640" y="6580080"/>
            <a:ext cx="7777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1680" y="487440"/>
            <a:ext cx="0" cy="5761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8820000" y="764640"/>
            <a:ext cx="0" cy="5688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8893080" y="764640"/>
            <a:ext cx="0" cy="56883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73080" y="6497640"/>
            <a:ext cx="7775640" cy="15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333360"/>
            <a:ext cx="6337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3920" y="404640"/>
            <a:ext cx="0" cy="5904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730920" y="115920"/>
            <a:ext cx="2088720" cy="648720"/>
            <a:chOff x="6730920" y="115920"/>
            <a:chExt cx="2088720" cy="648720"/>
          </a:xfrm>
        </p:grpSpPr>
        <p:sp>
          <p:nvSpPr>
            <p:cNvPr id="11" name=""/>
            <p:cNvSpPr txBox="1"/>
            <p:nvPr/>
          </p:nvSpPr>
          <p:spPr>
            <a:xfrm>
              <a:off x="6730920" y="168120"/>
              <a:ext cx="368640" cy="52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cc"/>
                  </a:solidFill>
                  <a:latin typeface="Comic Sans MS"/>
                </a:rPr>
                <a:t>P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7221240" y="228600"/>
              <a:ext cx="430560" cy="52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Comic Sans MS"/>
                </a:rPr>
                <a:t>M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7775280" y="115920"/>
              <a:ext cx="491760" cy="59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ff"/>
                  </a:solidFill>
                  <a:latin typeface="Comic Sans MS"/>
                </a:rPr>
                <a:t>Q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8389080" y="228600"/>
              <a:ext cx="430560" cy="53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A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820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Tahoma"/>
              </a:rPr>
              <a:t>การใช้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Tahoma"/>
              </a:rPr>
              <a:t>เกณฑ์คุณภาพการบริหารจัดการภาครัฐ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362124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Tahoma"/>
                <a:cs typeface="Tahoma"/>
              </a:rPr>
              <a:t>เพื่อการพัฒนาระบบราชกา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65600" y="580536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Tahoma"/>
              </a:rPr>
              <a:t>27  </a:t>
            </a:r>
            <a:r>
              <a:rPr b="1" lang="th-TH" sz="1600" spc="-1" strike="noStrike">
                <a:solidFill>
                  <a:srgbClr val="3333cc"/>
                </a:solidFill>
                <a:latin typeface="Tahoma"/>
                <a:cs typeface="Tahoma"/>
              </a:rPr>
              <a:t>พฤศจิกายน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Tahoma"/>
              </a:rPr>
              <a:t>25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2205000" cy="403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549360"/>
            <a:ext cx="2252880" cy="276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1575000" cy="271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340000" y="3860640"/>
            <a:ext cx="3656160" cy="252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7451640" y="148428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24360" y="4581360"/>
            <a:ext cx="641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1413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333360"/>
            <a:ext cx="79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676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นวคิดในการพัฒนาเกณฑ์ฯ ขั้นพื้นฐาน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ุ่งเน้นให้ส่วนราชการนำไป</a:t>
            </a:r>
            <a:r>
              <a:rPr b="0" lang="th-TH" sz="3600" spc="-1" strike="noStrike" u="sng">
                <a:solidFill>
                  <a:srgbClr val="006600"/>
                </a:solidFill>
                <a:uFillTx/>
                <a:latin typeface="Times New Roman"/>
              </a:rPr>
              <a:t>ปฏิบัติ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ากกว่าการเขียนรายงา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เน้นการวิเคราะห์กระบวนการอย่างเป็นระบบและการสร้างความ</a:t>
            </a:r>
            <a:r>
              <a:rPr b="0" lang="th-TH" sz="3600" spc="-1" strike="noStrike" u="sng">
                <a:solidFill>
                  <a:srgbClr val="800000"/>
                </a:solidFill>
                <a:uFillTx/>
                <a:latin typeface="Times New Roman"/>
              </a:rPr>
              <a:t>เชื่อมโยงกับผลลัพธ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ใช้</a:t>
            </a:r>
            <a:r>
              <a:rPr b="0" lang="th-TH" sz="3600" spc="-1" strike="noStrike" u="sng">
                <a:solidFill>
                  <a:srgbClr val="000099"/>
                </a:solidFill>
                <a:uFillTx/>
                <a:latin typeface="Times New Roman"/>
              </a:rPr>
              <a:t>ประโยชน์จากข้อมูล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และตัวชี้วัดที่ส่วนราชการเก็บอยู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เน้นการ</a:t>
            </a:r>
            <a:r>
              <a:rPr b="0" lang="th-TH" sz="3600" spc="-1" strike="noStrike" u="sng">
                <a:solidFill>
                  <a:srgbClr val="cc0066"/>
                </a:solidFill>
                <a:uFillTx/>
                <a:latin typeface="Times New Roman"/>
              </a:rPr>
              <a:t>ปรับปรุง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อย่างต่อเนื่อง</a:t>
            </a:r>
            <a:r>
              <a:rPr b="0" lang="th-TH" sz="3600" spc="-1" strike="noStrike" u="sng">
                <a:solidFill>
                  <a:srgbClr val="cc0066"/>
                </a:solidFill>
                <a:uFillTx/>
                <a:latin typeface="Times New Roman"/>
              </a:rPr>
              <a:t>และบูรณาก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 u="sng">
                <a:solidFill>
                  <a:srgbClr val="cc3300"/>
                </a:solidFill>
                <a:uFillTx/>
                <a:latin typeface="Times New Roman"/>
              </a:rPr>
              <a:t>เน้นการพัฒนา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ากกว่าการได้รางวั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60000"/>
            <a:ext cx="5472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ป้าหมายของ</a:t>
            </a:r>
            <a:r>
              <a:rPr b="1" lang="en-US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ม่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เพื่อยกระดับ</a:t>
            </a:r>
            <a:r>
              <a:rPr b="0" lang="th-TH" sz="3600" spc="-1" strike="noStrike" u="sng">
                <a:solidFill>
                  <a:srgbClr val="3333cc"/>
                </a:solidFill>
                <a:uFillTx/>
                <a:latin typeface="Times New Roman"/>
              </a:rPr>
              <a:t>ขีดความสามารถ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ในการปฏิบัติงานและส่งมอบบริการสาธารณะ ซึ่งอาศัยวิธีการวิเคราะห์ข้อมูลอย่างเป็นระบบ กำหนดแนวทางและวิธีการ การนำไปปฏิบัติและติดตามประเมินผล การแลกเปลี่ยนเรียนรู้ สรุปบทเรียน บูรณาการ และการสร้างนวัตกรรม โดยเฉพาะ</a:t>
            </a:r>
            <a:r>
              <a:rPr b="0" lang="th-TH" sz="3600" spc="-1" strike="noStrike" u="sng">
                <a:solidFill>
                  <a:srgbClr val="ff3300"/>
                </a:solidFill>
                <a:uFillTx/>
                <a:latin typeface="Times New Roman"/>
              </a:rPr>
              <a:t>การเทียบเคียงขีดสมรรถนะ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(Benchmarking)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กับภาคเอกชน หรือหน่วยงานอื่น ๆ ที่มีประสิทธิภาพสูงกว่า หรือนำกรณี</a:t>
            </a:r>
            <a:r>
              <a:rPr b="0" lang="th-TH" sz="3600" spc="-1" strike="noStrike" u="sng">
                <a:solidFill>
                  <a:srgbClr val="990000"/>
                </a:solidFill>
                <a:uFillTx/>
                <a:latin typeface="Times New Roman"/>
              </a:rPr>
              <a:t>การปฏิบัติงานที่มีความเป็นเลิศ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(Best Practices)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าเป็นแบบอย่า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44440"/>
            <a:ext cx="606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1.   </a:t>
            </a:r>
            <a:r>
              <a:rPr b="1" lang="en-US" sz="3200" spc="-1" strike="noStrike">
                <a:solidFill>
                  <a:srgbClr val="3333cc"/>
                </a:solidFill>
                <a:latin typeface="DilleniaDSE"/>
                <a:ea typeface="DilleniaUPC"/>
              </a:rPr>
              <a:t>Continuous 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82560"/>
            <a:ext cx="384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2.   </a:t>
            </a:r>
            <a:r>
              <a:rPr b="1" lang="en-US" sz="3200" spc="-1" strike="noStrike">
                <a:solidFill>
                  <a:srgbClr val="3333cc"/>
                </a:solidFill>
                <a:latin typeface="DilleniaDSE"/>
                <a:ea typeface="DilleniaUPC"/>
              </a:rPr>
              <a:t>Breakthro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125360"/>
            <a:ext cx="36036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3.  </a:t>
            </a:r>
            <a:r>
              <a:rPr b="1" lang="en-US" sz="3200" spc="-1" strike="noStrike">
                <a:solidFill>
                  <a:srgbClr val="3333cc"/>
                </a:solidFill>
                <a:latin typeface="DilleniaDSE"/>
                <a:ea typeface="DilleniaUPC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819440"/>
            <a:ext cx="30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357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Breakthrou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4581360"/>
            <a:ext cx="278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6400" y="2440080"/>
            <a:ext cx="12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351320" y="1917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5480" y="19368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24400" y="1576080"/>
            <a:ext cx="0" cy="37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5960" y="158112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13320" y="1217520"/>
            <a:ext cx="0" cy="40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0200" y="1217520"/>
            <a:ext cx="1739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17960" y="598320"/>
            <a:ext cx="806400" cy="1317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635280" y="1878120"/>
            <a:ext cx="4537080" cy="2148120"/>
            <a:chOff x="3635280" y="1878120"/>
            <a:chExt cx="4537080" cy="2148120"/>
          </a:xfrm>
        </p:grpSpPr>
        <p:sp>
          <p:nvSpPr>
            <p:cNvPr id="113" name=""/>
            <p:cNvSpPr/>
            <p:nvPr/>
          </p:nvSpPr>
          <p:spPr>
            <a:xfrm>
              <a:off x="3635280" y="402264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620960" y="3220560"/>
              <a:ext cx="725760" cy="80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19360" y="3230640"/>
              <a:ext cx="285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5364000" y="1878120"/>
              <a:ext cx="2374920" cy="17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564000" y="5257800"/>
            <a:ext cx="482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35640" y="4164120"/>
            <a:ext cx="2521080" cy="213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329520"/>
            <a:ext cx="9144000" cy="79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ขั้นพื้นฐาน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ประกอบด้ว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ว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4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ต่ละประเด็นเป็นการมุ่งเน้นกระบวนการและระบบงานพื้นฐานที่จำเป็นเพื่อตอบสนองประเด็นต่าง ๆ ของ พรฎ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ต่าง 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ต้องดำเนินการในแต่ละประเด็นให้ครบในทุกข้อและทุกหมว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1527120"/>
            <a:ext cx="7488000" cy="48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3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ั้นพื้นฐาน” หมายถึง</a:t>
            </a:r>
            <a:r>
              <a:rPr b="1" lang="en-US" sz="3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  </a:t>
            </a:r>
            <a:r>
              <a:rPr b="1" lang="th-TH" sz="3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ระบวนการเริ่มได้ผล</a:t>
            </a:r>
            <a:r>
              <a:rPr b="1" lang="en-US" sz="3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2225160"/>
            <a:ext cx="763128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มีกระบวนการ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ระบบที่มีประสิทธิภาพและทำอย่างเป็นระบบเพื่อรองรั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กิจกรรมในหัวข้อที่ประเมิน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Tahoma"/>
              </a:rPr>
              <a:t>Appr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ระบวนการ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ระบบ  เป็นที่เข้าใจยอมรับ และเริ่มมีบทบาทสนับสนุ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ระบวนการ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ิจกรรมในกิจกรรมด้านนี้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Deploy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องค์กรเริ่มมีการประเมินประสิทธิผลของกระบวนการ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ระบบของกิจกรรมด้านนี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อาจมีการปรับปรุงให้กระบวนการ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ระบบให้ดีขึ้นบ้าง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Tahoma"/>
              </a:rPr>
              <a:t>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ระบวนการ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ระบบเกี่ยวกับกิจกรรมด้านนี้สอดรับ สนับสนุนกิจกรรมระดั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สำคัญขององค์กรที่ระบุไว้ในภารกิจ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ยุทธศาสตร์และแผนปฏิบัติการ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(Integ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8528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ขั้นพื้นฐาน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ขั้นพื้นฐาน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                                              </a:t>
            </a:r>
            <a:r>
              <a:rPr b="1" lang="hi-IN" sz="3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โดยสรุ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มีแนวทาง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มีระบบ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มีการนำไปใช้จริ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เริ่มเกิดผ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มีการปรับปรุง เปลี่ยนแปล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มีการพัฒน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มีความก้าวหน้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เริ่มบูรณาการกับระบบงานอื่น 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480" y="3876840"/>
            <a:ext cx="14047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15920"/>
            <a:ext cx="7391160" cy="396720"/>
          </a:xfrm>
          <a:prstGeom prst="rect">
            <a:avLst/>
          </a:prstGeom>
          <a:solidFill>
            <a:srgbClr val="ffcc65"/>
          </a:soli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นำ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052640"/>
            <a:ext cx="1447920" cy="5292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     ทิศทาง              ของส่วนราช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4800"/>
            <a:ext cx="2971800" cy="33516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ำองค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604800"/>
            <a:ext cx="2971800" cy="335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.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ับผิดชอบต่อสังค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1052640"/>
            <a:ext cx="1371600" cy="5292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บทวน  ผลการดำเนินการของส่วนราช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1960" y="1052640"/>
            <a:ext cx="1316160" cy="52956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กับ        ดูแลตนเองที่ด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052640"/>
            <a:ext cx="131292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ควา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รับผิดช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อ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02440" y="1052640"/>
            <a:ext cx="141768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ดำเนินการอย่างม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จริ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1052640"/>
            <a:ext cx="129564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การสนับสนุนต่อ        ชุมชนที่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280" y="1755720"/>
            <a:ext cx="1548000" cy="479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)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ิศทา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วิสัยทัศน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ป้าประสงค์ระยะสั้น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ยาว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่านิย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ลดำเนินงานที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าดหวั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1) 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ื่อสารทิศทาง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นโยบ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จายอำนา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คล่องตั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รียนรู้ของ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รียนรู้ของบุค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ำถูกกฏหม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7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ำตามหลักจริ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1755720"/>
            <a:ext cx="1365480" cy="214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)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กับดูแลตนเองที่ด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านการปฏิบัติ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านการเงินป้องกันทุจริ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.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านปกป้องประโยชน์ประเทศและ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1684440"/>
            <a:ext cx="1368720" cy="490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)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ผลดำเนิ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ผลดำเนิ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ผลประเมินไปเพื่อดูการบรรลุเป้าหมาย และ เพื่อประเมินการตอบสนองการเปลี่ยนแปล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5)5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ลการทบทวนที่ผ่านม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)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ใช้ผลการทบทวนเพื่อจัดลำดับความสำคัญและเพื่อการปรับปรุงทั่วทั้ง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)7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ผลงานผู้บริหาร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มินผู้บริหาร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ดับชั้นบังคับบัญช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ผลประเมินไปปรับระบบการนำ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1754280"/>
            <a:ext cx="1441440" cy="420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8)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ดำเนินการต่องานที่มีผลกระทบทางล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ต่อสังคม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กิดเหตุการณ์แล้ว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ผลกระท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ประสงค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3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4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่า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ในการจัดการผลกระท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0)10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ผลกระทบทางล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0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คาดการณ์ผลกระทบทางลบ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มิน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0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การเชิงรุกต่อผลกระท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้องกัน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1754280"/>
            <a:ext cx="1368720" cy="100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1)1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วิธีปฏิบัติให้ทำอย่างมีจริ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ฏิบัติต่อคนภายนอก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1754280"/>
            <a:ext cx="1224000" cy="191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2)12 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นับสนุนชุมชน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ลือก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ลือกกิจกรรมสนับสนุน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มีส่วนร่วม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80" y="1773360"/>
            <a:ext cx="1505160" cy="172872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00" y="3646440"/>
            <a:ext cx="1548000" cy="5032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00080" y="1846440"/>
            <a:ext cx="50472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4720" y="3876840"/>
            <a:ext cx="50472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680" y="4438800"/>
            <a:ext cx="1548000" cy="50292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65444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1773360"/>
            <a:ext cx="1366920" cy="216036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55920" y="2147760"/>
            <a:ext cx="504720" cy="273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5375160"/>
            <a:ext cx="1548000" cy="5032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28880" y="559116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46400" y="4581360"/>
            <a:ext cx="1368360" cy="9352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5229360"/>
            <a:ext cx="50508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1657440"/>
            <a:ext cx="1368720" cy="28810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429000"/>
            <a:ext cx="504720" cy="217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4292640"/>
            <a:ext cx="1441440" cy="18730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0720" y="1773360"/>
            <a:ext cx="1224000" cy="187164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1773360"/>
            <a:ext cx="1368720" cy="100800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5027760"/>
            <a:ext cx="504720" cy="272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260280"/>
            <a:ext cx="7391520" cy="3355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างแผนเชิงยุทธศาสตร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293840"/>
            <a:ext cx="1625400" cy="3834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765000"/>
            <a:ext cx="3657600" cy="33516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.1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ยุทธศาสตร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65760" y="812880"/>
            <a:ext cx="3954240" cy="335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.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รถ่ายทอด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ลยุทธ์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หลักเพื่อน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ไปปฏิบ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1332000"/>
            <a:ext cx="1644840" cy="3834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ประสงค์        เชิงยุทธศาสต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1338120"/>
            <a:ext cx="193680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ถ่ายทอด               แผนปฏิบัติการ       ไปสู่การปฏิบั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5440" y="1338120"/>
            <a:ext cx="2089440" cy="566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าดการณ์             ผลการดำเนิน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930320"/>
            <a:ext cx="1801800" cy="285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3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างแผนยุทธศาสตร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ั้นตอนและผู้เกี่ยวข้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อบเวลาและเหตุ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ิจกรรมที่สอดคล้องกับกรอบเวล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4)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ปัจจัยมาประกอบการวางแผน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ัจจัยภายใ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ัจจัยภายนอ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ัจจัยต่าง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วบรว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ิเคราะห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1943280"/>
            <a:ext cx="2016360" cy="268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15)3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เป้าประสงค์กลยุท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และระยะเวล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3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สำคัญของเป้าประสงค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6)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ประเด็นยุทธศาสตร์เป้าประสงค์กลยุท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ูความท้าท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ูความต้องการของผู้มีส่วนได้</a:t>
            </a:r>
            <a:br>
              <a:rPr sz="1000"/>
            </a:b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 ส่วนเสีย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ูความสมดุลของโอกาสระยะสั้นระยะยา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979640"/>
            <a:ext cx="1946520" cy="451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7)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แผนสู่การ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วิธีการถ่ายทอ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สรรทรัพย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ำให้ผลมีความยั่งยื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8)6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ปฏิบัต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ผนปฏิบัติการ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6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แผนการตอบสนองต่อการเปลี่ยนแปลง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บริหารความเสี่ยง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: RM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การเปลี่ยนแปลง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ผู้รับบริการและ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19)7</a:t>
            </a:r>
            <a:r>
              <a:rPr b="0" lang="en-US" sz="1000" spc="-1" strike="noStrike">
                <a:solidFill>
                  <a:srgbClr val="3333cc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ผนหลักด้านทรัพยากรบุค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7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7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0)8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การวัดผลสำเร็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8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ติดตามแผนปฏิบัต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8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ทำระบบการวัดผลสำเร็จของแผนปฏิบัต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เพื่อมุ่งไปในทิศทางเดียวกั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5440" y="1979640"/>
            <a:ext cx="2089440" cy="70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21)9 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ของ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เปรียบเทีย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916280"/>
            <a:ext cx="1800000" cy="13683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07332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355920"/>
            <a:ext cx="1800000" cy="15130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452268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3141720"/>
            <a:ext cx="2016360" cy="18000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466740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1916280"/>
            <a:ext cx="2016360" cy="10810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278136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1987560"/>
            <a:ext cx="1944720" cy="5047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27664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3500280"/>
            <a:ext cx="2089440" cy="7207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386064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4722840"/>
            <a:ext cx="1944720" cy="7221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4720" y="517032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5516640"/>
            <a:ext cx="1944720" cy="9381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617868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2016000" cy="86148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ับปรุงกระบวนการวางแผน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i-IN" sz="1000" spc="-1" strike="noStrike">
                <a:solidFill>
                  <a:srgbClr val="000000"/>
                </a:solidFill>
                <a:latin typeface="Tahoma"/>
                <a:cs typeface="Tahoma"/>
              </a:rPr>
              <a:t>นำผลการทบทวนการดำเนิ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i-IN" sz="1000" spc="-1" strike="noStrike">
                <a:solidFill>
                  <a:srgbClr val="000000"/>
                </a:solidFill>
                <a:latin typeface="Tahoma"/>
                <a:cs typeface="Tahoma"/>
              </a:rPr>
              <a:t>ผลจากการประเมิ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5734080"/>
            <a:ext cx="5050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9640" y="115920"/>
            <a:ext cx="800100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86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ความสำคัญกับผู้รับบริการและผู้มีส่วนได้ส่วนเสี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2120" y="1546200"/>
            <a:ext cx="2286000" cy="3834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986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ู้เกี่ยวกับ               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 และผู้มีส่วนได้ส่วนเสี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620640"/>
            <a:ext cx="2971800" cy="57852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986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.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ู้เกี่ยวกับ         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 และผู้มีส่วนได้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111640" y="620640"/>
            <a:ext cx="2971800" cy="821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ัมพันธ์และความ              พึงพอใจของผู้รับบริการ            และผู้มีส่วนได้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09880" y="1565280"/>
            <a:ext cx="228600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ร้างความสัมพันธ์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ับผู้รับบร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ผู้มีส่วนได้ส่วนเสี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400800" y="1546200"/>
            <a:ext cx="228600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ความพึงพอใจ         ของผู้รับบริการ                             และผู้มีส่วนได้ส่วนเสี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714240" y="2357280"/>
            <a:ext cx="2244960" cy="313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2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ำแนกกลุ่มผู้รับบริการและ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ภท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ลุ่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คำนึงถึงผู้รับบริการที่พึงมีในอนาค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3)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ับฟังและเรียน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ับฟังและเรียนรู้ความต้องการความคาดหวั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ข้อมูลไปใช้ในการวางแผนปฏิบัติ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4)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ปรับปรุงการรับฟังและเรียน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852720" y="2205000"/>
            <a:ext cx="2230560" cy="42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5)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ความสัมพันธ์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นองความคาดหวั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ร้างความประทับ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มีภาพลักษณ์ที่ด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มีผู้ใช้บริการเพิ่มขึ้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6)5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ระบบที่ให้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ระบบที่ให้ผู้รับบริการ และผู้มีส่วนได้เสีย สามารถติดต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ข้อมู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ร้อง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วิธีปฏิบัติ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ติดตามการ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7)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ข้อร้อง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บวนการจัด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วิธีการแก้ไขที่ทันท่วงท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บรวมและวิเคราะห์นำไปเพื่อการ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8)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ปรับปรุงการสร้างความสัมพัน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373800" y="2205000"/>
            <a:ext cx="2374920" cy="392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9)8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ัดความพึงพอใจและไม่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8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ัดความพึงพอใจและไม่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มีส่วนได้ส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8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ข้อมูลไปใช้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ร้างความประทับ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ำให้เกิดภาพลักษณ์ที่ด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ับปรุงการทำ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0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ติดตามเรื่องคุณภาพ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ได้ข้อมูลป้อนกลับทันท่วงท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นำไปใช้ต่อได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1)10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ปรียบเทียบข้อมูลความ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มีส่วนได้ส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2)1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ปรับปรุงการวัดความ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714240" y="2357280"/>
            <a:ext cx="2243160" cy="11430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428920" y="235728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714240" y="3643200"/>
            <a:ext cx="2243160" cy="11430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2428920" y="364320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3857760" y="4573440"/>
            <a:ext cx="2214360" cy="58428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572080" y="483084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6357960" y="2214720"/>
            <a:ext cx="2357280" cy="171432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643880" y="364320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8215200" y="3643200"/>
            <a:ext cx="5050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357960" y="4000680"/>
            <a:ext cx="2357280" cy="92844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5508720" y="429264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465880" y="35733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508720" y="25653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851280" y="5229360"/>
            <a:ext cx="2214720" cy="43164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580000" y="547200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3851280" y="3141720"/>
            <a:ext cx="2214720" cy="136692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8101080" y="461484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ความเป็นมา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พรฎ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หลักเกณฑ์และวิธีการบริหารกิจการบ้านเมือ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ที่ดีพ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ศ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 25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แผนยุทธศาสตร์การพัฒนาระบบราชการไทย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พ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ศ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 2546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 255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กรอบการประเมินผลการปฏิบัติราชกา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เกณฑ์รางวัลคุณภาพแห่งชาติของประเทศไท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152280"/>
            <a:ext cx="739116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 การวิเคราะห์ และการจัดการความรู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620640"/>
            <a:ext cx="2971800" cy="578520"/>
          </a:xfrm>
          <a:prstGeom prst="rect">
            <a:avLst/>
          </a:prstGeom>
          <a:solidFill>
            <a:srgbClr val="ffffb3"/>
          </a:solidFill>
          <a:ln w="0">
            <a:noFill/>
          </a:ln>
          <a:effectLst>
            <a:outerShdw dist="17819" dir="2700000" blurRad="0" rotWithShape="0">
              <a:srgbClr val="9898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และวิเคราะห์ผลการดำเนินการของส่วนราช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620640"/>
            <a:ext cx="2971800" cy="5785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.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สาร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นเทศและ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1314360"/>
            <a:ext cx="2232000" cy="820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พร้อมใช้งานของข้อมู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สารสนเท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1325520"/>
            <a:ext cx="2082960" cy="624960"/>
          </a:xfrm>
          <a:prstGeom prst="rect">
            <a:avLst/>
          </a:prstGeom>
          <a:solidFill>
            <a:srgbClr val="ffffb3"/>
          </a:solidFill>
          <a:ln w="0">
            <a:noFill/>
          </a:ln>
          <a:effectLst>
            <a:outerShdw dist="17819" dir="2700000" blurRad="0" rotWithShape="0">
              <a:srgbClr val="9898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ผลการดำเนิน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7440" y="1325520"/>
            <a:ext cx="2016000" cy="529560"/>
          </a:xfrm>
          <a:prstGeom prst="rect">
            <a:avLst/>
          </a:prstGeom>
          <a:solidFill>
            <a:srgbClr val="ffffb3"/>
          </a:solidFill>
          <a:ln w="0">
            <a:noFill/>
          </a:ln>
          <a:effectLst>
            <a:outerShdw dist="17819" dir="2700000" blurRad="0" rotWithShape="0">
              <a:srgbClr val="9898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ผลการดำเนิน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93080" y="1314360"/>
            <a:ext cx="1815840" cy="52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ความ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075040"/>
            <a:ext cx="2305080" cy="392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3)1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เลือกและใช้ข้อมู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1.1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เลือกรวบรวมข้อมูลสารสนเท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ที่สอดคล้องเชื่อมโย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เพื่อติดตามผลดำเนินงาน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1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ใช้ข้อมูลและสารสนเทศ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การตัดสิ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ให้เกิด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4)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ใช้ข้อมูลและสารสนเทศเชิงเปรียบเทียบ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การตัดสิ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ให้เกิด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5)3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ปรับปรุงระบบการวัด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3.1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ทบทวนปรับปรุงระบบการวัด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3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ระบบการวัดผลให้ไวต่อการบ่งชี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การเปลี่ยนแปลงภายใ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การเปลี่ยนแปลงภายนอ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1440" y="1963800"/>
            <a:ext cx="2051280" cy="3444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1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ความ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บรวมถ่ายทอดจากบุคลากรใน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บรวมถ่ายทอดจากคนอื่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ลกเปลี่ยนวิธีปฏิบัติที่เป็นเลิ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42)10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การให้ข้อมูลสารสนเทศ ความรู้ ให้มีคุณสมบัติที่ดี รวมทั้งสิ้น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11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ประ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ครอบคลุ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ถูกต้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รวดเร็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เชื่อมโย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น่าเชื่อถื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สามารถในการเข้าถึ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สามารถในการตรวจสอ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มีส่วนร่วมในกระบวนการข้อมู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ปลอดภ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รักษาความลั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2249640"/>
            <a:ext cx="2160720" cy="25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8)6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การข้อมูลและสารสนเท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พร้อมใช้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ผู้เกี่ยวข้องเข้าถึงได้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9)7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การระบบอุปกรณ์ที่เกี่ยวกับสารสนเท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ปลอดภัย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เชื่อถือได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ช้งานง่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40)8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ทบทวนปรับปรุงระบบสารสนเทศและอุปกรณ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7440" y="2035080"/>
            <a:ext cx="2014560" cy="161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36)4 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ที่มีการวิเคราะห์ข้อมูลเพื่อให้ผู้บริห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บทวนผลดำเนิ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างแผนเชิง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7)5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สื่อสารผลวิเคราะห์ให้ผู้ปฏิบัติงานทุกระดั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เพื่อสนับสนุนการตัดสิ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39080" y="3218040"/>
            <a:ext cx="2016000" cy="9316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34360" y="3719520"/>
            <a:ext cx="649440" cy="285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3280" y="2397240"/>
            <a:ext cx="2251080" cy="1176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7120" y="2924280"/>
            <a:ext cx="649080" cy="1998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1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40120" y="2276640"/>
            <a:ext cx="2108520" cy="64764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43560" y="2637000"/>
            <a:ext cx="4320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49840" y="3046320"/>
            <a:ext cx="2127240" cy="887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1200" y="3271680"/>
            <a:ext cx="433440" cy="214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39080" y="1992240"/>
            <a:ext cx="2016000" cy="1076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34360" y="2205000"/>
            <a:ext cx="64944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15920"/>
            <a:ext cx="739116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5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268280"/>
            <a:ext cx="1484280" cy="38340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และบริหาร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620640"/>
            <a:ext cx="2514600" cy="5785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งา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21080" y="1270080"/>
            <a:ext cx="1658880" cy="38340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้างงาน       และความก้าวหน้าในการ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5440" y="1268280"/>
            <a:ext cx="1484280" cy="67500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การ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ผลการปฏิบัติงานของ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9640" y="1270080"/>
            <a:ext cx="1820880" cy="383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 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620640"/>
            <a:ext cx="2514600" cy="5785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.2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รียนรู้ของบุคลากร  และการสร้างแรงจูงใ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92800" y="1271520"/>
            <a:ext cx="1771920" cy="7484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ร้างแรงจูงใจ         และการพัฒนาควา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้าวหน้าในหน้าที่การงาน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776240"/>
            <a:ext cx="1514520" cy="335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3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ระบบ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ที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ไม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เกิดความร่วมมือ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ความคล่องตัว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การกระจายอำนา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สร้างความคิดริเริ่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กระตุ้น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ทันความต้องการอยู่เสม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4)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วัฒนธรรมและความคิด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ละชุมชนมาใช้จัดระบบ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5)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สื่อสารภายใน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มีประสิทธิ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2060640"/>
            <a:ext cx="1584360" cy="268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6)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ประเมินผลและการยกย่องชมเช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Individual Scorec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ประเมินผลการปฏิบัติงานรวมถึงการแจ้งผลเพื่อให้พัฒนาและปรับปรุง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การยกย่องชมเชยจูง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มีขวัญกำลัง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ทำงานมีประสิทธิ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มีจิตสำนึกที่เน้นประโยชน์ของ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1080" y="1846440"/>
            <a:ext cx="1657440" cy="382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7)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คุณลักษณะและทักษะ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มรรถนะหลั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มรรถนะประจำสา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มรรถนะแต่ละกลุ่มตำแหน่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8)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รหาว่าจ้าง  รักษ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รหาว่าจ้าง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ักษ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วยการคำนึงถึงวัฒนธรรมความคิดของบุคลากรและ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9)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บุคลากรและความก้าวหน้าใ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บุคลากรในตำแหน่ง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ความก้าวหน้าในหน้าที่การ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0)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บุคลากรท้องถิ่นให้มีโอกาสก้าวหน้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9640" y="1774800"/>
            <a:ext cx="1873440" cy="451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1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ทำงานได้ตามแผนปฏิบัติการและบรรลุ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เกิดความสมดุลระหว่างเป้าประสงค์กับความต้องการข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2)10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ให้การศึกษาและฝึก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ครอบคลุมประเด็นสำคัญ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อบรมบุคลากรใหม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ริ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บริหารจัด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ภาวะผู้น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ปลอดภัยอาชีวอนามัยสิ่งแวดล้อมในการทำ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ต้องการอื่นๆ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3)1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บริหารการฝึก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หาความต้องการการฝึก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ความต้องการการอบรมมา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ความรู้ในองค์กรมา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4)1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บบ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บบไม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37440" y="1962000"/>
            <a:ext cx="1727280" cy="259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5)1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่งเสริมให้นำความรู้และทักษะจากการ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มาใช้ในการปฏิบัติ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6)1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ประสิทธิผลของการศึกษา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4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ลระดับบุค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4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ลระดับ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7)1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ำให้บุคลากรพัฒนาตนเ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ความก้าวหน้าใ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5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ช่วยเหลือ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5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ช่วยเหลือของหัวหน้า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1773360"/>
            <a:ext cx="1513080" cy="143964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202248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2637000"/>
            <a:ext cx="1584360" cy="86328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326556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21000"/>
            <a:ext cx="1584000" cy="129564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52419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9240" y="1773360"/>
            <a:ext cx="1833840" cy="1008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6720" y="256536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4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4508640"/>
            <a:ext cx="1873440" cy="1800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5400" y="6021360"/>
            <a:ext cx="5889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6000" y="2708280"/>
            <a:ext cx="172872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459640" y="321300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19640" y="1844640"/>
            <a:ext cx="1657080" cy="1224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2887560"/>
            <a:ext cx="7189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4149720"/>
            <a:ext cx="5032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33360"/>
            <a:ext cx="739116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1120" y="1562040"/>
            <a:ext cx="2154240" cy="52956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สภาพแวดล้อม ในการทำ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1562040"/>
            <a:ext cx="2165400" cy="6937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การสนับสนุนและ         สร้างความพึงพอใจ           แก่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836640"/>
            <a:ext cx="2514600" cy="5785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.3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ผาสุกและความ    พึงพอใจของบุคลา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7440" y="2189160"/>
            <a:ext cx="2085840" cy="184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8)1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สภาพแวดล้อมการทำ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ถูกสุขอนา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ปลอดภ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้องกันภ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อุปกรณ์ให้มีความเหมาะสมใ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มีส่วนร่วม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9)1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พร้อมต่อสภาวะฉุกเฉินและภัยพ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88000" y="2360520"/>
            <a:ext cx="2160360" cy="393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0)1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ปัจจัยที่มีผลต่อความผาสุกพอใจจูง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งบุคลากรทุกระดับทุกประเภ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1)1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นับสนุนด้านนโยบายสวัสดิการการ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ตรงความต้องการบุคลากรทุกระดับทุกประเภ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2)20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ความผาสุก ความพึงพอใจ แรงจูงใจ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0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ความผาสุก ความพึงพอใจ แรงจูงใจ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ุกระดับทุกประเภท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ไม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0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และใช้ตัวชี้วัดประเมินความ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3)2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ชื่อมโยงผลประเมินความพอใจกับผลลัพธ์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จัดลำดับการปรับปรุงความพอใจบรรยากาศและสภาพแวดล้อ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997360"/>
            <a:ext cx="2160360" cy="7189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81720" y="347652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3800" y="2205000"/>
            <a:ext cx="2049480" cy="1008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7280" y="249228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3789360"/>
            <a:ext cx="2160360" cy="115236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4687920"/>
            <a:ext cx="720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88000" y="2363760"/>
            <a:ext cx="2160360" cy="5605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263700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44280"/>
            <a:ext cx="7391160" cy="396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กระบวน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1197000"/>
            <a:ext cx="3529080" cy="43848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ที่สร้างคุณค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9360"/>
            <a:ext cx="4114800" cy="5785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6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ที่สร้างคุณค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549360"/>
            <a:ext cx="3886200" cy="55404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6.2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นับสนุ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19640" y="1197000"/>
            <a:ext cx="3529080" cy="4201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นับสนุ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701720"/>
            <a:ext cx="3529080" cy="496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4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ร้างคุณค่า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5)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ที่สำคัญของ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2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ข้อกำหน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6)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ออกแบบ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ทั้ง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ด็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มถึงกระบวนการที่เกี่ยวข้องบูรณาการกับหน่วยงานอื่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7)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บรรลุผลตาม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8)5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และป้องกันข้อผิดพลา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ในการตรวจสอบทดสอบประเมิน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้องกันข้อผิดพลาดการทำงานซ้ำความสูญ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9)6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ให้ได้ผลดีขึ้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ผยแพร่แลกเปลี่ยนประสบการณ์การ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ภายใน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หว่าง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1663560"/>
            <a:ext cx="3529080" cy="481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0)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7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นับสนุน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1)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8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ที่สำคัญของ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8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ข้อกำหน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2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ออกแบบ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ทั้ง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ด็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มถึงกระบวนการที่เกี่ยวข้องบูรณาการกับหน่วยงานอื่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3)10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0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0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บรรลุผลตาม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4)1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และป้องกันข้อผิดพลา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ในการตรวจสอบทดสอบประเมิน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้องกันข้อผิดพลาดการทำงานซ้ำความสูญ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5)1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ให้ได้ผลดีขึ้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ผยแพร่แลกเปลี่ยนประสบการณ์การ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ภายใน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หว่าง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7080" y="1700280"/>
            <a:ext cx="3527640" cy="720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35280" y="170028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2637000"/>
            <a:ext cx="3529080" cy="64764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5280" y="249228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3645000"/>
            <a:ext cx="3529080" cy="64764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64500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4619520"/>
            <a:ext cx="3529080" cy="28908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4797360"/>
            <a:ext cx="3529080" cy="28908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229360"/>
            <a:ext cx="3529080" cy="93636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19640" y="5013360"/>
            <a:ext cx="3529080" cy="100800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26560" y="5708520"/>
            <a:ext cx="6490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2200" y="583884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01080" y="490392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515772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99280" y="234936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19640" y="2421000"/>
            <a:ext cx="3529080" cy="64764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504360"/>
            <a:ext cx="37432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การนำไปใช้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สถาบันอุดมศึกษาประเมินตนเองภายใต้กรอบ เกณฑ์ฯขั้นพื้นฐาน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ะบุจุดที่ยังต้องพัฒนา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OF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จัดทำแผนพัฒนาและปรับปรุงประจำปีให้สอดคล้อง โดยระบุตัวชี้วัดที่เป็นผลลัพธ์ให้ชัดเจ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ำเนินการปรับปรุงตามแผ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ัดผลการปรับปรุ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62120" y="2905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692280"/>
            <a:ext cx="8636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แผนการดำเนินงาน</a:t>
            </a:r>
            <a:br>
              <a:rPr sz="2900"/>
            </a:b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ระบบคุณภาพการบริหารจัดการภาครัฐ 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2551 – 255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8920" y="0"/>
            <a:ext cx="8785080" cy="6465960"/>
          </a:xfrm>
          <a:prstGeom prst="rect">
            <a:avLst/>
          </a:prstGeom>
          <a:noFill/>
          <a:ln w="936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32000" y="1773360"/>
            <a:ext cx="3095640" cy="11430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1840" y="3070080"/>
            <a:ext cx="22352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และผลักดันให้ส่วนราชการนำไปปฏิบัติ โดยกำหนดเป็นตัวชี้วัด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อบรมการเขียนรายงานและ เครื่องมือต่าง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กลไกการบริหารเครือข่ายวิทยากรที่ปร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ขยายการสร้างวิทยากรตัวคูณและหมอ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08360" y="1774800"/>
            <a:ext cx="3095640" cy="11430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4200" y="3179880"/>
            <a:ext cx="2160360" cy="31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มาตรฐานการบริหารตามแนวทาง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กลไกการส่งเสริมให้ส่วนราชการนำไปปฏิบัต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PMQA Promotion Pr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สามารถดำเนินงานตาม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mprovement Plan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ที่จัดทำไว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enchmark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64990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724360" y="4437000"/>
            <a:ext cx="2735280" cy="201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162920" y="3213000"/>
            <a:ext cx="1981080" cy="12240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ผลลัพธ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9,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6,18,45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4005360"/>
            <a:ext cx="2192400" cy="1160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การกระบว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0,20,2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28,29,31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46600" y="2276640"/>
            <a:ext cx="2187720" cy="1241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มุ่งเน้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ทรัพยากรบุคค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0,11,27,47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18320" y="35164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3683160"/>
            <a:ext cx="533520" cy="271440"/>
          </a:xfrm>
          <a:prstGeom prst="leftRightArrow">
            <a:avLst>
              <a:gd name="adj1" fmla="val 50000"/>
              <a:gd name="adj2" fmla="val 3912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00720" y="5013360"/>
            <a:ext cx="228600" cy="338040"/>
          </a:xfrm>
          <a:prstGeom prst="upDownArrow">
            <a:avLst>
              <a:gd name="adj1" fmla="val 50000"/>
              <a:gd name="adj2" fmla="val 294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5445000"/>
            <a:ext cx="6781680" cy="1032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ัด การวิเ</a:t>
            </a: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ค</a:t>
            </a: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ราะห์ และการจัดการความรู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1,39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4005360"/>
            <a:ext cx="2209680" cy="1160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ให้ความสำคัญกับผู้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บริการและผู้มีส่วนได้ส่วนเสี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8,30,3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38-42,45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760" y="3141720"/>
            <a:ext cx="2171880" cy="11016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นำองค์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0" lang="th-TH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8,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2,16,18,20,2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27,28,43,44,4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349360"/>
            <a:ext cx="2209680" cy="115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างแผนเชิงยุทธศาสตร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6,8,9,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3,16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350028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71600" y="1262160"/>
            <a:ext cx="7086240" cy="900000"/>
            <a:chOff x="1371600" y="1262160"/>
            <a:chExt cx="7086240" cy="900000"/>
          </a:xfrm>
        </p:grpSpPr>
        <p:sp>
          <p:nvSpPr>
            <p:cNvPr id="331" name=""/>
            <p:cNvSpPr/>
            <p:nvPr/>
          </p:nvSpPr>
          <p:spPr>
            <a:xfrm>
              <a:off x="1371600" y="2162160"/>
              <a:ext cx="7086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1600" y="1262160"/>
              <a:ext cx="7086240" cy="900000"/>
            </a:xfrm>
            <a:custGeom>
              <a:avLst/>
              <a:gdLst/>
              <a:ahLst/>
              <a:rect l="l" t="t" r="r" b="b"/>
              <a:pathLst>
                <a:path w="4320" h="576">
                  <a:moveTo>
                    <a:pt x="0" y="576"/>
                  </a:moveTo>
                  <a:cubicBezTo>
                    <a:pt x="672" y="288"/>
                    <a:pt x="1344" y="0"/>
                    <a:pt x="2064" y="0"/>
                  </a:cubicBezTo>
                  <a:cubicBezTo>
                    <a:pt x="2784" y="0"/>
                    <a:pt x="3944" y="480"/>
                    <a:pt x="4320" y="576"/>
                  </a:cubicBezTo>
                </a:path>
              </a:pathLst>
            </a:custGeom>
            <a:solidFill>
              <a:srgbClr val="ffcccc"/>
            </a:solidFill>
            <a:ln w="0">
              <a:noFill/>
            </a:ln>
            <a:effectLst>
              <a:outerShdw dist="17819" dir="2700000" blurRad="0" rotWithShape="0">
                <a:srgbClr val="98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981080" y="1474920"/>
            <a:ext cx="56390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FreesiaUPC"/>
              </a:rPr>
              <a:t>ลักษณะสำคัญของ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ภาพแวดล้อม ความสัมพันธ์ และความ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2205000"/>
            <a:ext cx="863640" cy="93492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0" y="720"/>
                </a:moveTo>
                <a:cubicBezTo>
                  <a:pt x="240" y="420"/>
                  <a:pt x="480" y="120"/>
                  <a:pt x="576" y="0"/>
                </a:cubicBezTo>
              </a:path>
            </a:pathLst>
          </a:custGeom>
          <a:solidFill>
            <a:srgbClr val="cc9900"/>
          </a:solidFill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4233960"/>
            <a:ext cx="838440" cy="1328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848360" y="4508640"/>
            <a:ext cx="826920" cy="1054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474040" y="2176560"/>
            <a:ext cx="4413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20000" y="4508640"/>
            <a:ext cx="380880" cy="35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281952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4267080"/>
            <a:ext cx="374400" cy="34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905120" y="2811600"/>
            <a:ext cx="379440" cy="312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480" y="533520"/>
            <a:ext cx="57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cc"/>
                </a:solidFill>
                <a:latin typeface="Tahoma"/>
                <a:cs typeface="Tahoma"/>
              </a:rPr>
              <a:t>เกณฑ์คุณภาพการบริหารจัดการภาครั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rcRect l="27749" t="11333" r="36223" b="26293"/>
          <a:stretch/>
        </p:blipFill>
        <p:spPr>
          <a:xfrm>
            <a:off x="7502400" y="4221000"/>
            <a:ext cx="1198800" cy="1295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236000" y="1268280"/>
            <a:ext cx="925200" cy="1006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rcRect l="36615" t="0" r="36211" b="0"/>
          <a:stretch/>
        </p:blipFill>
        <p:spPr>
          <a:xfrm>
            <a:off x="5253120" y="44280"/>
            <a:ext cx="903240" cy="20764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732720" y="2996640"/>
            <a:ext cx="2411280" cy="45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มุ่งมั้นพัฒนาองค์การดีเด่น  หมวด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25480" y="1440000"/>
            <a:ext cx="3268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สู่การสมัครขอรับรางวั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8360" y="381636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0960" y="3816360"/>
            <a:ext cx="5754600" cy="1871640"/>
          </a:xfrm>
          <a:prstGeom prst="rect">
            <a:avLst/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3320" y="252252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55720" y="252252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016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05160" y="252252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9720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51040" y="520848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4340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05160" y="5208480"/>
            <a:ext cx="451080" cy="476280"/>
          </a:xfrm>
          <a:custGeom>
            <a:avLst/>
            <a:gdLst>
              <a:gd name="textAreaLeft" fmla="*/ 0 w 451080"/>
              <a:gd name="textAreaRight" fmla="*/ 451440 w 4510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806">
                <a:moveTo>
                  <a:pt x="0" y="0"/>
                </a:moveTo>
                <a:arcTo wR="0" hR="0" stAng="16200000" swAng="-5400000"/>
                <a:lnTo>
                  <a:pt x="0" y="22806"/>
                </a:lnTo>
                <a:arcTo wR="0" hR="0" stAng="10800000" swAng="-5400000"/>
                <a:lnTo>
                  <a:pt x="21600" y="2280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22480" y="2522520"/>
            <a:ext cx="452160" cy="3162240"/>
          </a:xfrm>
          <a:custGeom>
            <a:avLst/>
            <a:gdLst>
              <a:gd name="textAreaLeft" fmla="*/ 21960 w 452160"/>
              <a:gd name="textAreaRight" fmla="*/ 430200 w 45216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959">
                <a:moveTo>
                  <a:pt x="3600" y="0"/>
                </a:moveTo>
                <a:arcTo wR="3600" hR="3600" stAng="16200000" swAng="-5400000"/>
                <a:lnTo>
                  <a:pt x="0" y="147359"/>
                </a:lnTo>
                <a:arcTo wR="3600" hR="3600" stAng="10800000" swAng="-5400000"/>
                <a:lnTo>
                  <a:pt x="18000" y="150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2248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50960" y="836640"/>
            <a:ext cx="28440" cy="4851360"/>
          </a:xfrm>
          <a:prstGeom prst="line">
            <a:avLst/>
          </a:prstGeom>
          <a:ln cap="rnd" w="2232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0960" y="5688000"/>
            <a:ext cx="5718240" cy="0"/>
          </a:xfrm>
          <a:prstGeom prst="line">
            <a:avLst/>
          </a:prstGeom>
          <a:ln w="34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3844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92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7960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4964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459432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0960" y="47545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0960" y="49435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0960" y="51307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0960" y="55069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0960" y="529596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4600" y="5433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5360" y="2989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11360" y="25970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9400" y="57214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636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4920" y="5165640"/>
            <a:ext cx="450720" cy="506520"/>
          </a:xfrm>
          <a:custGeom>
            <a:avLst/>
            <a:gdLst>
              <a:gd name="textAreaLeft" fmla="*/ 0 w 450720"/>
              <a:gd name="textAreaRight" fmla="*/ 451080 w 450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21600" h="24272">
                <a:moveTo>
                  <a:pt x="0" y="0"/>
                </a:moveTo>
                <a:arcTo wR="0" hR="0" stAng="16200000" swAng="-5400000"/>
                <a:lnTo>
                  <a:pt x="0" y="24272"/>
                </a:lnTo>
                <a:arcTo wR="0" hR="0" stAng="10800000" swAng="-5400000"/>
                <a:lnTo>
                  <a:pt x="21600" y="2427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19440" y="5715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640240" y="5715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172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7996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5172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2292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9400" y="381636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5000" y="405756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5000" y="424656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5000" y="443376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2800" y="5243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2520" y="5041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2520" y="4859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3680" y="469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0440" y="450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25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2520" y="411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1360" y="395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9880" y="3727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53160" y="2522520"/>
            <a:ext cx="450720" cy="316080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0800"/>
              <a:gd name="textAreaBottom" fmla="*/ 3138840 h 3160800"/>
            </a:gdLst>
            <a:ahLst/>
            <a:rect l="textAreaLeft" t="textAreaTop" r="textAreaRight" b="textAreaBottom"/>
            <a:pathLst>
              <a:path w="21600" h="151372">
                <a:moveTo>
                  <a:pt x="3600" y="0"/>
                </a:moveTo>
                <a:arcTo wR="3600" hR="3600" stAng="16200000" swAng="-5400000"/>
                <a:lnTo>
                  <a:pt x="0" y="147772"/>
                </a:lnTo>
                <a:arcTo wR="3600" hR="3600" stAng="10800000" swAng="-5400000"/>
                <a:lnTo>
                  <a:pt x="18000" y="1513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57840" y="520704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91160" y="459756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2328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9400" y="252252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59280" y="1873080"/>
            <a:ext cx="569880" cy="301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04000" y="2347200"/>
            <a:ext cx="234000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การพัฒนา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ารดีเด่น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32720" y="3715560"/>
            <a:ext cx="241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ผ่านการรับรองเกณฑ์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12000" y="3500280"/>
            <a:ext cx="360360" cy="217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812000" y="2781360"/>
            <a:ext cx="360360" cy="217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2205000"/>
            <a:ext cx="5543640" cy="2016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34840" y="2708280"/>
            <a:ext cx="247392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สู่ความโดดเด่นราย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99200" y="4365720"/>
            <a:ext cx="3935520" cy="60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undamental  Leve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9840" y="3213000"/>
            <a:ext cx="161928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Successfu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324000" y="476280"/>
            <a:ext cx="4319280" cy="2519280"/>
            <a:chOff x="324000" y="476280"/>
            <a:chExt cx="4319280" cy="2519280"/>
          </a:xfrm>
        </p:grpSpPr>
        <p:sp>
          <p:nvSpPr>
            <p:cNvPr id="412" name=""/>
            <p:cNvSpPr/>
            <p:nvPr/>
          </p:nvSpPr>
          <p:spPr>
            <a:xfrm>
              <a:off x="324000" y="476280"/>
              <a:ext cx="4319280" cy="25192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rcRect l="11530" t="18222" r="11882" b="0"/>
            <a:stretch/>
          </p:blipFill>
          <p:spPr>
            <a:xfrm>
              <a:off x="422280" y="610920"/>
              <a:ext cx="363168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"/>
          <p:cNvGrpSpPr/>
          <p:nvPr/>
        </p:nvGrpSpPr>
        <p:grpSpPr>
          <a:xfrm>
            <a:off x="611280" y="3500280"/>
            <a:ext cx="4032000" cy="2521080"/>
            <a:chOff x="611280" y="3500280"/>
            <a:chExt cx="4032000" cy="2521080"/>
          </a:xfrm>
        </p:grpSpPr>
        <p:sp>
          <p:nvSpPr>
            <p:cNvPr id="415" name=""/>
            <p:cNvSpPr/>
            <p:nvPr/>
          </p:nvSpPr>
          <p:spPr>
            <a:xfrm>
              <a:off x="611280" y="3500280"/>
              <a:ext cx="4032000" cy="2521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2"/>
            <a:srcRect l="11527" t="17707" r="11465" b="0"/>
            <a:stretch/>
          </p:blipFill>
          <p:spPr>
            <a:xfrm>
              <a:off x="799920" y="3567600"/>
              <a:ext cx="3527640" cy="23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4859280" y="1916280"/>
            <a:ext cx="3745080" cy="2449440"/>
            <a:chOff x="4859280" y="1916280"/>
            <a:chExt cx="3745080" cy="2449440"/>
          </a:xfrm>
        </p:grpSpPr>
        <p:sp>
          <p:nvSpPr>
            <p:cNvPr id="418" name=""/>
            <p:cNvSpPr/>
            <p:nvPr/>
          </p:nvSpPr>
          <p:spPr>
            <a:xfrm>
              <a:off x="4859280" y="1916280"/>
              <a:ext cx="3745080" cy="24494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3"/>
            <a:srcRect l="11513" t="18222" r="9540" b="0"/>
            <a:stretch/>
          </p:blipFill>
          <p:spPr>
            <a:xfrm>
              <a:off x="5023800" y="2026440"/>
              <a:ext cx="3575520" cy="23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"/>
          <p:cNvSpPr/>
          <p:nvPr/>
        </p:nvSpPr>
        <p:spPr>
          <a:xfrm>
            <a:off x="4643280" y="549360"/>
            <a:ext cx="15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ระดับก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27640" y="5516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ดับจังหวั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04000" y="4365720"/>
            <a:ext cx="15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อุดมศึกษ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หตุผลที่นำ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 </a:t>
            </a: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ใช้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35880" cy="48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 </a:t>
            </a:r>
            <a:r>
              <a:rPr b="1" lang="en-US" sz="39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</a:t>
            </a:r>
            <a:r>
              <a:rPr b="1" lang="en-US" sz="3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ุ่งเน้นแนวทางการบริหารจัดการใน</a:t>
            </a:r>
            <a:r>
              <a:rPr b="1" lang="th-TH" sz="37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ทิศทางที่เป็นเลิศ</a:t>
            </a: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ช่นเดียวกับหน่วยงานภาครัฐในประเทศที่พัฒนาแล้วทั้งหลาย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ำนึงถึงสังคมและประโยชน์ของประชาช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อิสรภาพแก่องค์กรในการเลือกใช้วิธีการต่างๆที่นำไปสู่ความเป็นเลิศโดย</a:t>
            </a:r>
            <a:r>
              <a:rPr b="1" lang="th-TH" sz="37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ไม่จำเป็นต้องเหมือนกับของคนอื่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ิสูจน์ความสำเร็จโดยดูจากผลลัพธ์และข้อมู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สนับสนุนการเรียนรู้และการปรับปรุงอย่างต่อเนื่อง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79280" y="0"/>
            <a:ext cx="3888000" cy="398880"/>
          </a:xfrm>
          <a:prstGeom prst="rect">
            <a:avLst/>
          </a:prstGeom>
          <a:solidFill>
            <a:srgbClr val="edf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oadmap 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20960" y="549360"/>
            <a:ext cx="2217600" cy="50328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78360" y="573120"/>
            <a:ext cx="2388960" cy="47952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68960" y="549360"/>
            <a:ext cx="2460600" cy="47952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37840" y="590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5480" y="563400"/>
            <a:ext cx="13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8520" y="1125360"/>
            <a:ext cx="8421480" cy="1295640"/>
          </a:xfrm>
          <a:prstGeom prst="roundRect">
            <a:avLst>
              <a:gd name="adj" fmla="val 16667"/>
            </a:avLst>
          </a:prstGeom>
          <a:solidFill>
            <a:srgbClr val="edf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145908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1530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บริ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2478240"/>
            <a:ext cx="8569080" cy="14554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0800" y="2968560"/>
            <a:ext cx="17067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1720" y="306396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นโยบา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3992400"/>
            <a:ext cx="8569080" cy="1266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3400" y="4159080"/>
            <a:ext cx="1511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2160" y="42800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6000" y="4956120"/>
            <a:ext cx="77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ฐานข้อมูลในการผลักดันยุทธศาสตร์ภายใต้ระบบการนำองค์กรที่มีประสิทธิภาพ โดยยึดประชาชนเป็นศูนย์กลา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44720" y="120024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52720" y="15256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27640" y="15256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8520" y="2111400"/>
            <a:ext cx="767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กับผู้รับบริการ โดยออกแบบกระบวนงานและพัฒนาบุคลากรให้สามารถปฏิบัติงานได้อย่างมีประสิทธิ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5320" y="3578400"/>
            <a:ext cx="641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ยุทธศาสตร์และการนำไปปฏิบัติ  โดยมีระบบการวัดผลการดำเนินการที่เป็น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55600" y="608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4720" y="169560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59280" y="11714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59280" y="16668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12002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16956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70280" y="260028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78280" y="29257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53200" y="29257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70280" y="30956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84840" y="25718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84840" y="30672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88120" y="260028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8120" y="309564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08440" y="40482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16440" y="43736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91360" y="43736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08440" y="454356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23000" y="40194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23000" y="451476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26280" y="40482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26280" y="454356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9600" y="5359320"/>
            <a:ext cx="8569440" cy="13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4960" y="552600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1840" y="56736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3280" y="6323040"/>
            <a:ext cx="64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การกำหนดทิศทางองค์กรที่ชัดเจน และการพัฒนาบุคลากรเพื่อเน้นผู้เรียนเป็นศูนย์กลา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94040" y="541512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02040" y="57405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76960" y="574056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4040" y="591012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88000" y="5445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5661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64000" y="544500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03640" y="587700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77080" y="5516640"/>
            <a:ext cx="136836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24000" y="4140360"/>
            <a:ext cx="8569080" cy="19429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3059280"/>
            <a:ext cx="8569080" cy="8632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1922400"/>
            <a:ext cx="8497800" cy="86364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6560" y="764640"/>
            <a:ext cx="8353440" cy="100836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ahoma"/>
                <a:cs typeface="Tahoma"/>
              </a:rPr>
              <a:t>องค์ประกอบ</a:t>
            </a:r>
            <a:br>
              <a:rPr sz="2000"/>
            </a:br>
            <a:r>
              <a:rPr b="1" lang="hi-IN" sz="2000" spc="-1" strike="noStrike">
                <a:solidFill>
                  <a:srgbClr val="ffff00"/>
                </a:solidFill>
                <a:latin typeface="Tahoma"/>
                <a:cs typeface="Tahoma"/>
              </a:rPr>
              <a:t>เกณฑ์คุณภาพการบริหารจัดการภาครัฐขั้นพื้นฐา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187280" y="1963800"/>
            <a:ext cx="7956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ส่วนที่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1  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ea typeface="Tahoma"/>
              </a:rPr>
              <a:t>   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เกณฑ์ฯขั้น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ส่วนที่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2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คำอธิบายแนวทางดำเนิน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ส่วนที่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3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หลักเกณฑ์การพิจารณ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ea typeface="Tahoma"/>
              </a:rPr>
              <a:t>                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การดำเนินการที่ครบถ้วนสมบูรณ์</a:t>
            </a:r>
            <a:br>
              <a:rPr sz="2800"/>
            </a:br>
            <a:r>
              <a:rPr b="0" lang="th-TH" sz="2800" spc="-1" strike="noStrike">
                <a:solidFill>
                  <a:srgbClr val="336600"/>
                </a:solidFill>
                <a:latin typeface="Tahoma"/>
                <a:ea typeface="Tahoma"/>
              </a:rPr>
              <a:t>                เพื่อให้ผ่านเกณฑ์ฯ ขั้น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792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00"/>
                </a:solidFill>
                <a:latin typeface="Tahoma"/>
                <a:cs typeface="Tahoma"/>
              </a:rPr>
              <a:t>ตัวอย่างการประเมินตาม</a:t>
            </a:r>
            <a:br>
              <a:rPr sz="1400"/>
            </a:br>
            <a:r>
              <a:rPr b="1" lang="hi-IN" sz="1400" spc="-1" strike="noStrike">
                <a:solidFill>
                  <a:srgbClr val="ffff00"/>
                </a:solidFill>
                <a:latin typeface="Tahoma"/>
                <a:cs typeface="Tahoma"/>
              </a:rPr>
              <a:t>เกณฑ์คุณภาพการบริหารจัดการภาครัฐขั้นพื้นฐาน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95280" y="1328760"/>
          <a:ext cx="8280360" cy="719280"/>
        </p:xfrm>
        <a:graphic>
          <a:graphicData uri="http://schemas.openxmlformats.org/drawingml/2006/table">
            <a:tbl>
              <a:tblPr/>
              <a:tblGrid>
                <a:gridCol w="736560"/>
                <a:gridCol w="75438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รองรับภาวะฉุกเฉินต่าง ๆ ที่อาจเกิดขึ้นและมีผลกระทบต่อ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ัดการกระบวนการ เพื่อให้สถาบัน จะสามารถดำเนินงานได้อย่างต่อเนื่อ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395280" y="981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 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6560" y="22766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คำอธิบ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09680" y="2714040"/>
            <a:ext cx="8302680" cy="12366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มีวิธีการเพื่อทำให้มั่นใจว่าระบบงานและสถานที่ทำงานมีการเตรียมพร้อมต่อภัยพิบัติ หรื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วะฉุกเฉิน และระบบการเตรียมความพร้อมต่อภัยพิบัติ และภาวะฉุกเฉิน ซึ่งได้คำนึงถึงการป้องกั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ความต่อเนื่องของการดำเนินการ และการทำให้คืนสู่สภาพเดิมภัยพิบัติ และภาวะฉุกเฉินอาจเกี่ยวข้องกับสภาพอากาศ สาธารณูปโภค ความปลอดภัย การจราจล หรือเกิดจากภาวะฉุกเฉินในระดับท้องถิ่นหรือระดับชาติ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4221000"/>
            <a:ext cx="15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ประเม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6840" y="4524120"/>
            <a:ext cx="8381880" cy="17312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 -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สดงแผนสำรองฉุกเฉิน เพื่อป้องกับผลกระทบกับการจัดการกระบว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นกรณีที่เกิดภาวะฉุกเฉ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 -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ื่อสารให้ผู้ที่เกี่ยวข้องในแผนสำรองฉุกเฉินรับทราบถึงแนวทางปฏิบั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  -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ีการทบทวนเพื่อปรับปรุงแผนสำรองฉุกเฉินให้เหมาะสมทันสมัยอยู่เสม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  -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สดงให้เห็นความเชื่อมโยงของระบบรองรับภาวะฉุกเฉินต่อการดำเนินการ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พันธกิจหลักของส่วนราชการว่าจะสามารถดำเนินงานได้อย่างต่อเนื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42069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ahoma"/>
                <a:cs typeface="Tahoma"/>
              </a:rPr>
              <a:t>ผ่าน </a:t>
            </a:r>
            <a:r>
              <a:rPr b="0" lang="th-TH" sz="1400" spc="-1" strike="noStrike">
                <a:solidFill>
                  <a:srgbClr val="3333cc"/>
                </a:solidFill>
                <a:latin typeface="Tahoma"/>
                <a:ea typeface="Tahoma"/>
              </a:rPr>
              <a:t>/ </a:t>
            </a:r>
            <a:r>
              <a:rPr b="0" lang="th-TH" sz="1400" spc="-1" strike="noStrike">
                <a:solidFill>
                  <a:srgbClr val="3333cc"/>
                </a:solidFill>
                <a:latin typeface="Tahoma"/>
                <a:cs typeface="Tahoma"/>
              </a:rPr>
              <a:t>ไม่ผ่าน – จะผ่านต่อเมื่อทำครบทุก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Tahoma"/>
              </a:rPr>
              <a:t>bul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30DA-00E0-460F-AA80-6250AFA4351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395280" y="853920"/>
          <a:ext cx="8210520" cy="5648400"/>
        </p:xfrm>
        <a:graphic>
          <a:graphicData uri="http://schemas.openxmlformats.org/drawingml/2006/table">
            <a:tbl>
              <a:tblPr/>
              <a:tblGrid>
                <a:gridCol w="647640"/>
                <a:gridCol w="5041800"/>
                <a:gridCol w="863640"/>
                <a:gridCol w="863640"/>
                <a:gridCol w="793800"/>
              </a:tblGrid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นำ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ภามหาวิทยาลัยต้องมีการกำหนดทิศทางการทำงานที่ชัดเจน ครอบคลุมในเรื่องวิสัยทัศน์ ค่านิยมหลัก เป้าประสงค์หรือผลการดำเนินการที่คาดหวังของสถาบัน โดยมุ่งเน้นนิสิต นักศึกษา และผู้ที่เกี่ยวข้อง รวมทั้งมีการสื่อสารเพื่อถ่ายทอดทิศทางดังกล่าวสู่บุคลากร เพื่อให้เกิดการรับรู้ ความเข้าใจ และการนำไปปฏิบัติของบุคลากร อันจะส่งผลให้การดำเนินการบรรลุผลตามเป้าประสงค์ที่ตั้งไว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ภามหาวิทยาลัยและผู้บริหารของสถาบันอุดมศึกษามีการมอบอำนาจและทบทวนการมอบอำนาจในการตัดสินใจ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mpowerment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ห้แก่เจ้าหน้าที่ระดับต่างๆ ภายในสถาบันให้มีความเหมาะสม โดยมุ่งประโยชน์เพื่อผู้รับบริการ ผู้มีส่วนได้ส่วนเสีย และเพื่อผลการดำเนินการที่ดีของสถาบันอุดมศึกษ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ของสถาบันอุดมศึกษาส่งเสริมให้มีกระบวนการและกิจกรรมการเรียนรู้ เพื่อให้เกิดการบูรณาการและสร้างความผูกพัน ร่วมมือภายในสถาบัน รวมถึงการสร้างแรงจูงใจเพื่อให้บุคลากรสามารถปฏิบัติงานได้ตามเป้าหมาย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ภามหาวิทยาลัยและผู้บริหารของสถาบันอุดมศึกษา ต้องกำหนดตัวชี้วัดที่สำคัญ และกำหนดให้มีระบบการติดตามและประเมินผลการดำเนินการ สำหรับใช้ในการทบทวนผลการปฏิบัติงานและนำผลการทบทวนดังกล่าวมาจัดลำดับความสำคัญ เพื่อนำไปใช้ในการปรับปรุงการดำเนินงานของสถาบันให้ดีขึ้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"/>
          <p:cNvSpPr/>
          <p:nvPr/>
        </p:nvSpPr>
        <p:spPr>
          <a:xfrm>
            <a:off x="396720" y="387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1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นำองค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7A0-BADD-49C2-93C6-64EA624BD08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95280" y="996840"/>
          <a:ext cx="8137440" cy="3495960"/>
        </p:xfrm>
        <a:graphic>
          <a:graphicData uri="http://schemas.openxmlformats.org/drawingml/2006/table">
            <a:tbl>
              <a:tblPr/>
              <a:tblGrid>
                <a:gridCol w="776160"/>
                <a:gridCol w="4840560"/>
                <a:gridCol w="865080"/>
                <a:gridCol w="863640"/>
                <a:gridCol w="792000"/>
              </a:tblGrid>
              <a:tr h="55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รรมาภิบาลและความรับผิดชอบต่อสังค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ภามหาวิทยาลัยต้องมีการกำหนดระบบการกำกับดูแลตนเองที่ดีของสถาบันอุดมศึกษา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ganizational Governance)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รือ อัตตาภิบาล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lf Governance)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พื่อเป็นแนวทางในการดำเนินงานของสถาบัน และเพื่อให้การดำเนินการบรรลุผล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 (2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ของสถาบันอุดมศึกษาต้องกำหนดให้มีวิธีการหรือมาตรการในการจัดการผลกระทบทางลบที่เกิดขึ้นต่อสังคม อันเป็นผลมาจากการดำเนินการของสถาบัน รวมทั้งต้องนำวิธีการหรือมาตรการที่กำหนดไว้ไปปฏิบัต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(3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396720" y="387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1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นำองค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9D0B-E7B8-4BD4-9073-463F69A5E98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24000" y="976320"/>
          <a:ext cx="8351640" cy="5106960"/>
        </p:xfrm>
        <a:graphic>
          <a:graphicData uri="http://schemas.openxmlformats.org/drawingml/2006/table">
            <a:tbl>
              <a:tblPr/>
              <a:tblGrid>
                <a:gridCol w="779400"/>
                <a:gridCol w="4981320"/>
                <a:gridCol w="863640"/>
                <a:gridCol w="863640"/>
                <a:gridCol w="86364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วางยุทธศาสตร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กำหนดขั้นตอ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 และกรอบเวลาที่เหมาะสม รวมถึง มีการระบุผู้รับผิดชอบอย่างชัดเจน ในการจัดทำแผนปฏิบัติราชการ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 และแผนปฏิบัติราชการประจำปี โดยมุ่งเน้นที่จะผลักดันให้บรรลุวิสัยทัศน์ พันธกิจ และค่านิยมหลักของสถาบัน บรรลุเป้าหมายตามแผนการบริหารราชการแผ่นดิน แผนปฏิบัติราชการของกระทรวงศึกษาธิการและสำนักงานคณะกรรมการการอุดมศึกษ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9,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นการจัดทำแผนปฏิบัติราชการของสถาบันอุดมศึกษา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 แล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องมีการนำปัจจัยทั้งภายในและภายนอกที่สำคัญและสอดคล้องกับสภาพแวดล้อมที่เปลี่ยนแปลงไป มาใช้ประกอบการวิเคราะห์ อย่างน้อยประกอบด้วย วิสัยทัศน์ พันธกิจ และค่านิยมหลักของสถาบัน ความต้องการของผู้รับบริการ และผู้มีส่วนได้ส่วนเสีย ผลการดำเนินงานที่ผ่านมา กฎหมาย ระเบียบ โครงสร้างและจุดเน้นของสถาบันและความเสี่ยงในด้านต่าง ๆ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(3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วางแผนกลยุทธ์ด้านการบริหารทรัพยากรบุคคลให้สอดคล้องกับแผนปฏิบัติราชการ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 และแผนปฏิบัติราชการประจำปี ของสถาบัน รวมทั้ง การวางแผนเตรียมการจัดสรรทรัพยากรอื่น ๆ เพื่อรองรับการดำเนินการตามแผนปฏิบัติราชการ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468360" y="500040"/>
            <a:ext cx="3240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างแผนยุทธศาสตร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0478-FF3F-461E-8A41-C4E71A14346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395280" y="907920"/>
          <a:ext cx="8209080" cy="5592960"/>
        </p:xfrm>
        <a:graphic>
          <a:graphicData uri="http://schemas.openxmlformats.org/drawingml/2006/table">
            <a:tbl>
              <a:tblPr/>
              <a:tblGrid>
                <a:gridCol w="836640"/>
                <a:gridCol w="4635360"/>
                <a:gridCol w="936720"/>
                <a:gridCol w="936720"/>
                <a:gridCol w="86364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ื่อสารและถ่ายทอดยุทธศาสตร์เพื่อนำไปปฏิบัต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การสื่อสาร เพื่อถ่ายทอดนโยบาย ทิศทางการดำเนินงาน รวมถึง แผนปฏิบัติราชการ และเป้าหมายของสถาบันให้กับบุคลากรในระดับต่าง ๆ เพื่อให้มีการถ่ายทอดแผนไปสู่การปฏิบัติได้อย่างบรรลุผลตามเป้าหมายที่กำหน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ถ่ายทอด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scading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และเป้าหมายระดับสถาบันลงสู่ระดับคณ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นัก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ุกคณ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นัก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ระดับบุคคลอย่างน้อ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ณ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นัก รวมทั้ง มีการจัดทำข้อตกลงการปฏิบัติงานเป็นลายลักษณ์อักษรอย่างชัดเจน เพื่อให้สอดคล้องไปในทิศทางเดียวกันกับเป้าประสงค์เชิงยุทธศาสตร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การติดตามและประเมินผลการดำเนินงานตามแผนปฏิบัติราชการ โดยจัดทำเป็นรายงานผลการปฏิบัติราชการของคณ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นัก และแสดงให้เห็นถึงกระบวนการและผลที่เกิดขึ้นจากการปรับปรุงการดำเนินงานเพื่อบรรลุเป้าหมายที่กำหนด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จัดทำแนวทางการบริหารความเสี่ยงในระดับสถาบันที่ชัดเจน และสามารถนำไปประกอบการจัดทำแผนบริหารความเสี่ยงในระดับคณ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นักได้ โดยครอบคลุมสาระสำคัญเรื่องความเสี่ยงด้านกลยุทธ์ ด้านการดำเนินงาน ด้านธรรมาภิบาล และด้านเทคโนโลยีสารสนเท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503" name=""/>
          <p:cNvSpPr/>
          <p:nvPr/>
        </p:nvSpPr>
        <p:spPr>
          <a:xfrm>
            <a:off x="468360" y="500040"/>
            <a:ext cx="3240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างแผนยุทธศาสตร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F3C1-84CA-434B-97F7-8E395DA4689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95280" y="765000"/>
          <a:ext cx="8280360" cy="5567400"/>
        </p:xfrm>
        <a:graphic>
          <a:graphicData uri="http://schemas.openxmlformats.org/drawingml/2006/table">
            <a:tbl>
              <a:tblPr/>
              <a:tblGrid>
                <a:gridCol w="576360"/>
                <a:gridCol w="5138640"/>
                <a:gridCol w="880920"/>
                <a:gridCol w="878040"/>
                <a:gridCol w="80640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รู้เกี่ยวกับนิสิต นักศึกษา และผู้ที่เกี่ยวข้อ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กำหนดกลุ่มนิสิต นักศึกษา และผู้ที่เกี่ยวข้องตามพันธกิจ เพื่อให้ตอบสนองความต้องการของนิสิต นักศึกษา และผู้ที่เกี่ยวข้องที่ครอบคลุมทุกกลุ่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ช่องทางการรับฟังและเรียนรู้ความต้องการของนิสิต นักศึกษา และผู้ที่เกี่ยวข้องเพื่อนำมาใช้ในการปรับปรุงและเสนอรูปแบบการบริการต่าง ๆ โดยแสดงให้เห็นถึงประสิทธิภาพของช่องทางการสื่อสารดังกล่าว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ร้างความสัมพันธ์กับนิสิต นักศึกษา และผู้ที่เกี่ยวข้อ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5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กำหนดผู้รับผิดชอบที่ชัดเจนในการรวบรวมข้อร้องเรีย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เสนอแน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คิดเห็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ชมเชย  ของนิสิต นักศึกษา และผู้ที่เกี่ยวข้อง รวมทั้งมีระบบการจัดการข้อร้องเรีย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เสนอแน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คิดเห็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ชมเชย เพื่อให้มั่นใจว่าสามารถตอบสนองต่อนิสิต นักศึกษา และผู้ที่เกี่ยวข้องได้อย่างทันท่วงที และปรับปรุงคุณภาพการให้บริการและหรือการปฏิบัติงานให้เหมาะส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,39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สร้างเครือข่ายและจัดกิจกรรมเพื่อสร้างความสัมพันธ์กับนิสิต นักศึกษา และผู้ที่เกี่ยวข้อ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0,31,38-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ให้ความสำคัญกับนิสิต นักศึกษา และผู้ที่เกี่ยวข้อง</a:t>
            </a:r>
            <a:r>
              <a:rPr b="1" lang="en-US" sz="14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696-7C06-489A-B976-C5B1DD3884F9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95280" y="825480"/>
          <a:ext cx="8280360" cy="5555880"/>
        </p:xfrm>
        <a:graphic>
          <a:graphicData uri="http://schemas.openxmlformats.org/drawingml/2006/table">
            <a:tbl>
              <a:tblPr/>
              <a:tblGrid>
                <a:gridCol w="647640"/>
                <a:gridCol w="5018040"/>
                <a:gridCol w="873360"/>
                <a:gridCol w="869760"/>
                <a:gridCol w="87156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15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เปิดโอกาสให้ประชาชนเข้ามามีส่วนร่วม ตามระดับการมีส่วนร่วม คือ การให้ข้อมูล ปรึกษาหารือร่วมกัน การให้เข้ามาเกี่ยวข้อง การร่วมมือกัน และการเสริมอำนาจประชาชน ผ่านกิจกรรมต่างๆ อย่างสม่ำเสมอ รวมทั้งให้ข้อเสนอแนะ และร่วมมติดตามประเมินผลการบริหารจัดการของสถาบัน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0,31,38-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วัดความพึงพอใจของนิสิต นักศึกษา และผู้ที่เกี่ยวข้องในแต่ละกลุ่มตามที่ได้กำหนดไว้ เพื่อนำผลไปปรับปรุงการให้บริการและการดำเนินงานของสถาบั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1-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วัดความไม่พึงพอใจของนิสิต นักศึกษา และผู้ที่เกี่ยวข้องในแต่ละกลุ่มตามที่ได้กำหนดไว้ เพื่อนำผลไปปรับปรุงการให้บริการและการดำเนินงานของสถาบัน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1-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S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กำหนดมาตรฐาน คู่มือ แนวทางการปฏิบัติของบุคลากรในการให้บริการ ระยะเวลาแล้วเสร็จของงานบริการในแต่ละงา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ดยมีการจัดทำแผนภูมิหรือคู่มือการติดต่อราชการโดยประกาศให้นิสิต นักศึกษา และผู้ที่เกี่ยวข้องทราบ เพื่อให้เกิดความพึงพอใจในการรับบริกา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ให้ความสำคัญกับกับนิสิต นักศึกษา และผู้ที่เกี่ยวข้อง</a:t>
            </a:r>
            <a:r>
              <a:rPr b="1" lang="en-US" sz="14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112B-8884-489B-82B1-BCFC682715A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68360" y="836640"/>
          <a:ext cx="8136000" cy="5543640"/>
        </p:xfrm>
        <a:graphic>
          <a:graphicData uri="http://schemas.openxmlformats.org/drawingml/2006/table">
            <a:tbl>
              <a:tblPr/>
              <a:tblGrid>
                <a:gridCol w="647640"/>
                <a:gridCol w="4608360"/>
                <a:gridCol w="1008360"/>
                <a:gridCol w="934920"/>
                <a:gridCol w="936720"/>
              </a:tblGrid>
              <a:tr h="52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วัด การวิเคราะห์ และการปรับปรุงผลการดำเนินการ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ฐานข้อมูลผลการดำเนินงานตามแผนยุทธศาสตร์และแผนปฏิบัติราชการ รวมทั้งผลการดำเนินงานของตัวชี้วัดตามคำรับรองการปฏิบัติราชการ ที่ครอบคลุม ถูกต้อง และทันสมั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9 (3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พัฒนาและปรับปรุงระบบฐานข้อมูลด้านนักศึกษา บุคลากร หลักสูตร การเงินอุดมศึกษา และระบบฐานข้อมูลภาวะการมีงานทำของบัณฑิต ตามรูปแบบมาตรฐานกลางที่สำนักงานคณะกรรมการการอุดมศึกษา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กอ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ำหนดทั้ง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ฐานข้อมู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กำหนดกระบวนงานที่สร้างคุณค่า และจัดทำฐานข้อมูลเพื่อสนับสนุนการปฏิบัติงานตามกระบวนงานที่สร้างคุณค่า อย่างน้อย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งา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การ สารสนเทศ เทคโนโลยีสารสนเทศ และความรู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จัดส่งข้อมูลรายบุคคลด้านนักศึกษา บุคลากร หลักสูตร การเงินอุดมศึกษา และระบบฐานข้อมูลภาวะการมีงานทำของบัณฑิต รวมทั้ง รายชื่อเว็บไซต์ที่เผยแพร่รายงานข้อมูลที่เกี่ยวข้อง พร้อมรายชื่อคณะทำงานผู้รับผิดชอบจัดทำข้อมูล ช่องทางการติดต่อสื่อสาร ให้ สกอ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ภายในเวลาที่กำหน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"/>
          <p:cNvSpPr/>
          <p:nvPr/>
        </p:nvSpPr>
        <p:spPr>
          <a:xfrm>
            <a:off x="395280" y="46044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ัด การวิเคราะห์และการจัดการ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130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ahoma"/>
              </a:rPr>
              <a:t>ความเป็นเลิศขององค์กรภาครัฐ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900" spc="-1" strike="noStrike">
                <a:solidFill>
                  <a:srgbClr val="000000"/>
                </a:solidFill>
                <a:latin typeface="Times New Roman"/>
              </a:rPr>
              <a:t>อะไรคือความเป็นเลิศขององค์กรภาครัฐ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ประชาชนได้รับการบริการ</a:t>
            </a: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ดูแลอย่างทั่วถึงและมีประสิทธิผล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พันธกิจที่ได้รับมอบหมายสามารถบรรลุได้อย่างมีประสิทธิผล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การดำเนินการของภาครัฐที่มีประสิทธิภาพสูง รวดเร็ว โปร่งใส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การใช้จ่ายงบประมาณมีประสิทธิภาพสูง คุ้มค่า มีผลิตภาพสูง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ประเทศชาติมีความมั่นคง และศักยภาพในการแข่งขันที่สูงขึ้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95B-EB50-44C5-AB2B-E493D4108C4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68360" y="973080"/>
          <a:ext cx="8136000" cy="3751200"/>
        </p:xfrm>
        <a:graphic>
          <a:graphicData uri="http://schemas.openxmlformats.org/drawingml/2006/table">
            <a:tbl>
              <a:tblPr/>
              <a:tblGrid>
                <a:gridCol w="647640"/>
                <a:gridCol w="4608360"/>
                <a:gridCol w="1008360"/>
                <a:gridCol w="934920"/>
                <a:gridCol w="936720"/>
              </a:tblGrid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การ สารสนเทศ เทคโนโลยีสารสนเทศ และความรู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เทคโนโลยีสารสนเทศเพื่อให้นิสิต นักศึกษา และผู้ที่เกี่ยวข้อง สามารถเข้าถึงข้อมูลข่าวสารได้อย่างเหมาะสม ในด้านนักศึกษา บุคลากร หลักสูตร ภาวะการมีงานทำของบัณฑิต และข้อมูลอื่น ๆ รวมทั้งมีครุภัณฑ์การศึกษาและคอมพิวเตอร์เพียงพอต่อการจัดการการศึกษ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9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การติดตาม เฝ้าระวัง และเตือนภัย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rning System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ี่ยวกับการเปลี่ยนแปลงที่เกิดขึ้นในการดำเนินงานตามแผนปฏิบัติราชการหรือตามคำรับรองการปฏิบัติราชการ หรือตามแผนงา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ครงการสำคั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จัดทำแผนการจัดการความรู้ และนำแผนไปปฏิบัติ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395280" y="46044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ัด การวิเคราะห์และการจัดการ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95280" y="38736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5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457200" y="765000"/>
          <a:ext cx="8147160" cy="5556600"/>
        </p:xfrm>
        <a:graphic>
          <a:graphicData uri="http://schemas.openxmlformats.org/drawingml/2006/table">
            <a:tbl>
              <a:tblPr/>
              <a:tblGrid>
                <a:gridCol w="750960"/>
                <a:gridCol w="4511520"/>
                <a:gridCol w="962280"/>
                <a:gridCol w="960120"/>
                <a:gridCol w="96228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6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ร้างบรรยากาศการทำงาน ความผาสุกและความพึงพอใจแก่บุคลากร เพื่อก่อให้เกิดความผูกพันต่อองค์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มีการจัดระบบบริหารงานบุคคล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uman Resource Management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ซึ่งสอดคล้องกับยุทธศาสตร์ของสถาบันอุดมศึกษา เพื่อให้เกิดความร่วมมือ ความคล่องตัวและการกระจายอำนาจการตัดสินใจ และความผูกพันต่อสถาบั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กำหนดปัจจัยทีมีผลต่อความผาสุก และความพึงพอใจ ของบุคลากร รวมทั้งต้องมีการวิเคราะห์และปรับปรุงปัจจัย ดังกล่าวให้มีความเหมาะสม เพื่อสร้างแรงจูงใจในการปฏิบัติงานและให้เกิดความผูกพันต่อสถาบั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การประเมินผลการปฏิบัติงานของบุคลากรที่มีประสิทธิผล และเป็นธรรม รวมทั้งมีการแจ้งผลการประเมินให้บุคลากรทราบ เพื่อปรับปรุงการปฏิบัติงานให้ดีขึ้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พัฒนาบุคลากรและภาวะผู้น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ส่งเสริมให้คณาจารย์มีความรู้ความเข้าใจในกระบวนการสอนที่เน้นผู้เรียนเป็นสำคัญ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95280" y="38736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5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57200" y="1025640"/>
          <a:ext cx="8147160" cy="3987720"/>
        </p:xfrm>
        <a:graphic>
          <a:graphicData uri="http://schemas.openxmlformats.org/drawingml/2006/table">
            <a:tbl>
              <a:tblPr/>
              <a:tblGrid>
                <a:gridCol w="750960"/>
                <a:gridCol w="4511520"/>
                <a:gridCol w="962280"/>
                <a:gridCol w="960120"/>
                <a:gridCol w="96228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พัฒนาบุคลากรและภาวะผู้น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ส่งเสริมการปฏิบัติตามจรรยาบรรณวิชาชีพคณาจารย์ มีการวางแผนป้องกันการกระทำผิดจรรยาบรรณฯ  มีมาตรการกำกับดูแลและดำเนินการกับผู้ไม่ปฏิบัติตามจรรยาบรรณฯ รวมทั้ง มีแนวทางการให้รางวัลผู้ปฏิบัติตามจรรยาบรรณวิชาชีพที่เป็นแบบอย่างได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ดำเนินการตามแผนกลยุทธ์การบริหารทรัพยากรบุคคลที่กำหนดไว้ใน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3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ไปปฏิบัติ เพื่อให้มีขีดสมรรถนะที่เหมาะสม สามารถปฏิบัติงานให้บรรลุผลตามเป้าประสงค์เชิงยุทธศาสตร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มีแผนการสร้างความก้าวหน้าในสายงานให้แก่บุคลากร เพื่อสร้างขวัญและกำลังใจในการปฏิบัติงานให้กับบุคลาก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6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จัดการกระบว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17680" y="901800"/>
          <a:ext cx="8157960" cy="5356080"/>
        </p:xfrm>
        <a:graphic>
          <a:graphicData uri="http://schemas.openxmlformats.org/drawingml/2006/table">
            <a:tbl>
              <a:tblPr/>
              <a:tblGrid>
                <a:gridCol w="669600"/>
                <a:gridCol w="4537080"/>
                <a:gridCol w="1008360"/>
                <a:gridCol w="1008000"/>
                <a:gridCol w="93492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ออกแบบ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กำหนดกระบวนการที่สร้างคุณค่าจา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ุทธศาสตร์ พันธกิจ และความต้องการของนิสิต นักศึกษ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ผู้ที่เกี่ยวข้อง เพื่อให้บรรลุวิสัยทัศน์ของสถาบั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M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จัดทำข้อกำหนดที่สำคัญข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ที่สร้างคุณค่าจากความต้องการของนิสิตนักศึกษ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ผู้ที่เกี่ยวข้อง ข้อกำหนดด้านกฎหมาย  และข้อกำหนดที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คัญที่ช่วยวัดผลการดำเนินงาน แล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gsana New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รือปรับปรุง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งานให้มีประสิทธิภาพและความคุ้มค่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M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ออกแบบกระบวนการจากข้อกำหนดที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คัญใ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นำปัจจัยที่เกี่ยวข้องที่สำคัญ ม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กอบการออกแบบกระบวนการ เพื่อให้เกิดประสิทธิภาพใ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ฏิบัติงานและปรับปรุงกระบวนอย่างต่อเนื่อง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0,27-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M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ระบบรองรับภาวะฉุกเฉินต่าง ๆ ที่อา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ิดขึ้นและมีผลกระทบต่อการจัดการกระบวนการ เพื่อให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 จะสามารถดำเนินงานได้อย่างต่อเนื่อ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6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จัดการกระบว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7680" y="901800"/>
          <a:ext cx="8157960" cy="3271680"/>
        </p:xfrm>
        <a:graphic>
          <a:graphicData uri="http://schemas.openxmlformats.org/drawingml/2006/table">
            <a:tbl>
              <a:tblPr/>
              <a:tblGrid>
                <a:gridCol w="669600"/>
                <a:gridCol w="4537080"/>
                <a:gridCol w="1008360"/>
                <a:gridCol w="1008000"/>
                <a:gridCol w="93492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ังไม่ได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ยู่ระหว่า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รบถ้ว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การและปรับปรุง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M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กำหนดมาตรฐานการปฏิบัติงานข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ที่สร้างคุณค่า และกระบวนการสนับสนุน โดยม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วิธีการในการนำมาตรฐานการปฏิบัติงานดังกล่าวให้บุคลา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ำไปปฏิบัติ เพื่อให้บรรลุผลตามข้อกำหนดที่สำคัญ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7,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M 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ต้องมีการปรับปรุงกระบวนการที่สร้างคุณค่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กระบวนการสนับสนุน เพื่อให้ผลการดำเนินการดีขึ้นแล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้องกันไม่ให้เกิดข้อผิดพลาด การทำงานซ้ำ และความสูญเสี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ากผลการดำเนินกา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79280" y="715968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8320" y="371520"/>
            <a:ext cx="2670840" cy="3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หมวด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7   </a:t>
            </a: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ผลลัพธ์การดำเนินกา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95280" y="1000080"/>
          <a:ext cx="8497800" cy="4876920"/>
        </p:xfrm>
        <a:graphic>
          <a:graphicData uri="http://schemas.openxmlformats.org/drawingml/2006/table">
            <a:tbl>
              <a:tblPr/>
              <a:tblGrid>
                <a:gridCol w="873360"/>
                <a:gridCol w="5041440"/>
                <a:gridCol w="495360"/>
                <a:gridCol w="381600"/>
                <a:gridCol w="411480"/>
                <a:gridCol w="527400"/>
                <a:gridCol w="552240"/>
                <a:gridCol w="2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ประสิทธิ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ของแผนปฏิบัติการที่สถาบันอุดมศึกษา ดำเนินการได้สำเร็จตามเป้าหมาย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 มาตรฐานสถาบันอุดมศึกษาตามจุดเน้นของสถาบั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รบรรล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าตรฐานว่าด้วยศักยภาพและความพร้อมในการจัดการศึกษ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คุณภาพการให้บริ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ความพึงพอใจต่อบัณฑิตและบทบาทของสถาบันอุดมศึกษา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ความพึงพอใจต่อสถาบันอุดมศึกษาของนิสิต นักศึกษา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ประสิทธิภาพของการปฏิบัติราช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ุณภาพของสถาบันจากผลการประเมินภายใ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ุณภาพของสถาบันจากผลการประเมินภายนอ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-179280" y="715968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8320" y="371520"/>
            <a:ext cx="2670840" cy="3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หมวด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7   </a:t>
            </a: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ผลลัพธ์การดำเนินกา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395280" y="907920"/>
          <a:ext cx="8497800" cy="4753080"/>
        </p:xfrm>
        <a:graphic>
          <a:graphicData uri="http://schemas.openxmlformats.org/drawingml/2006/table">
            <a:tbl>
              <a:tblPr/>
              <a:tblGrid>
                <a:gridCol w="873360"/>
                <a:gridCol w="5041440"/>
                <a:gridCol w="495360"/>
                <a:gridCol w="381600"/>
                <a:gridCol w="411480"/>
                <a:gridCol w="527400"/>
                <a:gridCol w="552240"/>
                <a:gridCol w="2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ประสิทธิภาพของการปฏิบัติราช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ในการรักษามาตรฐานระยะเวลาการให้บริกา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cs typeface="Tahoma"/>
                        </a:rPr>
                        <a:t>กรณีสถาบันอุดมศึกษามีงบลงทุ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อัตราการเบิกจ่ายงบประมาณรายจ่ายลงทุ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cs typeface="Tahoma"/>
                        </a:rPr>
                        <a:t>กรณีสถาบันอุดมศึกษาไม่มีงบลงทุ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อัตราการเบิกจ่ายงบประมาณรายจ่ายในภาพรว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ของการดำเนินการตามแผนบริหารความเสี่ย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การพัฒนาองค์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บุคลากรที่ได้รับการพัฒนาขีดสมรรถนะตามแผนพัฒนาขีดสมรรถนะของบุคลากรหรือแผนพัฒนาบุคลา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ความครอบคลุม  ถูกต้อง และทันสมัยของฐานข้อมูลที่สนับสนุนยุทธศาสตร์อย่างน้อ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ด็นยุทธศาสตร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M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ความสำเร็จของการดำเนินกิจกรรมตา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การจัดการความรู้ อย่างน้อย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งค์ความรู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124000" y="2060640"/>
            <a:ext cx="525636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90320"/>
            <a:ext cx="619272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</a:rPr>
              <a:t>ทำไมต้องปรับปรุงการบริหารองค์กรภาครัฐ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ภาครัฐเป็นหนึ่งในหัวรถจักรหลักที่นำพาความเจริญมาสู่ประเทศชาต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ความคาดหวังของประชาชนเจ้าของประเทศที่สูงขึ้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การเปลี่ยนแปลงเทคโนโลยีและสภาพแวดล้อมที่รวดเร็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การแข่งขันระหว่างประเทศทวีความรุนแรงมากขึ้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โลกาภิวัฒน์ กฎหมาย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ข้อตกลงระหว่างประเทศ การเปิดเสรี ตลอดจนการรวมเป็นกลุ่มของประเทศต่าง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1557360"/>
            <a:ext cx="6624720" cy="30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มาข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ขั้นพื้นฐาน สำหรับสถาบันอุดมศึกษ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 </a:t>
            </a:r>
            <a:r>
              <a:rPr b="0" lang="th-TH" sz="4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ปัญหาและอุปสรรคในการใช้เกณฑ์ </a:t>
            </a:r>
            <a:r>
              <a:rPr b="0" lang="en-US" sz="40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PMQA</a:t>
            </a:r>
            <a:r>
              <a:rPr b="0" lang="en-US" sz="40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 ?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07160" cy="50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 </a:t>
            </a:r>
            <a:r>
              <a:rPr b="1" lang="en-US" sz="39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</a:t>
            </a:r>
            <a:r>
              <a:rPr b="1" lang="en-US" sz="3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ความซับซ้อนเข้าใจยา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ม่รู้จะเริ่มต้นตรงไห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ขียนแล้วแก้ แก้แล้วเขียน ไม่รู้เขียนอย่างไรให้ถูกใจคนอ่า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นในหน่วยงานมีมาก ไม่สามารถบูรณาการได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ม่มีผลลัพธ์และข้อมูลที่จะนำมาตอบ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ควรปรับปรุงอะไรก่อน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? </a:t>
            </a: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ระบบงานหรือข้อมู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ม่รู้จะ</a:t>
            </a: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ปรับปรุงอย่างไรให้ดีขึ้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811080"/>
            <a:ext cx="792000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1280" y="2492280"/>
            <a:ext cx="15127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ศึกษาและพัฒนาเกณฑ์คุณภาพการบริหารจัดการภาครั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7080" y="1052640"/>
            <a:ext cx="2592360" cy="114300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1052640"/>
            <a:ext cx="2232000" cy="1143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0360" y="1052640"/>
            <a:ext cx="2592360" cy="114300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905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19240"/>
            <a:ext cx="8636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แผนการดำเนินงาน</a:t>
            </a:r>
            <a:br>
              <a:rPr sz="2900"/>
            </a:b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ระบบคุณภาพการบริหารจัดการภาครัฐ 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2547 – 2550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2492280"/>
            <a:ext cx="18018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เกณฑ์คุณภาพการบริหารจัดการภาครั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ความรู้ ความเข้าใจให้ส่วนราชการต่าง 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ผู้ตรวจประเมินภายใน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วิทยากรตัวคู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กรมนำร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2421000"/>
            <a:ext cx="237636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ผลักดันให้</a:t>
            </a:r>
            <a:br>
              <a:rPr sz="1400"/>
            </a:b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นำไปปฏิบัติ โดยกำหนดเป็นตัวชี้วัดเลือกตามคำรับรองการ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บรมคณะทำงาน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orking Team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ส่วนราชการที่เลือกดำเนิ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ส่วนราชการนำร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คำปรึกษาและติดตามผลของกรมนำร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วิทยากรที่ปร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ผู้ตรวจประเมินรางวั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0"/>
            <a:ext cx="8785080" cy="6465960"/>
          </a:xfrm>
          <a:prstGeom prst="rect">
            <a:avLst/>
          </a:prstGeom>
          <a:noFill/>
          <a:ln w="936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1052640"/>
            <a:ext cx="2664000" cy="1143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2424240"/>
            <a:ext cx="22320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ปรุงเกณฑ์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ผลักดันให้ส่วนราชการนำไปปฏิบัติ โดยกำหนดเป็นตัวชี้วัดบังคับตามคำรับรองการ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บรมคณะทำงาน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orking Team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ทุกส่วน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ส่วนราชการเข้าสู่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ast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บริหารเครือข่ายวิทยากรที่ปร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45:09Z</dcterms:created>
  <dc:creator>supachai</dc:creator>
  <dc:description/>
  <dc:language>en-US</dc:language>
  <cp:lastModifiedBy>WindowsXP</cp:lastModifiedBy>
  <dcterms:modified xsi:type="dcterms:W3CDTF">2008-11-26T03:59:44Z</dcterms:modified>
  <cp:revision>256</cp:revision>
  <dc:subject/>
  <dc:title>Slide 1</dc:title>
</cp:coreProperties>
</file>