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F64-D686-4F61-A6C9-A16F4B1A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A91-36DD-4EBE-8E14-42FD883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66A-5AA3-43CE-BCA7-9AF051E1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CDE-45CD-45AF-9FA8-19B35C3F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73B-8C5C-451E-AAEF-11AF12E6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C09-6532-4ACE-BEB7-3E9761E6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062-B655-479F-A896-A439EEF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57B-588E-46C4-9088-B2118D8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AAE-BFFD-4152-A1F3-BD3BAD9B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30A-1C88-458E-9C3D-56DE463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0EF-D7E8-4F98-A4E5-ECA5C3F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930-A43A-4CF1-8D58-35B4FC7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5D17-6A8F-4F78-AACD-09189BA1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j0104458"/>
          <p:cNvPicPr/>
          <p:nvPr/>
        </p:nvPicPr>
        <p:blipFill>
          <a:blip r:embed="rId1"/>
          <a:stretch/>
        </p:blipFill>
        <p:spPr>
          <a:xfrm>
            <a:off x="79200" y="12600"/>
            <a:ext cx="6705720" cy="906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2360" y="395280"/>
            <a:ext cx="6561360" cy="87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0066"/>
                </a:solidFill>
                <a:latin typeface="TH Charmonman"/>
                <a:cs typeface="JasmineUPC"/>
              </a:rPr>
              <a:t>การบรรยาย</a:t>
            </a:r>
            <a:r>
              <a:rPr b="1" lang="th-TH" sz="5000" spc="-1" strike="noStrike">
                <a:solidFill>
                  <a:srgbClr val="ff0066"/>
                </a:solidFill>
                <a:latin typeface="TH Charmonman"/>
                <a:ea typeface="EucrosiaUPC"/>
              </a:rPr>
              <a:t> </a:t>
            </a:r>
            <a:br>
              <a:rPr sz="5000"/>
            </a:br>
            <a:r>
              <a:rPr b="1" lang="th-TH" sz="3800" spc="-1" strike="noStrike">
                <a:solidFill>
                  <a:srgbClr val="ff0066"/>
                </a:solidFill>
                <a:latin typeface="Angsana New"/>
                <a:cs typeface="EucrosiaUPC"/>
              </a:rPr>
              <a:t>เรื่อง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EucrosiaUPC"/>
              </a:rPr>
              <a:t>“ผลกระทบจากรัฐธรรมนูญแห่งราชอาณาจักรไทย พ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EucrosiaUPC"/>
              </a:rPr>
              <a:t>.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cs typeface="EucrosiaUPC"/>
              </a:rPr>
              <a:t>ศ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EucrosiaUPC"/>
              </a:rPr>
              <a:t>.2550 (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cs typeface="EucrosiaUPC"/>
              </a:rPr>
              <a:t>มาตรา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EucrosiaUPC"/>
              </a:rPr>
              <a:t>60) </a:t>
            </a:r>
            <a:br>
              <a:rPr sz="3500"/>
            </a:br>
            <a:r>
              <a:rPr b="1" lang="th-TH" sz="3500" spc="-1" strike="noStrike">
                <a:solidFill>
                  <a:srgbClr val="ff0066"/>
                </a:solidFill>
                <a:latin typeface="Angsana New"/>
                <a:cs typeface="EucrosiaUPC"/>
              </a:rPr>
              <a:t>ที่มีต่อการบริหารราชการแผ่นดิน”</a:t>
            </a:r>
            <a:r>
              <a:rPr b="1" lang="th-TH" sz="4000" spc="-1" strike="noStrike">
                <a:solidFill>
                  <a:srgbClr val="ff0066"/>
                </a:solidFill>
                <a:latin typeface="Angsana New"/>
                <a:ea typeface="EucrosiaUPC"/>
              </a:rPr>
              <a:t> </a:t>
            </a:r>
            <a:br>
              <a:rPr sz="4000"/>
            </a:br>
            <a:br>
              <a:rPr sz="3500"/>
            </a:br>
            <a:r>
              <a:rPr b="1" lang="th-TH" sz="3600" spc="-1" strike="noStrike">
                <a:solidFill>
                  <a:srgbClr val="ff0066"/>
                </a:solidFill>
                <a:latin typeface="TH Charmonman"/>
                <a:cs typeface="EucrosiaUPC"/>
              </a:rPr>
              <a:t>โดย</a:t>
            </a:r>
            <a:br>
              <a:rPr sz="3600"/>
            </a:br>
            <a:r>
              <a:rPr b="1" lang="th-TH" sz="3100" spc="-1" strike="noStrike">
                <a:solidFill>
                  <a:srgbClr val="ff0066"/>
                </a:solidFill>
                <a:latin typeface="TH Charmonman"/>
                <a:cs typeface="EucrosiaUPC"/>
              </a:rPr>
              <a:t>ดร</a:t>
            </a:r>
            <a:r>
              <a:rPr b="1" lang="th-TH" sz="3100" spc="-1" strike="noStrike">
                <a:solidFill>
                  <a:srgbClr val="ff0066"/>
                </a:solidFill>
                <a:latin typeface="TH Charmonman"/>
                <a:ea typeface="EucrosiaUPC"/>
              </a:rPr>
              <a:t>.</a:t>
            </a:r>
            <a:r>
              <a:rPr b="1" lang="th-TH" sz="3100" spc="-1" strike="noStrike">
                <a:solidFill>
                  <a:srgbClr val="ff0066"/>
                </a:solidFill>
                <a:latin typeface="TH Charmonman"/>
                <a:cs typeface="EucrosiaUPC"/>
              </a:rPr>
              <a:t>วิชช์  จีระแพทย์</a:t>
            </a:r>
            <a:br>
              <a:rPr sz="3100"/>
            </a:br>
            <a:r>
              <a:rPr b="1" lang="th-TH" sz="3100" spc="-1" strike="noStrike">
                <a:solidFill>
                  <a:srgbClr val="ff0066"/>
                </a:solidFill>
                <a:latin typeface="TH Charmonman"/>
                <a:cs typeface="EucrosiaUPC"/>
              </a:rPr>
              <a:t>อธิบดีอัยการฝ่ายช่วยเหลือทางกฎหมาย</a:t>
            </a:r>
            <a:br>
              <a:rPr sz="3100"/>
            </a:br>
            <a:r>
              <a:rPr b="1" lang="th-TH" sz="3100" spc="-1" strike="noStrike">
                <a:solidFill>
                  <a:srgbClr val="ff0066"/>
                </a:solidFill>
                <a:latin typeface="TH Charmonman"/>
                <a:cs typeface="EucrosiaUPC"/>
              </a:rPr>
              <a:t>สำนักงานอัยการสูงสุด</a:t>
            </a:r>
            <a:br>
              <a:rPr sz="3100"/>
            </a:br>
            <a:br>
              <a:rPr sz="3500"/>
            </a:br>
            <a:r>
              <a:rPr b="1" lang="th-TH" sz="3600" spc="-1" strike="noStrike">
                <a:solidFill>
                  <a:srgbClr val="ff0066"/>
                </a:solidFill>
                <a:latin typeface="Arial"/>
                <a:cs typeface="EucrosiaUPC"/>
              </a:rPr>
              <a:t>จัดโดย</a:t>
            </a:r>
            <a:br>
              <a:rPr sz="3600"/>
            </a:b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สำนักงาน ก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.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พ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.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ร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.</a:t>
            </a:r>
            <a:br>
              <a:rPr sz="3100"/>
            </a:b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ณ โรงแรมรามาการ์เด้นส์</a:t>
            </a:r>
            <a:br>
              <a:rPr sz="3100"/>
            </a:b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วันที่ 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29 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กันยายน 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2551  </a:t>
            </a:r>
            <a:br>
              <a:rPr sz="3100"/>
            </a:b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เวลา 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09.30 – 11.30 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cs typeface="EucrosiaUPC"/>
              </a:rPr>
              <a:t>น</a:t>
            </a:r>
            <a:r>
              <a:rPr b="1" lang="th-TH" sz="3100" spc="-1" strike="noStrike">
                <a:solidFill>
                  <a:srgbClr val="ff0066"/>
                </a:solidFill>
                <a:latin typeface="Arial"/>
                <a:ea typeface="EucrosiaUPC"/>
              </a:rPr>
              <a:t>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35:50Z</dcterms:created>
  <dc:creator>Fujitsu2007</dc:creator>
  <dc:description/>
  <dc:language>en-US</dc:language>
  <cp:lastModifiedBy>Fujitsu2007</cp:lastModifiedBy>
  <dcterms:modified xsi:type="dcterms:W3CDTF">2008-09-19T05:58:27Z</dcterms:modified>
  <cp:revision>5</cp:revision>
  <dc:subject/>
  <dc:title>ภาพนิ่ง 1</dc:title>
</cp:coreProperties>
</file>