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243-0F6F-43DB-9A2F-B92FB345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DC4-3DB3-4C8B-B934-6D814D9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ADF-402A-45C4-ACB3-91750D1D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E22-9EB5-4170-BF89-E4DD98F3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7D7-8974-4D8B-AB98-41AB3CB2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148-8ADE-4140-85AB-496BE73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5DE-657E-401F-9296-C896B6DD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0B0-E937-4ADE-849C-808B48B3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3B5-F8CC-41D4-B2C2-DAD0FA27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580-7142-42A2-95B6-9A84C0BF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F8C-ACA1-49C2-8DA1-3396B80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FD0-1772-4889-9E10-3E5EA60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FBA0-D975-4903-879A-6D4B095051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E0A4-B738-4C25-8120-0F5FDDB3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79280" y="765000"/>
            <a:ext cx="82803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รัฐธรรมนูญแห่งราชอาณาจักรไทย </a:t>
            </a:r>
            <a:br>
              <a:rPr sz="5000"/>
            </a:b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พุทธศักราช  </a:t>
            </a: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25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h-TH" sz="3700" spc="-1" strike="noStrike" u="sng">
                <a:solidFill>
                  <a:srgbClr val="000000"/>
                </a:solidFill>
                <a:uFillTx/>
                <a:latin typeface="Arial"/>
              </a:rPr>
              <a:t>มาตรา </a:t>
            </a:r>
            <a:r>
              <a:rPr b="1" lang="th-TH" sz="3700" spc="-1" strike="noStrike" u="sng">
                <a:solidFill>
                  <a:srgbClr val="000000"/>
                </a:solidFill>
                <a:uFillTx/>
                <a:latin typeface="Arial"/>
              </a:rPr>
              <a:t>27</a:t>
            </a: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สิทธิและเสรีภาพที่รัฐธรรมนูญนี้</a:t>
            </a:r>
            <a:br>
              <a:rPr sz="3700"/>
            </a:b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รับรองไว้โดยชัดแจ้ง โดยปริยายหรือโดยคำวินิจฉัย</a:t>
            </a:r>
            <a:br>
              <a:rPr sz="3700"/>
            </a:br>
            <a:r>
              <a:rPr b="1" lang="th-TH" sz="3700" spc="-1" strike="noStrike">
                <a:solidFill>
                  <a:srgbClr val="000000"/>
                </a:solidFill>
                <a:latin typeface="Arial"/>
              </a:rPr>
              <a:t>ของศาลรัฐธรรมนูญ  ย่อมได้รับความคุ้มครองและผูกพันรัฐสภา คณะรัฐมนตรี ศาล รวมทั้งองค์กรตามรัฐธรรมนูญ และหน่วยงานของรัฐโดยตรงในการตรากฎหมาย การใช้บังคับกฎหมาย และการตีความกฎหมายทั้งปวง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489-5F85-4F9B-B7C4-FFDA45F6668F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84360" y="1771560"/>
            <a:ext cx="77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ระราชบัญญัต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ความรับผิดทางละเมิดของเจ้าหน้าที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ศ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 2539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44D-8824-42C3-8C17-3264A796A1C2}" type="slidenum">
              <a:t>10</a:t>
            </a:fld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-433440"/>
            <a:ext cx="7347240" cy="775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B5D-9DD1-46F7-832C-7A5345B931EC}" type="slidenum">
              <a:t>11</a:t>
            </a:fld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-171360"/>
            <a:ext cx="7059600" cy="720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j0104458"/>
          <p:cNvPicPr/>
          <p:nvPr/>
        </p:nvPicPr>
        <p:blipFill>
          <a:blip r:embed="rId2"/>
          <a:stretch/>
        </p:blipFill>
        <p:spPr>
          <a:xfrm rot="16200000">
            <a:off x="1177920" y="-102600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41F-2E85-4A74-8CE2-855AE3606CE2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57240"/>
            <a:ext cx="7056360" cy="694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19B-2BFA-456E-A0E8-8F759F634AB0}" type="slidenum">
              <a:t>13</a:t>
            </a:fld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1000" y="36360"/>
            <a:ext cx="6697440" cy="6962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8EE-3247-4D09-ACED-65E9363754A7}" type="slidenum">
              <a:t>14</a:t>
            </a:fld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92160"/>
            <a:ext cx="6915240" cy="684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FD2-6B67-4DBD-9EB7-D8D461B544B4}" type="slidenum">
              <a:t>15</a:t>
            </a:fld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16000" y="77760"/>
            <a:ext cx="6840720" cy="691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B11-F5C2-4E5F-825B-51CCFE3BFFB9}" type="slidenum">
              <a:t>16</a:t>
            </a:fld>
          </a:p>
        </p:txBody>
      </p:sp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62080" y="-176040"/>
            <a:ext cx="6840360" cy="717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721-43DA-4BB3-BE53-2A721F92679E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30320" y="-433440"/>
            <a:ext cx="7129440" cy="900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9CC-0672-4DE0-BBDD-1D58F1875F03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-25560"/>
            <a:ext cx="6985080" cy="703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103-D94A-4F13-97F0-E26DF2503A54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1149480"/>
            <a:ext cx="7848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AngsanaUPC"/>
              </a:rPr>
              <a:t>	</a:t>
            </a:r>
            <a:r>
              <a:rPr b="1" lang="hi-IN" sz="3700" spc="-1" strike="noStrike" u="sng">
                <a:solidFill>
                  <a:srgbClr val="000000"/>
                </a:solidFill>
                <a:uFillTx/>
                <a:latin typeface="Arial"/>
                <a:cs typeface="AngsanaUPC"/>
              </a:rPr>
              <a:t>มาตรา </a:t>
            </a:r>
            <a:r>
              <a:rPr b="1" lang="en-US" sz="3700" spc="-1" strike="noStrike" u="sng">
                <a:solidFill>
                  <a:srgbClr val="000000"/>
                </a:solidFill>
                <a:uFillTx/>
                <a:latin typeface="Arial"/>
                <a:ea typeface="AngsanaUPC"/>
              </a:rPr>
              <a:t>60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AngsanaUPC"/>
              </a:rPr>
              <a:t>  </a:t>
            </a:r>
            <a:r>
              <a:rPr b="1" lang="hi-IN" sz="3700" spc="-1" strike="noStrike">
                <a:solidFill>
                  <a:srgbClr val="000000"/>
                </a:solidFill>
                <a:latin typeface="Arial"/>
                <a:cs typeface="AngsanaUPC"/>
              </a:rPr>
              <a:t>บุคคลย่อมมีสิทธิ ที่จะฟ้องหน่วยราชการหน่วยงานของรัฐ   รัฐวิสาหกิจ   ราชการส่วนท้องถิ่น  </a:t>
            </a:r>
            <a:br>
              <a:rPr sz="3700"/>
            </a:br>
            <a:r>
              <a:rPr b="1" lang="hi-IN" sz="3700" spc="-1" strike="noStrike">
                <a:solidFill>
                  <a:srgbClr val="000000"/>
                </a:solidFill>
                <a:latin typeface="Arial"/>
                <a:cs typeface="AngsanaUPC"/>
              </a:rPr>
              <a:t>หรือองค์กรอื่นของรัฐ  ที่เป็นนิติบุคคล  ให้รับผิดเนื่องจาก</a:t>
            </a:r>
            <a:br>
              <a:rPr sz="3700"/>
            </a:br>
            <a:r>
              <a:rPr b="1" lang="hi-IN" sz="3700" spc="-1" strike="noStrike">
                <a:solidFill>
                  <a:srgbClr val="000000"/>
                </a:solidFill>
                <a:latin typeface="Arial"/>
                <a:cs typeface="AngsanaUPC"/>
              </a:rPr>
              <a:t>การกระทำหรือการละเว้นการกระทำ ของข้าราชการ พนักงาน  หรือลูกจ้างของหน่วยงานนั้น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F67-96CF-4E80-949A-C2467F5926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1640" y="90360"/>
            <a:ext cx="7129440" cy="7288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j0104458"/>
          <p:cNvPicPr/>
          <p:nvPr/>
        </p:nvPicPr>
        <p:blipFill>
          <a:blip r:embed="rId2"/>
          <a:stretch/>
        </p:blipFill>
        <p:spPr>
          <a:xfrm rot="16200000">
            <a:off x="1177920" y="-102600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A02-BAA5-4A6F-BB06-1B48FD7F90E6}" type="slidenum">
              <a:t>20</a:t>
            </a:fld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-77760"/>
            <a:ext cx="6985080" cy="849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150-9550-4A82-9ED7-F19E1C23213D}" type="slidenum">
              <a:t>21</a:t>
            </a:fld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60480"/>
            <a:ext cx="7272360" cy="689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D86-09AC-47D0-8270-99CD491D2F42}" type="slidenum">
              <a:t>22</a:t>
            </a:fld>
          </a:p>
        </p:txBody>
      </p:sp>
    </p:spTree>
  </p:cSld>
  <p:transition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-100080"/>
            <a:ext cx="7272360" cy="849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B44-1914-4FFC-BE03-594AAF8D7204}" type="slidenum">
              <a:t>23</a:t>
            </a:fld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-87480"/>
            <a:ext cx="7039080" cy="769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207-6BEF-4795-BD15-AA7208D736F8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9400" y="69840"/>
            <a:ext cx="7051680" cy="684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B81-4C0E-40A5-8887-953E6DC44DBF}" type="slidenum">
              <a:t>25</a:t>
            </a:fld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71720" y="-201600"/>
            <a:ext cx="6956280" cy="728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576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65D-4139-453F-AD6E-FE1D0E3A623B}" type="slidenum">
              <a:t>26</a:t>
            </a:fld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77760"/>
            <a:ext cx="6912000" cy="6902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3C8-11ED-4A3D-8F04-A4801C54AF45}" type="slidenum">
              <a:t>27</a:t>
            </a:fld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82440"/>
            <a:ext cx="7416720" cy="685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418-B0A6-4BF3-BCCB-E1797983459F}" type="slidenum">
              <a:t>28</a:t>
            </a:fld>
          </a:p>
        </p:txBody>
      </p:sp>
    </p:spTree>
  </p:cSld>
  <p:transition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274160" cy="685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966-2798-4EB3-A9B0-DBA677316BB8}" type="slidenum">
              <a:t>29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2840" y="-10720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108000" y="1195560"/>
            <a:ext cx="83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มาตรา  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67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สิทธิของบุคคลที่จะมีส่วนร่วม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ับรัฐ และชุมชนในการอนุรักษ์ บำรุงรักษา  และการได้ประโยชน์จากทรัพยากรธรรมชาติ และความหลากหลาย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ทางชีวภาพ  และในการคุ้มครอง  ส่งเสริม  และรักษาคุณภาพสิ่งแวดล้อม  เพื่อให้ดำรงชีพอยู่ได้อย่างปกติ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และต่อเนื่องในสิ่งแวดล้อมที่จะไม่ก่อให้เกิดอันตราย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่อสุขภาพอนามัย สวัสดิภาพ หรือคุณภาพชีวิตของตนย่อมได้รับความคุ้มครองตามความเหมาะส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397-EB49-4492-A74D-2969BB23B2BB}" type="slidenum">
              <a:t>3</a:t>
            </a:fld>
          </a:p>
        </p:txBody>
      </p:sp>
    </p:spTree>
  </p:cSld>
  <p:transition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-49320"/>
            <a:ext cx="7129440" cy="705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CF2-2306-437C-AB07-47DC013FD946}" type="slidenum">
              <a:t>30</a:t>
            </a:fld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2000" y="-130320"/>
            <a:ext cx="7560000" cy="1068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89E-D453-4A4A-ADD9-B41DFCF1A64A}" type="slidenum">
              <a:t>31</a:t>
            </a:fld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0160" y="12600"/>
            <a:ext cx="7558200" cy="10688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FA9-8CF8-4D1D-A06F-3CC6C9EF4AA4}" type="slidenum">
              <a:t>32</a:t>
            </a:fld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147600"/>
            <a:ext cx="7200720" cy="7070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38B-D59D-44F3-A6E4-99E1C62F879A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174600"/>
            <a:ext cx="7129440" cy="685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4BD-74FD-46CB-99A1-721812D03795}" type="slidenum">
              <a:t>34</a:t>
            </a:fld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47240" cy="6856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448-17C1-46F7-A705-6C92E278B26E}" type="slidenum">
              <a:t>35</a:t>
            </a:fld>
          </a:p>
        </p:txBody>
      </p:sp>
    </p:spTree>
  </p:cSld>
  <p:transition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201600"/>
            <a:ext cx="6732720" cy="671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DE1-B1C7-4127-8357-9FB66C8D67DD}" type="slidenum">
              <a:t>36</a:t>
            </a:fld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0160" y="549360"/>
            <a:ext cx="7558200" cy="1068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A48-886F-429A-BE96-0E81B821D0FB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j0104458"/>
          <p:cNvPicPr/>
          <p:nvPr/>
        </p:nvPicPr>
        <p:blipFill>
          <a:blip r:embed="rId1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747720"/>
            <a:ext cx="7848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พระราชบัญญัต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ว่าด้วยความผิดของพนัก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ในองค์การหรือหน่วยงานของ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๒๕๐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ภูมิพลอดุลยเดช ป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ร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ให้ไว้ ณ วันที่ ๒๕ สิงหาคม พ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๒๕๐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ป็นปีที่ ๑๔ ในรัชกาลปัจจุบั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พระบาทสมเด็จพระปรมินทรมหาภูมิพลอดุลยเดช มีพระบรมราชโองการโปรดเกล้าฯ ให้ประกาศว่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โดยที่เป็นการสมควรมีกฎหมายว่าด้วยความผิดของพนักงานในองค์การหรือหน่วยงานของ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จึงทรงพระกรุณาโปรดเกล้าฯ ให้ตราพระราชบัญญัติขึ้นไว้โดยคำแนะนำและยินยอมของสภาร่างรัฐธรรมนูญในฐานะรัฐสภาดังต่อไปนี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๑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พระราชบัญญัตินี้เรียกว่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พระราชบัญญัติว่าด้วยความผิดของพนักงานในองค์การหรือหน่วยงานของรัฐ พ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๒๕๐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๒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พระราชบัญญัตินี้ให้ใช้บังคับตั้งแต่วันถัดจากวันประกาศในราชกิจจานุเบกษาเป็นต้นไ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A64-02A5-4C21-B1BE-7532EB9C0262}" type="slidenum">
              <a:t>38</a:t>
            </a:fld>
          </a:p>
        </p:txBody>
      </p:sp>
    </p:spTree>
  </p:cSld>
  <p:transition>
    <p:cover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104458"/>
          <p:cNvPicPr/>
          <p:nvPr/>
        </p:nvPicPr>
        <p:blipFill>
          <a:blip r:embed="rId1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8040" y="704880"/>
            <a:ext cx="792000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๓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ในพระราชบัญญัตินี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พนักงา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หมายความว่า ประธานกรรมการ รองประธานกรรมการ กรรมการหรือบุคคลผู้ปฏิบัติงานในองค์การ บริษัทจำกัด ห้างหุ้นส่วนนิติบุคคลหรือหน่วยงานที่เรียกชื่ออย่างอื่น ซึ่งทุนทั้งหมดหรือ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ทุนเกินกว่าร้อยละห้าสิบเป็นของรัฐ โดยได้รับเงินเดือนหรือประโยชน์ตอบแทนอย่างอื่นจากองค์การ บริษัทจำกัด ห้างหุ้นส่วนนิติบุคคลหรือหน่วยงานนั้นๆ ทั้งนี้นอกจากผู้เป็นเจ้าพนักงานอยู่แล้วตามกฎหมา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๔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ผู้ใดเป็นพนักงานมีหน้าที่ซื้อ ทำ จัดการหรือรักษาทรัพย์ใด เบียดบังทรัพย์นั้นเป็นของตนหรือเป็นของผู้อื่นโดยทุจริต หรือโดยทุจริตยอมให้ผู้อื่นเอาทรัพย์นั้นเสีย ต้องระวางโทษจำคุกตั้งแต่ห้าปีถึงยี่สิบปี หรือจำคุกตลอดชีวิต และปรับตั้งแต่สองพันบาทถึงสี่หมื่นบา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๕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ผู้ใดเป็นพนักงาน ใช้อำนาจในหน้าที่โดยมิชอบ ข่มขืนใจหรือจูงใจ เพื่อให้บุคคลใดมอบให้หรือหามาให้ซึ่งทรัพย์สินหรือประโยชน์อื่นใดแก่ตนเองหรือผู้อื่น ต้องระวางโทษจำคุกตั้งแต่ห้าปีถึงยี่สิบปี หรือจำคุกตลอดชีวิตและปรับตั้งแต่สองพันบาทถึงสี่หมื่นบาท หรือประหารชีวิ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๖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ผู้ใดเป็นพนักงาน เรียก รับหรือยอมจะรับทรัพย์สินหรือประโยชน์อื่นใด สำหรับตนเองหรือผู้อื่นโดยมิชอบ เพื่อกระทำการหรือไม่กระทำการอย่างใดในหน้าที่ ไม่ว่าการนั้นจะชอบหรือมิชอบด้วยหน้าที่ ต้องระวางโทษจำคุกตั้งแต่ห้าปีถึงยี่สิบปี หรือจำคุกตลอดชีวิต และปรับตั้งแต่สองพันบาทถึงสี่หมื่นบาท หรือประหารชีวิ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๗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ผู้ใดเป็นพนักงาน กระทำการหรือไม่กระทำการอย่างใดในหน้าที่ โดยเห็นแก่ทรัพย์สินหรือประโยชน์อื่นใดซึ่งตนได้เรียก รับหรือยอมจะรับไว้ก่อนที่ตนได้รับแต่งตั้งเป็นพนักงานในหน้าที่นั้น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ต้องระวางโทษจำคุกตั้งแต่ห้าปีถึงยี่สิบปี หรือจำคุกตลอดชีวิต และปรับตั้งแต่สองพันบาทถึงสี่หมื่นบา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EF9-85A1-489F-B811-B7F11479766B}" type="slidenum">
              <a:t>39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2840" y="-10720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0800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การดำเนินโครงการหรือกิจกรรมที่อาจก่อให้เกิดผลกระทบต่อชุมชนอย่างรุนแรง  ทั้งทางด้านคุณภาพสิ่งแวดล้อม ทรัพยากรธรรมชาติ และสุขภาพ จะกระทำมิได้   เว้นแต่จะได้ศึกษาและประเมินผลกระทบต่อคุณภาพสิ่งแวดล้อมและสุขภาพของประชาชนในชุมชน และจัดให้มีกระบวนการรับฟังความคิดเห็นของประชาชน และผู้มีส่วนได้เสียก่อน รวมทั้งได้ให้องค์การอิสระ  ซึ่งประกอบด้วย  ผู้แทนองค์การเอกชนด้านสิ่งแวดล้อมและสุขภาพ และผู้แทนสถาบันอุดมศึกษาที่จัดการการศึกษาด้านสิ่งแวดล้อม หรือทรัพยากรธรรมชาติหรือด้านสุขภาพ ให้ความเห็นประกอบก่อนมีการดำเนินการดังกล่า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7BA-28AD-4541-A260-908C1F50CD2A}" type="slidenum">
              <a:t>4</a:t>
            </a:fld>
          </a:p>
        </p:txBody>
      </p:sp>
    </p:spTree>
  </p:cSld>
  <p:transition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j0104458"/>
          <p:cNvPicPr/>
          <p:nvPr/>
        </p:nvPicPr>
        <p:blipFill>
          <a:blip r:embed="rId1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8040" y="704880"/>
            <a:ext cx="792000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๘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ผู้ใดเป็นพนักงาน มีหน้าที่ซื้อ ทำ จัดการหรือรักษาทรัพย์ใดๆ ใช้อำนาจในหน้าที่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โดยทุจริต อันเป็นการเสียหายแก่องค์การ บริษัทจำกัด ห้างหุ้นส่วนนิติบุคคลหรือหน่วยงานที่เรียกชื่ออย่างอื่น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ต้องระวางโทษจำคุกตั้งแต่ห้าปีถึงยี่สิบปี หรือจำคุกตลอดชีวิต และปรับตั้งแต่สองพันบาทถึงสี่หมื่นบา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ผู้ใดเป็นพนักงาน มีหน้าที่จัดการหรือดูแลกิจการใด เข้ามีส่วนได้เสีย เพื่อประโยชน์สำหรับตนเองหรือผู้อื่นเนื่องด้วยกิจการนั้น ต้องระวางโทษจำคุกตั้งแต่หนึ่งปีถึงสิบปี และปรับตั้งแต่สองพันบาท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ถึงสองหมื่นบา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๑๐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ผู้ใดเป็นพนักงาน มีหน้าที่จ่ายทรัพย์ จ่ายทรัพย์นั้นเกินกว่าที่ควรจ่าย เพื่อประโยชน์สำหรับตนเองหรือผู้อื่น ต้องระวางโทษจำคุกตั้งแต่หนึ่งปีถึงสิบปี และปรับตั้งแต่สองพันบาทถึงสองหมื่นบา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มาตรา ๑๑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ผู้ใดเป็นพนักงาน ปฏิบัติหรือละเว้นการปฏิบัติหน้าที่โดยมิชอบ เพื่อให้เกิดความเสียหายแก่ผู้หนึ่งผู้ใด หรือปฏิบัติหรือละเว้นการปฏิบัติหน้าที่โดยทุจริต ต้องระวางโทษจำคุกตั้งแต่หนึ่งปีถึงสิบปี หรือปรับตั้งแต่สองพันบาทถึงสองหมื่นบาท หรือทั้งจำทั้งปร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ผู้รับสนองพระบรมราชโอง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จอมพล ส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ธนะรัชต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นายกรัฐมนตร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A7E-9D21-4AD0-A58B-99A8465D1898}" type="slidenum">
              <a:t>40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108000" y="765000"/>
            <a:ext cx="8354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j0104458"/>
          <p:cNvPicPr/>
          <p:nvPr/>
        </p:nvPicPr>
        <p:blipFill>
          <a:blip r:embed="rId1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4520" y="1063800"/>
            <a:ext cx="791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หตุผลในการประกาศใช้พระราชบัญญัติฉบับนี้ คือ โดยที่รัฐได้ลงทุนจัดตั้งองค์การและหน่วยงานอื่น และในบางกรณีได้เข้าถือหุ้นในบริษัทจำกัด ห้างหุ้นส่วนนิติบุคคล เพื่อประโยชน์ในทางเศรษฐกิจ ทุนที่ได้ลงไปหรือหุ้นที่รัฐได้ถือไว้นี้เป็นทรัพย์สินของชาติ  และเนื่องด้วยองค์การ  บริษัทจำกัด  ห้างหุ้นส่วน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ิติบุคคล และหน่วยงานดังกล่าวไม่ต้องถูกผูกมัดให้ปฏิบัติตามระเบียบราชการโดยเคร่งครัด หากผู้ปฏิบัติงานไม่อยู่ในข่ายการควบคุมหรือถูกลงโทษอย่างหนัก เมื่อกระทำความผิดแล้ว อาจทำให้การดำเนินงานขององค์การ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บริษัทจำกัด ห้างหุ้นส่วนนิติบุคคล และหน่วยงานประสบความล้มเหลว และเกิดความเสียหายแก่รัฐอย่างร้ายแรง จึงสมควรมีกฎหมายกำหนดโทษสำหรับพนักงานในองค์การ หรือหน่วยงานของ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ราชกิจจานุเบกษา เล่ม ๗๖  ตอนที่ ๘๔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วันที่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๑ กันยายน ๒๕๐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6EB-F6FA-448B-B872-33A7A933D761}" type="slidenum">
              <a:t>41</a:t>
            </a:fld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2840" y="-10720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95280" y="1486080"/>
            <a:ext cx="78487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สิทธิของชุมชนที่จะฟ้องหน่วยราชการ  หน่วยงานของรัฐ  รัฐวิสาหกิจ  ราชการส่วนท้องถิ่น หรือองค์กรอื่นของรัฐที่เป็นนิติบุคคล เพื่อให้ปฏิบัติหน้าที่ตามบทบัญญัตินี้  ย่อมได้รับความคุ้มครอ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EDB-EF25-43EB-ACCB-93D6391CD207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j0104458"/>
          <p:cNvPicPr/>
          <p:nvPr/>
        </p:nvPicPr>
        <p:blipFill>
          <a:blip r:embed="rId2"/>
          <a:stretch/>
        </p:blipFill>
        <p:spPr>
          <a:xfrm rot="16200000">
            <a:off x="12016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3480" y="764640"/>
            <a:ext cx="8281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ระราชบัญญัต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ปรับปรุงกระทรวง ทบวง กร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ศ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 2545 </a:t>
            </a:r>
            <a:r>
              <a:rPr b="1" lang="en-US" sz="5500" spc="-1" strike="noStrike">
                <a:solidFill>
                  <a:srgbClr val="ff0066"/>
                </a:solidFill>
                <a:latin typeface="Angsana New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61D-AA11-409A-BA60-37290B8F82E1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11280" y="836640"/>
            <a:ext cx="7488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5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ประมวลกฎหมายแพ่งและพาณิชย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มาตรา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420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ผู้ใดจงใจหรือประมาทเลินเล่อ ทำต่อบุคคลอื่นโดยผิดกฎหมายให้เขาเสียหายถึงแก่ชีวิตก็ดี 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แก่ร่างกายก็ดี  อนามัยก็ดี  เสรีภาพก็ดี  ทรัพย์สินหรือ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สิทธิอย่างหนึ่งอย่างใดก็ดี ท่านว่าผู้นั้นทำละเมิดจำต้องใช้ค่าสินไหมทดแทนเพื่อการนั้น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66"/>
                </a:solidFill>
                <a:latin typeface="Arial"/>
                <a:ea typeface="AngsanaUPC"/>
              </a:rPr>
              <a:t>	</a:t>
            </a:r>
            <a:r>
              <a:rPr b="1" lang="th-TH" sz="3500" spc="-1" strike="noStrike">
                <a:solidFill>
                  <a:srgbClr val="ff0066"/>
                </a:solidFill>
                <a:latin typeface="Arial"/>
                <a:ea typeface="AngsanaUPC"/>
              </a:rPr>
              <a:t>	</a:t>
            </a:r>
            <a:r>
              <a:rPr b="1" lang="th-TH" sz="3500" spc="-1" strike="noStrike">
                <a:solidFill>
                  <a:srgbClr val="ff0066"/>
                </a:solidFill>
                <a:latin typeface="Arial"/>
                <a:ea typeface="AngsanaUPC"/>
              </a:rPr>
              <a:t>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  <a:cs typeface="AngsanaUPC"/>
              </a:rPr>
              <a:t>มาตรา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  <a:ea typeface="AngsanaUPC"/>
              </a:rPr>
              <a:t>421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  <a:ea typeface="AngsanaUPC"/>
              </a:rPr>
              <a:t>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  <a:cs typeface="AngsanaUPC"/>
              </a:rPr>
              <a:t>การใช้สิทธิซึ่งมีแต่จะให้เกิดเสียหาย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  <a:cs typeface="AngsanaUPC"/>
              </a:rPr>
              <a:t>แก่บุคคลอื่นนั้น ท่านว่าเป็นการอันมิชอบด้วยกฎหมาย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AE9-2895-4C25-B866-18CAC61846A2}" type="slidenum">
              <a:t>7</a:t>
            </a:fld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755640" y="1266840"/>
            <a:ext cx="74883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5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th-TH" sz="5000" spc="-1" strike="noStrike" u="sng">
                <a:solidFill>
                  <a:srgbClr val="ff0066"/>
                </a:solidFill>
                <a:uFillTx/>
                <a:latin typeface="Arial"/>
              </a:rPr>
              <a:t>ประมวลกฎหมายอาญ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th-TH" sz="35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มาตรา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157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ผู้ใดเป็นเจ้าพนักงาน ปฏิบัติหรือละเว้นการปฏิบัติหน้าที่โดยมิชอบ  เพื่อให้เกิดความเสียหาย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แก่ผู้หนึ่งผู้ใด  หรือปฏิบัติหรือละเว้นการปฏิบัติหน้าที่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โดยทุจริต  ต้องระวางโทษจำคุกตั้งแต่หนึ่งปีถึงสิบปี 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หรือปรับตั้งแต่สองพันบาทถึงสองหมื่นบาท  หรือทั้งจำ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ทั้งปรับ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D74-EBD0-47B8-9D31-C5E0DB6642E7}" type="slidenum">
              <a:t>8</a:t>
            </a:fld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j0104458"/>
          <p:cNvPicPr/>
          <p:nvPr/>
        </p:nvPicPr>
        <p:blipFill>
          <a:blip r:embed="rId2"/>
          <a:stretch/>
        </p:blipFill>
        <p:spPr>
          <a:xfrm rot="16200000">
            <a:off x="1214280" y="-107028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84360" y="1341360"/>
            <a:ext cx="77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ระราชบัญญัต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ว่าด้วยความรับผิดของพนักงา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ในองค์การหรือหน่วยงานของรั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พ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hi-IN" sz="5500" spc="-1" strike="noStrike">
                <a:solidFill>
                  <a:srgbClr val="ff0066"/>
                </a:solidFill>
                <a:latin typeface="Arial"/>
              </a:rPr>
              <a:t>ศ</a:t>
            </a:r>
            <a:r>
              <a:rPr b="1" lang="en-US" sz="5500" spc="-1" strike="noStrike">
                <a:solidFill>
                  <a:srgbClr val="ff0066"/>
                </a:solidFill>
                <a:latin typeface="Arial"/>
              </a:rPr>
              <a:t>. 250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6D8-43A8-4B58-B43A-F0D5FEF5EEA9}" type="slidenum">
              <a:t>9</a:t>
            </a:fld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8:20:43Z</dcterms:created>
  <dc:creator>Fujitsu2007</dc:creator>
  <dc:description/>
  <dc:language>en-US</dc:language>
  <cp:lastModifiedBy>Fujitsu2007</cp:lastModifiedBy>
  <dcterms:modified xsi:type="dcterms:W3CDTF">2008-09-19T07:08:14Z</dcterms:modified>
  <cp:revision>138</cp:revision>
  <dc:subject/>
  <dc:title>ภาพนิ่ง 1</dc:title>
</cp:coreProperties>
</file>