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AC5-1D4C-4EED-9D16-516EBB94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8FB-04E9-4002-B51E-ADA66C2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982-053D-4E53-8400-EF4CEB6C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5A6-0E15-44E8-9623-8CBA1317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60E-4F0A-4CC2-AEBC-33C3E44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552-CC84-4819-8F9E-5644E520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029-7E75-4E25-97A0-4F73BF1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E2D-700E-4DE1-A4D1-874C71D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1C7-4815-4D30-94E9-84352751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2C0-652B-4AF5-A249-D898366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E26-DBE9-4764-A156-81EB805A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C6A-88FB-4202-968C-0D10140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837E-2930-4B01-9A3B-909548D210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A9E2-203D-4992-9541-ADB1DF59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123087"/>
          <p:cNvPicPr/>
          <p:nvPr/>
        </p:nvPicPr>
        <p:blipFill>
          <a:blip r:embed="rId2"/>
          <a:stretch/>
        </p:blipFill>
        <p:spPr>
          <a:xfrm>
            <a:off x="7493040" y="4687920"/>
            <a:ext cx="1590480" cy="20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j0123087"/>
          <p:cNvPicPr/>
          <p:nvPr/>
        </p:nvPicPr>
        <p:blipFill>
          <a:blip r:embed="rId3"/>
          <a:stretch/>
        </p:blipFill>
        <p:spPr>
          <a:xfrm rot="10800000">
            <a:off x="87480" y="115560"/>
            <a:ext cx="1676160" cy="215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-100080"/>
            <a:ext cx="8423280" cy="74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0066"/>
                </a:solidFill>
                <a:latin typeface="TH Charmonman"/>
                <a:cs typeface="JasmineUPC"/>
              </a:rPr>
              <a:t>การบรรยาย</a:t>
            </a:r>
            <a:r>
              <a:rPr b="1" lang="th-TH" sz="5000" spc="-1" strike="noStrike">
                <a:solidFill>
                  <a:srgbClr val="ff0066"/>
                </a:solidFill>
                <a:latin typeface="TH Charmonman"/>
                <a:ea typeface="EucrosiaUPC"/>
              </a:rPr>
              <a:t> </a:t>
            </a:r>
            <a:br>
              <a:rPr sz="5000"/>
            </a:br>
            <a:r>
              <a:rPr b="1" lang="th-TH" sz="3700" spc="-1" strike="noStrike">
                <a:solidFill>
                  <a:srgbClr val="ff0066"/>
                </a:solidFill>
                <a:latin typeface="Angsana New"/>
                <a:cs typeface="EucrosiaUPC"/>
              </a:rPr>
              <a:t>เรื่อง “ผลกระทบจากรัฐธรรมนูญแห่งราชอาณาจักรไทย</a:t>
            </a:r>
            <a:br>
              <a:rPr sz="3700"/>
            </a:br>
            <a:r>
              <a:rPr b="1" lang="th-TH" sz="3700" spc="-1" strike="noStrike">
                <a:solidFill>
                  <a:srgbClr val="ff0066"/>
                </a:solidFill>
                <a:latin typeface="Angsana New"/>
                <a:cs typeface="EucrosiaUPC"/>
              </a:rPr>
              <a:t>พ</a:t>
            </a:r>
            <a:r>
              <a:rPr b="1" lang="th-TH" sz="3700" spc="-1" strike="noStrike">
                <a:solidFill>
                  <a:srgbClr val="ff0066"/>
                </a:solidFill>
                <a:latin typeface="Angsana New"/>
                <a:ea typeface="EucrosiaUPC"/>
              </a:rPr>
              <a:t>.</a:t>
            </a:r>
            <a:r>
              <a:rPr b="1" lang="th-TH" sz="3700" spc="-1" strike="noStrike">
                <a:solidFill>
                  <a:srgbClr val="ff0066"/>
                </a:solidFill>
                <a:latin typeface="Angsana New"/>
                <a:cs typeface="EucrosiaUPC"/>
              </a:rPr>
              <a:t>ศ</a:t>
            </a:r>
            <a:r>
              <a:rPr b="1" lang="th-TH" sz="3700" spc="-1" strike="noStrike">
                <a:solidFill>
                  <a:srgbClr val="ff0066"/>
                </a:solidFill>
                <a:latin typeface="Angsana New"/>
                <a:ea typeface="EucrosiaUPC"/>
              </a:rPr>
              <a:t>.2550 (</a:t>
            </a:r>
            <a:r>
              <a:rPr b="1" lang="th-TH" sz="3700" spc="-1" strike="noStrike">
                <a:solidFill>
                  <a:srgbClr val="ff0066"/>
                </a:solidFill>
                <a:latin typeface="Angsana New"/>
                <a:cs typeface="EucrosiaUPC"/>
              </a:rPr>
              <a:t>มาตรา </a:t>
            </a:r>
            <a:r>
              <a:rPr b="1" lang="th-TH" sz="3700" spc="-1" strike="noStrike">
                <a:solidFill>
                  <a:srgbClr val="ff0066"/>
                </a:solidFill>
                <a:latin typeface="Angsana New"/>
                <a:ea typeface="EucrosiaUPC"/>
              </a:rPr>
              <a:t>60)</a:t>
            </a:r>
            <a:r>
              <a:rPr b="1" lang="th-TH" sz="3700" spc="-1" strike="noStrike">
                <a:solidFill>
                  <a:srgbClr val="ff0066"/>
                </a:solidFill>
                <a:latin typeface="Angsana New"/>
                <a:cs typeface="EucrosiaUPC"/>
              </a:rPr>
              <a:t>ที่มีต่อการบริหารราชการแผ่นดิน”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EucrosiaUPC"/>
              </a:rPr>
              <a:t> </a:t>
            </a:r>
            <a:br>
              <a:rPr sz="4400"/>
            </a:br>
            <a:br>
              <a:rPr sz="2000"/>
            </a:br>
            <a:r>
              <a:rPr b="1" lang="th-TH" sz="3600" spc="-1" strike="noStrike">
                <a:solidFill>
                  <a:srgbClr val="000000"/>
                </a:solidFill>
                <a:latin typeface="TH Charmonman"/>
                <a:cs typeface="EucrosiaUPC"/>
              </a:rPr>
              <a:t>โดย</a:t>
            </a:r>
            <a:br>
              <a:rPr sz="3600"/>
            </a:br>
            <a:r>
              <a:rPr b="1" lang="th-TH" sz="3000" spc="-1" strike="noStrike">
                <a:solidFill>
                  <a:srgbClr val="000000"/>
                </a:solidFill>
                <a:latin typeface="TH Charmonman"/>
                <a:cs typeface="EucrosiaUPC"/>
              </a:rPr>
              <a:t>ดร</a:t>
            </a:r>
            <a:r>
              <a:rPr b="1" lang="th-TH" sz="3000" spc="-1" strike="noStrike">
                <a:solidFill>
                  <a:srgbClr val="000000"/>
                </a:solidFill>
                <a:latin typeface="TH Charmonman"/>
                <a:ea typeface="EucrosiaUPC"/>
              </a:rPr>
              <a:t>.</a:t>
            </a:r>
            <a:r>
              <a:rPr b="1" lang="th-TH" sz="3000" spc="-1" strike="noStrike">
                <a:solidFill>
                  <a:srgbClr val="000000"/>
                </a:solidFill>
                <a:latin typeface="TH Charmonman"/>
                <a:cs typeface="EucrosiaUPC"/>
              </a:rPr>
              <a:t>วิชช์  จีระแพทย์</a:t>
            </a:r>
            <a:br>
              <a:rPr sz="3000"/>
            </a:br>
            <a:r>
              <a:rPr b="1" lang="th-TH" sz="3000" spc="-1" strike="noStrike">
                <a:solidFill>
                  <a:srgbClr val="000000"/>
                </a:solidFill>
                <a:latin typeface="TH Charmonman"/>
                <a:cs typeface="EucrosiaUPC"/>
              </a:rPr>
              <a:t>อธิบดีอัยการฝ่ายช่วยเหลือทางกฎหมาย</a:t>
            </a:r>
            <a:br>
              <a:rPr sz="3000"/>
            </a:br>
            <a:r>
              <a:rPr b="1" lang="th-TH" sz="3000" spc="-1" strike="noStrike">
                <a:solidFill>
                  <a:srgbClr val="000000"/>
                </a:solidFill>
                <a:latin typeface="TH Charmonman"/>
                <a:cs typeface="EucrosiaUPC"/>
              </a:rPr>
              <a:t>สำนักงานอัยการสูงสุด</a:t>
            </a:r>
            <a:br>
              <a:rPr sz="3000"/>
            </a:br>
            <a:br>
              <a:rPr sz="2000"/>
            </a:br>
            <a:r>
              <a:rPr b="1" lang="th-TH" sz="3600" spc="-1" strike="noStrike">
                <a:solidFill>
                  <a:srgbClr val="3333ff"/>
                </a:solidFill>
                <a:latin typeface="Arial"/>
                <a:cs typeface="EucrosiaUPC"/>
              </a:rPr>
              <a:t>จัดโดย</a:t>
            </a:r>
            <a:br>
              <a:rPr sz="3600"/>
            </a:b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สำนักงาน ก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.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พ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.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ร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.</a:t>
            </a:r>
            <a:br>
              <a:rPr sz="3000"/>
            </a:b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ณ โรงแรมรามาการ์เด้นส์</a:t>
            </a:r>
            <a:br>
              <a:rPr sz="3000"/>
            </a:b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วันที่ 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29 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กันยายน 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2551   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เวลา 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09.30 – 11.30 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cs typeface="EucrosiaUPC"/>
              </a:rPr>
              <a:t>น</a:t>
            </a:r>
            <a:r>
              <a:rPr b="1" lang="th-TH" sz="3000" spc="-1" strike="noStrike">
                <a:solidFill>
                  <a:srgbClr val="3333ff"/>
                </a:solidFill>
                <a:latin typeface="Arial"/>
                <a:ea typeface="EucrosiaUPC"/>
              </a:rPr>
              <a:t>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EA2-9BC0-4205-9E89-C8368738619D}" type="slidenum">
              <a:t>1</a:t>
            </a:fld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684360" y="13413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ระราชบัญญัต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ว่าด้วยความรับผิดของพนักงา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ในองค์การหรือหน่วยงานของรั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ศ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 250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1BC-91BA-471F-80EB-B8F13228203B}" type="slidenum">
              <a:t>10</a:t>
            </a:fld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84360" y="17715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ระราชบัญญัต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ความรับผิดทางละเมิดของเจ้าหน้าที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ศ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 2539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525-02B0-4F13-AB5C-E53E7DD94041}" type="slidenum">
              <a:t>11</a:t>
            </a:fld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-433440"/>
            <a:ext cx="7347240" cy="775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C9B-9EFE-4D58-84D1-8066BFC558B2}" type="slidenum">
              <a:t>12</a:t>
            </a:fld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79280" y="765000"/>
            <a:ext cx="82803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รัฐธรรมนูญแห่งราชอาณาจักรไทย </a:t>
            </a:r>
            <a:br>
              <a:rPr sz="5000"/>
            </a:b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พุทธศักราช  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25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h-TH" sz="3700" spc="-1" strike="noStrike" u="sng">
                <a:solidFill>
                  <a:srgbClr val="000000"/>
                </a:solidFill>
                <a:uFillTx/>
                <a:latin typeface="Arial"/>
              </a:rPr>
              <a:t>มาตรา </a:t>
            </a:r>
            <a:r>
              <a:rPr b="1" lang="th-TH" sz="37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สิทธิและเสรีภาพที่รัฐธรรมนูญนี้</a:t>
            </a:r>
            <a:br>
              <a:rPr sz="3700"/>
            </a:b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รับรองไว้โดยชัดแจ้ง โดยปริยายหรือโดยคำวินิจฉัย</a:t>
            </a:r>
            <a:br>
              <a:rPr sz="3700"/>
            </a:b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ของศาลรัฐธรรมนูญ  ย่อมได้รับความคุ้มครองและผูกพันรัฐสภา คณะรัฐมนตรี ศาล รวมทั้งองค์กรตามรัฐธรรมนูญ และหน่วยงานของรัฐโดยตรงในการตรากฎหมาย การใช้บังคับกฎหมาย และการตีความกฎหมายทั้งปวง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29E-1D4A-41B9-9122-4BA33AE5DF88}" type="slidenum">
              <a:t>2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149480"/>
            <a:ext cx="7848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AngsanaUPC"/>
              </a:rPr>
              <a:t>	</a:t>
            </a:r>
            <a:r>
              <a:rPr b="1" lang="hi-IN" sz="3700" spc="-1" strike="noStrike" u="sng">
                <a:solidFill>
                  <a:srgbClr val="000000"/>
                </a:solidFill>
                <a:uFillTx/>
                <a:latin typeface="Arial"/>
                <a:cs typeface="AngsanaUPC"/>
              </a:rPr>
              <a:t>มาตรา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Arial"/>
                <a:ea typeface="AngsanaUPC"/>
              </a:rPr>
              <a:t>60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AngsanaUPC"/>
              </a:rPr>
              <a:t>  </a:t>
            </a:r>
            <a:r>
              <a:rPr b="1" lang="hi-IN" sz="3700" spc="-1" strike="noStrike">
                <a:solidFill>
                  <a:srgbClr val="000000"/>
                </a:solidFill>
                <a:latin typeface="Arial"/>
                <a:cs typeface="AngsanaUPC"/>
              </a:rPr>
              <a:t>บุคคลย่อมมีสิทธิ ที่จะฟ้องหน่วยราชการหน่วยงานของรัฐ   รัฐวิสาหกิจ   ราชการส่วนท้องถิ่น  </a:t>
            </a:r>
            <a:br>
              <a:rPr sz="3700"/>
            </a:br>
            <a:r>
              <a:rPr b="1" lang="hi-IN" sz="3700" spc="-1" strike="noStrike">
                <a:solidFill>
                  <a:srgbClr val="000000"/>
                </a:solidFill>
                <a:latin typeface="Arial"/>
                <a:cs typeface="AngsanaUPC"/>
              </a:rPr>
              <a:t>หรือองค์กรอื่นของรัฐ  ที่เป็นนิติบุคคล  ให้รับผิดเนื่องจาก</a:t>
            </a:r>
            <a:br>
              <a:rPr sz="3700"/>
            </a:br>
            <a:r>
              <a:rPr b="1" lang="hi-IN" sz="3700" spc="-1" strike="noStrike">
                <a:solidFill>
                  <a:srgbClr val="000000"/>
                </a:solidFill>
                <a:latin typeface="Arial"/>
                <a:cs typeface="AngsanaUPC"/>
              </a:rPr>
              <a:t>การกระทำหรือการละเว้นการกระทำ ของข้าราชการ พนักงาน  หรือลูกจ้างของหน่วยงานนั้น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56B-8ED0-4348-B4AE-A9C86F9483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2840" y="-10720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08000" y="1195560"/>
            <a:ext cx="83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มาตรา  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67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สิทธิของบุคคลที่จะมีส่วนร่วม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ับรัฐ และชุมชนในการอนุรักษ์ บำรุงรักษา  และการได้ประโยชน์จากทรัพยากรธรรมชาติ และความหลากหลาย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ทางชีวภาพ  และในการคุ้มครอง  ส่งเสริม  และรักษาคุณภาพสิ่งแวดล้อม  เพื่อให้ดำรงชีพอยู่ได้อย่างปกติ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ละต่อเนื่องในสิ่งแวดล้อมที่จะไม่ก่อให้เกิดอันตราย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่อสุขภาพอนามัย สวัสดิภาพ หรือคุณภาพชีวิตของตนย่อมได้รับความคุ้มครองตามความเหมาะส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90A-A221-488D-BD9A-C620DDC91A54}" type="slidenum">
              <a:t>4</a:t>
            </a:fld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2840" y="-10720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0800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การดำเนินโครงการหรือกิจกรรมที่อาจก่อให้เกิดผลกระทบต่อชุมชนอย่างรุนแรง  ทั้งทางด้านคุณภาพสิ่งแวดล้อม ทรัพยากรธรรมชาติ และสุขภาพ จะกระทำมิได้   เว้นแต่จะได้ศึกษาและประเมินผลกระทบต่อคุณภาพสิ่งแวดล้อมและสุขภาพของประชาชนในชุมชน และจัดให้มีกระบวนการรับฟังความคิดเห็นของประชาชน และผู้มีส่วนได้เสียก่อน รวมทั้งได้ให้องค์การอิสระ  ซึ่งประกอบด้วย  ผู้แทนองค์การเอกชนด้านสิ่งแวดล้อมและสุขภาพ และผู้แทนสถาบันอุดมศึกษาที่จัดการการศึกษาด้านสิ่งแวดล้อม หรือทรัพยากรธรรมชาติหรือด้านสุขภาพ ให้ความเห็นประกอบก่อนมีการดำเนินการดังกล่า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486-5230-472C-AEED-B22F91473D5B}" type="slidenum">
              <a:t>5</a:t>
            </a:fld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2840" y="-10720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95280" y="1486080"/>
            <a:ext cx="7848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สิทธิของชุมชนที่จะฟ้องหน่วยราชการ  หน่วยงานของรัฐ  รัฐวิสาหกิจ  ราชการส่วนท้องถิ่น หรือองค์กรอื่นของรัฐที่เป็นนิติบุคคล เพื่อให้ปฏิบัติหน้าที่ตามบทบัญญัตินี้  ย่อมได้รับความคุ้มคร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B3C-BBD8-4326-9CB6-01D84720FAB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j0104458"/>
          <p:cNvPicPr/>
          <p:nvPr/>
        </p:nvPicPr>
        <p:blipFill>
          <a:blip r:embed="rId2"/>
          <a:stretch/>
        </p:blipFill>
        <p:spPr>
          <a:xfrm rot="16200000">
            <a:off x="12016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480" y="764640"/>
            <a:ext cx="8281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ระราชบัญญัต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ปรับปรุงกระทรวง ทบวง กร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ศ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 2545 </a:t>
            </a:r>
            <a:r>
              <a:rPr b="1" lang="en-US" sz="5500" spc="-1" strike="noStrike">
                <a:solidFill>
                  <a:srgbClr val="ff0066"/>
                </a:solidFill>
                <a:latin typeface="Angsana New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002-EB13-48F5-B5E1-5526C6A70F1C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11280" y="836640"/>
            <a:ext cx="7488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ประมวลกฎหมายแพ่งและพาณิชย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มาตรา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420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ผู้ใดจงใจหรือประมาทเลินเล่อ ทำต่อบุคคลอื่นโดยผิดกฎหมายให้เขาเสียหายถึงแก่ชีวิตก็ดี 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ก่ร่างกายก็ดี  อนามัยก็ดี  เสรีภาพก็ดี  ทรัพย์สินหรือ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สิทธิอย่างหนึ่งอย่างใดก็ดี ท่านว่าผู้นั้นทำละเมิดจำต้องใช้ค่าสินไหมทดแทนเพื่อการนั้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66"/>
                </a:solidFill>
                <a:latin typeface="Arial"/>
                <a:ea typeface="AngsanaUPC"/>
              </a:rPr>
              <a:t>	</a:t>
            </a:r>
            <a:r>
              <a:rPr b="1" lang="th-TH" sz="3500" spc="-1" strike="noStrike">
                <a:solidFill>
                  <a:srgbClr val="ff0066"/>
                </a:solidFill>
                <a:latin typeface="Arial"/>
                <a:ea typeface="AngsanaUPC"/>
              </a:rPr>
              <a:t>	</a:t>
            </a:r>
            <a:r>
              <a:rPr b="1" lang="th-TH" sz="3500" spc="-1" strike="noStrike">
                <a:solidFill>
                  <a:srgbClr val="ff0066"/>
                </a:solidFill>
                <a:latin typeface="Arial"/>
                <a:ea typeface="AngsanaUPC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  <a:cs typeface="AngsanaUPC"/>
              </a:rPr>
              <a:t>มาตรา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  <a:ea typeface="AngsanaUPC"/>
              </a:rPr>
              <a:t>421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  <a:ea typeface="AngsanaUPC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  <a:cs typeface="AngsanaUPC"/>
              </a:rPr>
              <a:t>การใช้สิทธิซึ่งมีแต่จะให้เกิดเสียหาย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  <a:cs typeface="AngsanaUPC"/>
              </a:rPr>
              <a:t>แก่บุคคลอื่นนั้น ท่านว่าเป็นการอันมิชอบด้วยกฎหมาย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4C2-FC18-481B-8BCF-B3AF5FA17E73}" type="slidenum">
              <a:t>8</a:t>
            </a:fld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755640" y="1266840"/>
            <a:ext cx="74883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ประมวลกฎหมายอาญ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th-TH" sz="35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มาตรา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157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ผู้ใดเป็นเจ้าพนักงาน ปฏิบัติหรือละเว้นการปฏิบัติหน้าที่โดยมิชอบ  เพื่อให้เกิดความเสียหาย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ก่ผู้หนึ่งผู้ใด  หรือปฏิบัติหรือละเว้นการปฏิบัติหน้าที่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โดยทุจริต  ต้องระวางโทษจำคุกตั้งแต่หนึ่งปีถึงสิบปี 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หรือปรับตั้งแต่สองพันบาทถึงสองหมื่นบาท  หรือทั้งจำ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ทั้งปรับ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598-5CF1-434A-A99C-F9876D824D55}" type="slidenum">
              <a:t>9</a:t>
            </a:fld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8:20:43Z</dcterms:created>
  <dc:creator>Fujitsu2007</dc:creator>
  <dc:description/>
  <dc:language>en-US</dc:language>
  <cp:lastModifiedBy>Fujitsu2007</cp:lastModifiedBy>
  <dcterms:modified xsi:type="dcterms:W3CDTF">2008-09-19T07:02:44Z</dcterms:modified>
  <cp:revision>137</cp:revision>
  <dc:subject/>
  <dc:title>ภาพนิ่ง 1</dc:title>
</cp:coreProperties>
</file>