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04025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960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560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360" y="943560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C685-6E9B-4F03-BD06-380C5B5777D0}" type="slidenum"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4520" y="943596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9A68B-01D6-4F8D-A948-754B953A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1240"/>
            <a:ext cx="4973760" cy="3729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53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1960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52720" y="943596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8D8E-A2AB-4913-9F54-83FF15F234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53E-67ED-47CE-AB52-0C4837D5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E6B-5B1C-456F-91CF-ECBD9A1F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AEB-A9AD-43A2-9652-4582CB18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88E-25FE-40ED-A9FD-319A5486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C93-1786-49B9-898D-7F9A48AE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0A4-5C04-413A-BB5C-78AD7FA7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F43-E548-4599-AF95-064EFF0D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A5F-BB25-4483-9DD5-94B8D31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C83-6F43-4084-AC75-1F4A8B9E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3F3-BD8E-407C-85E8-525D5D6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D65-A01E-40DF-819C-ABF23E32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FB7-13B4-422F-A85A-6D0B903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6A6D-23E6-498A-A59B-0CDDFCAE6AAB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6"/>
          <p:cNvSpPr/>
          <p:nvPr/>
        </p:nvSpPr>
        <p:spPr>
          <a:xfrm rot="20326800">
            <a:off x="2193840" y="1919160"/>
            <a:ext cx="4967280" cy="2376720"/>
          </a:xfrm>
          <a:prstGeom prst="ellipse">
            <a:avLst/>
          </a:prstGeom>
          <a:noFill/>
          <a:ln w="6480">
            <a:solidFill>
              <a:srgbClr val="4f81bd"/>
            </a:solidFill>
            <a:prstDash val="sysDot"/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42920" y="3429000"/>
            <a:ext cx="4321080" cy="3170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5578560" y="282600"/>
            <a:ext cx="3384360" cy="1598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4857840" y="4143240"/>
            <a:ext cx="3714840" cy="23101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357120" y="285840"/>
            <a:ext cx="3240000" cy="1995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4214880" y="2214720"/>
            <a:ext cx="1643040" cy="105228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ยุทธศาสตร์ชาต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ว่าด้วยการป้องกันแล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ราบปรามการทุจริ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5213520" y="1380960"/>
            <a:ext cx="2357280" cy="57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632523"/>
                </a:solidFill>
                <a:latin typeface="Browallia New"/>
                <a:cs typeface="Browallia New"/>
              </a:rPr>
              <a:t>ยุทธศาสตร์ที่ </a:t>
            </a:r>
            <a:r>
              <a:rPr b="1" lang="th-TH" sz="1300" spc="-1" strike="noStrike">
                <a:solidFill>
                  <a:srgbClr val="632523"/>
                </a:solidFill>
                <a:latin typeface="Browallia New"/>
                <a:ea typeface="Browallia New"/>
              </a:rPr>
              <a:t>2 </a:t>
            </a:r>
            <a:r>
              <a:rPr b="1" lang="th-TH" sz="1300" spc="-1" strike="noStrike">
                <a:solidFill>
                  <a:srgbClr val="632523"/>
                </a:solidFill>
                <a:latin typeface="Browallia New"/>
                <a:cs typeface="Browallia New"/>
              </a:rPr>
              <a:t>รวมพลังแผ่นดิ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632523"/>
                </a:solidFill>
                <a:latin typeface="Browallia New"/>
                <a:cs typeface="Browallia New"/>
              </a:rPr>
              <a:t>ป้องกันและปราบปรามการทุจริ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5289480" y="3637080"/>
            <a:ext cx="2808360" cy="6062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eeece1"/>
                </a:solidFill>
                <a:latin typeface="Browallia New"/>
                <a:cs typeface="Browallia New"/>
              </a:rPr>
              <a:t>ยุทธศาสตร์ที่ </a:t>
            </a:r>
            <a:r>
              <a:rPr b="1" lang="en-US" sz="1300" spc="-1" strike="noStrike">
                <a:solidFill>
                  <a:srgbClr val="eeece1"/>
                </a:solidFill>
                <a:latin typeface="Browallia New"/>
                <a:ea typeface="Browallia New"/>
              </a:rPr>
              <a:t>4 </a:t>
            </a:r>
            <a:r>
              <a:rPr b="1" lang="th-TH" sz="1300" spc="-1" strike="noStrike">
                <a:solidFill>
                  <a:srgbClr val="eeece1"/>
                </a:solidFill>
                <a:latin typeface="Browallia New"/>
                <a:cs typeface="Browallia New"/>
              </a:rPr>
              <a:t>สร้างบุคลากรมืออาชีพป้องกั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eeece1"/>
                </a:solidFill>
                <a:latin typeface="Browallia New"/>
                <a:cs typeface="Browallia New"/>
              </a:rPr>
              <a:t>และปราบปรามการทุจริ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500120" y="2143080"/>
            <a:ext cx="2286000" cy="6350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f4ee00"/>
                </a:solidFill>
                <a:latin typeface="Browallia New"/>
                <a:cs typeface="Browallia New"/>
              </a:rPr>
              <a:t>ยุทธศาสตร์ที่ </a:t>
            </a:r>
            <a:r>
              <a:rPr b="1" lang="th-TH" sz="1300" spc="-1" strike="noStrike">
                <a:solidFill>
                  <a:srgbClr val="f4ee00"/>
                </a:solidFill>
                <a:latin typeface="Browallia New"/>
                <a:ea typeface="Browallia New"/>
              </a:rPr>
              <a:t>1 </a:t>
            </a:r>
            <a:r>
              <a:rPr b="1" lang="th-TH" sz="1300" spc="-1" strike="noStrike">
                <a:solidFill>
                  <a:srgbClr val="f4ee00"/>
                </a:solidFill>
                <a:latin typeface="Browallia New"/>
                <a:cs typeface="Browallia New"/>
              </a:rPr>
              <a:t>ปลูกจิตสำนึ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f4ee00"/>
                </a:solidFill>
                <a:latin typeface="Browallia New"/>
                <a:cs typeface="Browallia New"/>
              </a:rPr>
              <a:t>ค่านิยม คุณธรรม จริยธรรม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f4ee00"/>
                </a:solidFill>
                <a:latin typeface="Browallia New"/>
                <a:cs typeface="Browallia New"/>
              </a:rPr>
              <a:t>และสร้างวินัยแก่ทุกภาคส่ว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177120" y="357120"/>
            <a:ext cx="233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Browallia New"/>
                <a:ea typeface="Browallia New"/>
              </a:rPr>
              <a:t>1.1</a:t>
            </a:r>
            <a:r>
              <a:rPr b="0" lang="th-TH" sz="1200" spc="-1" strike="noStrike">
                <a:solidFill>
                  <a:srgbClr val="a50021"/>
                </a:solidFill>
                <a:latin typeface="Browallia New"/>
                <a:ea typeface="Browallia New"/>
              </a:rPr>
              <a:t>  </a:t>
            </a:r>
            <a:r>
              <a:rPr b="0" lang="th-TH" sz="1200" spc="-1" strike="noStrike">
                <a:solidFill>
                  <a:srgbClr val="a50021"/>
                </a:solidFill>
                <a:latin typeface="Browallia New"/>
                <a:cs typeface="Browallia New"/>
              </a:rPr>
              <a:t>ส่งเสริมการดำเนินชีวิตตามหลั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a50021"/>
                </a:solidFill>
                <a:latin typeface="Browallia New"/>
                <a:cs typeface="Browallia New"/>
              </a:rPr>
              <a:t>เศรษฐกิจพอเพีย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444600" y="78120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a50021"/>
                </a:solidFill>
                <a:latin typeface="Browallia New"/>
                <a:ea typeface="Browallia New"/>
              </a:rPr>
              <a:t>1.2 </a:t>
            </a:r>
            <a:r>
              <a:rPr b="0" lang="th-TH" sz="1200" spc="-1" strike="noStrike">
                <a:solidFill>
                  <a:srgbClr val="a50021"/>
                </a:solidFill>
                <a:latin typeface="Browallia New"/>
                <a:cs typeface="Browallia New"/>
              </a:rPr>
              <a:t>ส่งเสริมการเรียนรู้และปฏิบัติตามหลักคุณธรรม จริยธรรม และวินัยแก่ทุกภาคส่ว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8"/>
          <p:cNvSpPr/>
          <p:nvPr/>
        </p:nvSpPr>
        <p:spPr>
          <a:xfrm>
            <a:off x="2286000" y="3429000"/>
            <a:ext cx="2357280" cy="619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632523"/>
                </a:solidFill>
                <a:latin typeface="Browallia New"/>
                <a:cs typeface="Browallia New"/>
              </a:rPr>
              <a:t>ยุทธศาสตร์ที่ </a:t>
            </a:r>
            <a:r>
              <a:rPr b="1" lang="th-TH" sz="1300" spc="-1" strike="noStrike">
                <a:solidFill>
                  <a:srgbClr val="632523"/>
                </a:solidFill>
                <a:latin typeface="Browallia New"/>
                <a:ea typeface="Browallia New"/>
              </a:rPr>
              <a:t>3 </a:t>
            </a:r>
            <a:r>
              <a:rPr b="1" lang="th-TH" sz="1300" spc="-1" strike="noStrike">
                <a:solidFill>
                  <a:srgbClr val="632523"/>
                </a:solidFill>
                <a:latin typeface="Browallia New"/>
                <a:cs typeface="Browallia New"/>
              </a:rPr>
              <a:t>เสริมสร้างความ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" spc="-1" strike="noStrike">
                <a:solidFill>
                  <a:srgbClr val="632523"/>
                </a:solidFill>
                <a:latin typeface="Browallia New"/>
                <a:cs typeface="Browallia New"/>
              </a:rPr>
              <a:t>แข็งแกร่งแก่หน่วยงานต่อต้านการทุจริ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444600" y="1209600"/>
            <a:ext cx="296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a50021"/>
                </a:solidFill>
                <a:latin typeface="Browallia New"/>
                <a:ea typeface="Browallia New"/>
              </a:rPr>
              <a:t>1.3 </a:t>
            </a:r>
            <a:r>
              <a:rPr b="0" lang="th-TH" sz="1200" spc="-1" strike="noStrike">
                <a:solidFill>
                  <a:srgbClr val="a50021"/>
                </a:solidFill>
                <a:latin typeface="Browallia New"/>
                <a:cs typeface="Browallia New"/>
              </a:rPr>
              <a:t>กำหนดให้การศึกษาเป็นเครื่องมือในการป้องกันและปราบปรามการทุจริ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44600" y="1638360"/>
            <a:ext cx="29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a50021"/>
                </a:solidFill>
                <a:latin typeface="Browallia New"/>
                <a:ea typeface="Browallia New"/>
              </a:rPr>
              <a:t>1.4 </a:t>
            </a:r>
            <a:r>
              <a:rPr b="0" lang="th-TH" sz="1200" spc="-1" strike="noStrike">
                <a:solidFill>
                  <a:srgbClr val="a50021"/>
                </a:solidFill>
                <a:latin typeface="Browallia New"/>
                <a:cs typeface="Browallia New"/>
              </a:rPr>
              <a:t>ผลักดันให้ค่านิยมเชิดชูความดี ความซื่อสัตย์สุจริต และรังเกียจการทุจริตเป็นค่านิยมร่วมชา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5865840" y="3556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2.1 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ประชาสัมพันธ์การต่อต้านการทุจริ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5856120" y="666720"/>
            <a:ext cx="30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2.2 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เสริมสร้างกระบวนการมีส่วนร่วมของทุกภาคส่ว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5856120" y="952560"/>
            <a:ext cx="294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2.3 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เสริมสร้างความเข้มแข็งของเครือข่า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214200" y="3571920"/>
            <a:ext cx="219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3.1 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ส่งเสริมการสร้างความเป็นอิสระในการดำเนินงานอย่างแท้จริงแก่สำนักงาน ป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.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ป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.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ช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และองค์กรอิสระอื่นๆ ที่ทำหน้าที่เกี่ยวกั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การต่อต้านการทุจริ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177840" y="4384800"/>
            <a:ext cx="209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3.2 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สร้างกลไกการต่อต้านการทุจริตโดยการกระจายอำนาจการต่อต้านการทุจริตไปสู่ส่วนท้องถิ่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177840" y="495612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3.3 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เสริมสร้างการตรวจสอบถ่วงดุลอำนา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205000" y="4967280"/>
            <a:ext cx="223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3.6 </a:t>
            </a:r>
            <a:r>
              <a:rPr b="0" lang="th-TH" sz="12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เสริมสร้างความเข้มแข็งในการต่อต้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การรับสินบนและส่งเสริมความซื่อสัตย์สุจริ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ในภาคธุรกิจเอกช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2201760" y="5985000"/>
            <a:ext cx="216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3.8 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จัดทำดัชนีตัวชี้วัดความโปร่งใสในสังคมไท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2214720" y="5572080"/>
            <a:ext cx="208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3.7 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ส่งเสริมความร่วมมือกับองค์กรต่างประเท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177840" y="5813280"/>
            <a:ext cx="21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ea typeface="Browallia New"/>
              </a:rPr>
              <a:t>3.5 </a:t>
            </a: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เสริมสร้างความเข้มแข็งในการตรวจสอ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336600"/>
                </a:solidFill>
                <a:latin typeface="Browallia New"/>
                <a:cs typeface="Browallia New"/>
              </a:rPr>
              <a:t>ทรัพย์สินนักการเมือง ข้าราชการ และการทุจริตเชิงนโยบา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177840" y="5384880"/>
            <a:ext cx="16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3.4 </a:t>
            </a:r>
            <a:r>
              <a:rPr b="0" lang="th-TH" sz="12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เสริมสร้างประสิทธิภาพของกฎหมายต่อต้านการทุจริ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4998960" y="5452920"/>
            <a:ext cx="36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4.4 </a:t>
            </a:r>
            <a:r>
              <a:rPr b="0" lang="th-TH" sz="12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ส่งเสริมการสร้างองค์กรการจัดการความรู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8"/>
          <p:cNvSpPr/>
          <p:nvPr/>
        </p:nvSpPr>
        <p:spPr>
          <a:xfrm>
            <a:off x="4997520" y="572292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4.5 </a:t>
            </a:r>
            <a:r>
              <a:rPr b="0" lang="th-TH" sz="12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ส่งเสริมการสร้างศูนย์ข้อมูลสารสนเทศเกี่ยวกับการทุจริ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9"/>
          <p:cNvSpPr/>
          <p:nvPr/>
        </p:nvSpPr>
        <p:spPr>
          <a:xfrm>
            <a:off x="4998960" y="516744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4.3 </a:t>
            </a:r>
            <a:r>
              <a:rPr b="0" lang="th-TH" sz="12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ส่งเสริมความร่วมมือด้านวิชาการกับองค์กรต่างประเท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0"/>
          <p:cNvSpPr/>
          <p:nvPr/>
        </p:nvSpPr>
        <p:spPr>
          <a:xfrm>
            <a:off x="4998960" y="6024600"/>
            <a:ext cx="350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4.6 </a:t>
            </a:r>
            <a:r>
              <a:rPr b="0" lang="th-TH" sz="12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สร้างมาตรฐานหลักสูตรฝึกอบรมของหน่วยงานต่อต้านการทุจริ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4998960" y="473868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4.2 </a:t>
            </a:r>
            <a:r>
              <a:rPr b="0" lang="th-TH" sz="12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ส่งเสริมการสร้างมาตรฐานเส้นทางวิชาชีพของบุคลากรและมาตรฐานค่าตอบแทนพิเศ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2"/>
          <p:cNvSpPr/>
          <p:nvPr/>
        </p:nvSpPr>
        <p:spPr>
          <a:xfrm>
            <a:off x="4998960" y="4309920"/>
            <a:ext cx="38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4.1 </a:t>
            </a:r>
            <a:r>
              <a:rPr b="0" lang="th-TH" sz="12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ส่งเสริมการประพฤติตามมาตรฐานจรรยาบรรณวิชาชีพของบุคลาก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3300"/>
                </a:solidFill>
                <a:latin typeface="Browallia New"/>
                <a:cs typeface="Browallia New"/>
              </a:rPr>
              <a:t>ในหน่วยงานต่อต้านการทุจริตอย่างเคร่งครัด </a:t>
            </a:r>
            <a:r>
              <a:rPr b="0" lang="en-US" sz="1200" spc="-1" strike="noStrike">
                <a:solidFill>
                  <a:srgbClr val="003300"/>
                </a:solidFill>
                <a:latin typeface="Browallia New"/>
                <a:ea typeface="Browallia New"/>
              </a:rPr>
              <a:t>(Code of Condu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able 4" descr=""/>
          <p:cNvPicPr/>
          <p:nvPr/>
        </p:nvPicPr>
        <p:blipFill>
          <a:blip r:embed="rId1"/>
          <a:stretch/>
        </p:blipFill>
        <p:spPr>
          <a:xfrm>
            <a:off x="122400" y="2163600"/>
            <a:ext cx="3211200" cy="1506600"/>
          </a:xfrm>
          <a:prstGeom prst="rect">
            <a:avLst/>
          </a:prstGeom>
          <a:ln w="0">
            <a:noFill/>
          </a:ln>
        </p:spPr>
      </p:pic>
      <p:sp>
        <p:nvSpPr>
          <p:cNvPr id="80" name="Oval 5"/>
          <p:cNvSpPr/>
          <p:nvPr/>
        </p:nvSpPr>
        <p:spPr>
          <a:xfrm>
            <a:off x="357120" y="357120"/>
            <a:ext cx="2357640" cy="1000080"/>
          </a:xfrm>
          <a:prstGeom prst="ellipse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.1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งเสริมการดำเนินชีวิตตามหลักเศรษฐกิจพอเพีย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3571920" y="3500280"/>
            <a:ext cx="2500200" cy="1214640"/>
          </a:xfrm>
          <a:prstGeom prst="ellipse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.3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กำหนดให้การศึกษาเป็นเครื่องมือในการป้องกันและปราบปรามการทุจริ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357120" y="4714920"/>
            <a:ext cx="2714760" cy="1285920"/>
          </a:xfrm>
          <a:prstGeom prst="ellipse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.4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ผลักดันให้ค่านิยมเชิดชูความดี ความซื่อสัตย์สุจริต และรังเกียจการทุจริตเป็นค่านิยมร่วมชา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571840" y="21420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ส่งเสริมให้ความรู้เกี่ยวกับการดำเนินชีวิตตามหลักปรัชญาเศรษฐกิจพอเพีย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ประยุกต์ใช้หลักปรัชญาเศรษฐกิจพอเพียงให้เกิดผลในทางปฏิบ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6000840" y="128592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ส่งเสริมการประพฤติปฏิบัติตนตามประมวลหลักคุณธรรม จริยธรร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กำกับดูแลการประพฤติปฏิบัติตนให้เป็นไปตามประมวลหลักคุณธรรม จริยธรร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6143760" y="3214800"/>
            <a:ext cx="2928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กำหนดให้มีหลักสูตรทางการศึกษาและฝึกอบรมด้านการป้องกันและปราบปรา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การทุจริ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พัฒนาบุคลากรทางการศึกษาเพื่อให้เป็นต้นแบบที่ดีด้านคุณธรรม จริยธรรมและวินั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ติดตามประเมินผลการพัฒนาคุณธรรม จริยธรรม และวินัยในระบบการศึกษ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ส่งเสริมแหล่งเรียนรู้ด้านคุณธรรม จริยธรรม และวินั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071880" y="542916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cc3399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cc3399"/>
                </a:solidFill>
                <a:latin typeface="Browallia New"/>
                <a:cs typeface="Browallia New"/>
              </a:rPr>
              <a:t>เสริมสร้างแรงบันดาลใจในการกระทำความด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cc3399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cc3399"/>
                </a:solidFill>
                <a:latin typeface="Browallia New"/>
                <a:cs typeface="Browallia New"/>
              </a:rPr>
              <a:t>รณรงค์ประชาสัมพันธ์คุณธรรม จริยธรร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urved Connector 17"/>
          <p:cNvCxnSpPr>
            <a:endCxn id="80" idx="5"/>
          </p:cNvCxnSpPr>
          <p:nvPr/>
        </p:nvCxnSpPr>
        <p:spPr>
          <a:xfrm flipH="1" flipV="1" rot="5400000">
            <a:off x="1469160" y="1313280"/>
            <a:ext cx="1003680" cy="799200"/>
          </a:xfrm>
          <a:prstGeom prst="curvedConnector5">
            <a:avLst>
              <a:gd name="adj1" fmla="val 49982"/>
              <a:gd name="adj2" fmla="val 49977"/>
              <a:gd name="adj3" fmla="val 49982"/>
            </a:avLst>
          </a:prstGeom>
          <a:ln w="44280">
            <a:solidFill>
              <a:srgbClr val="4f6228"/>
            </a:solidFill>
            <a:miter/>
          </a:ln>
        </p:spPr>
      </p:cxnSp>
      <p:cxnSp>
        <p:nvCxnSpPr>
          <p:cNvPr id="88" name="Curved Connector 19"/>
          <p:cNvCxnSpPr/>
          <p:nvPr/>
        </p:nvCxnSpPr>
        <p:spPr>
          <a:xfrm flipV="1">
            <a:off x="2786040" y="1713960"/>
            <a:ext cx="643320" cy="50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4280">
            <a:solidFill>
              <a:srgbClr val="663300"/>
            </a:solidFill>
            <a:miter/>
          </a:ln>
        </p:spPr>
      </p:cxnSp>
      <p:cxnSp>
        <p:nvCxnSpPr>
          <p:cNvPr id="89" name="Shape 21"/>
          <p:cNvCxnSpPr>
            <a:endCxn id="81" idx="1"/>
          </p:cNvCxnSpPr>
          <p:nvPr/>
        </p:nvCxnSpPr>
        <p:spPr>
          <a:xfrm>
            <a:off x="3285720" y="3214440"/>
            <a:ext cx="653400" cy="464040"/>
          </a:xfrm>
          <a:prstGeom prst="curvedConnector2">
            <a:avLst/>
          </a:prstGeom>
          <a:ln w="44280">
            <a:solidFill>
              <a:srgbClr val="7030a0"/>
            </a:solidFill>
            <a:miter/>
          </a:ln>
        </p:spPr>
      </p:cxnSp>
      <p:cxnSp>
        <p:nvCxnSpPr>
          <p:cNvPr id="90" name="Curved Connector 23"/>
          <p:cNvCxnSpPr>
            <a:endCxn id="82" idx="0"/>
          </p:cNvCxnSpPr>
          <p:nvPr/>
        </p:nvCxnSpPr>
        <p:spPr>
          <a:xfrm rot="5400000">
            <a:off x="1249560" y="4107600"/>
            <a:ext cx="1072440" cy="143280"/>
          </a:xfrm>
          <a:prstGeom prst="curvedConnector5">
            <a:avLst>
              <a:gd name="adj1" fmla="val 50000"/>
              <a:gd name="adj2" fmla="val 49874"/>
              <a:gd name="adj3" fmla="val 50000"/>
            </a:avLst>
          </a:prstGeom>
          <a:ln w="44280">
            <a:solidFill>
              <a:srgbClr val="ff00ff"/>
            </a:solidFill>
            <a:miter/>
          </a:ln>
        </p:spPr>
      </p:cxnSp>
      <p:sp>
        <p:nvSpPr>
          <p:cNvPr id="91" name="Oval 6"/>
          <p:cNvSpPr/>
          <p:nvPr/>
        </p:nvSpPr>
        <p:spPr>
          <a:xfrm>
            <a:off x="3357720" y="1214280"/>
            <a:ext cx="2571480" cy="121464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.2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งเสริมการเรียนรู้และปฏิบัติตามหลักคุณธรรม จริยธรรม และวินัยแก่ทุกภาคส่ว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able 4" descr=""/>
          <p:cNvPicPr/>
          <p:nvPr/>
        </p:nvPicPr>
        <p:blipFill>
          <a:blip r:embed="rId1"/>
          <a:stretch/>
        </p:blipFill>
        <p:spPr>
          <a:xfrm>
            <a:off x="122400" y="2163600"/>
            <a:ext cx="3211200" cy="1219320"/>
          </a:xfrm>
          <a:prstGeom prst="rect">
            <a:avLst/>
          </a:prstGeom>
          <a:ln w="0">
            <a:noFill/>
          </a:ln>
        </p:spPr>
      </p:pic>
      <p:sp>
        <p:nvSpPr>
          <p:cNvPr id="93" name="Oval 5"/>
          <p:cNvSpPr/>
          <p:nvPr/>
        </p:nvSpPr>
        <p:spPr>
          <a:xfrm>
            <a:off x="357120" y="785880"/>
            <a:ext cx="2357640" cy="714240"/>
          </a:xfrm>
          <a:prstGeom prst="ellipse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.1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ระชาสัมพันธ์การต่อต้านการทุจริ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3714840" y="2428920"/>
            <a:ext cx="2428920" cy="92880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.2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เสริมสร้างกระบวนการมีส่วนร่วมของทุกภาคส่ว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642960" y="4357800"/>
            <a:ext cx="2428920" cy="928440"/>
          </a:xfrm>
          <a:prstGeom prst="ellipse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.3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เสริมสร้างความเข้มแข็งของเครือข่า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714760" y="214200"/>
            <a:ext cx="5715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จัดทำแผนแม่บทด้านการประชาสัมพันธ์ป้องกันการทุจริ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ส่งเสริมให้สื่อมวลชนมีจิตสำนึกสาธารณะและจรรยาบรร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รวบรวมข้อมูล ข่าวสาร งานวิจัย และงานวิชาการด้านการป้องกันและปราบปรามการทุจริ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จัดทำและเผยแพร่สื่อสร้างสรรค์ในการต่อต้านการทุจริ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6143760" y="228600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สร้างกระบวนการเรียน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พัฒนาช่องทางในการแจ้งเบาะแสให้ง่าย หลากหลายและปลอดภั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กำหนดมาตรการจูงใจผู้แจ้งข้อมูล เบาะแ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3071880" y="4214880"/>
            <a:ext cx="3000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สนับสนุนระบบการจัดการของเครือข่า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เสริมสร้างขวัญกำลังใจแก่เครือข่ายทุกภาคส่ว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3152"/>
              </a:buClr>
              <a:buFont typeface="Browalli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กำกับ ติดตาม และประเมินผลการดำเนินง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ของเครือข่า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Curved Connector 17"/>
          <p:cNvCxnSpPr>
            <a:endCxn id="93" idx="5"/>
          </p:cNvCxnSpPr>
          <p:nvPr/>
        </p:nvCxnSpPr>
        <p:spPr>
          <a:xfrm flipH="1" flipV="1" rot="5400000">
            <a:off x="1560960" y="1405440"/>
            <a:ext cx="820080" cy="799200"/>
          </a:xfrm>
          <a:prstGeom prst="curvedConnector5">
            <a:avLst>
              <a:gd name="adj1" fmla="val 49978"/>
              <a:gd name="adj2" fmla="val 49977"/>
              <a:gd name="adj3" fmla="val 49978"/>
            </a:avLst>
          </a:prstGeom>
          <a:ln w="44280">
            <a:solidFill>
              <a:srgbClr val="4f6228"/>
            </a:solidFill>
            <a:miter/>
          </a:ln>
        </p:spPr>
      </p:cxnSp>
      <p:cxnSp>
        <p:nvCxnSpPr>
          <p:cNvPr id="100" name="Curved Connector 20"/>
          <p:cNvCxnSpPr>
            <a:endCxn id="95" idx="0"/>
          </p:cNvCxnSpPr>
          <p:nvPr/>
        </p:nvCxnSpPr>
        <p:spPr>
          <a:xfrm flipH="1" rot="16200000">
            <a:off x="1321560" y="3821760"/>
            <a:ext cx="1000800" cy="72000"/>
          </a:xfrm>
          <a:prstGeom prst="curvedConnector5">
            <a:avLst>
              <a:gd name="adj1" fmla="val 49982"/>
              <a:gd name="adj2" fmla="val 49748"/>
              <a:gd name="adj3" fmla="val 49982"/>
            </a:avLst>
          </a:prstGeom>
          <a:ln w="44280">
            <a:solidFill>
              <a:srgbClr val="7030a0"/>
            </a:solidFill>
            <a:miter/>
          </a:ln>
        </p:spPr>
      </p:cxnSp>
      <p:cxnSp>
        <p:nvCxnSpPr>
          <p:cNvPr id="101" name="Shape 24"/>
          <p:cNvCxnSpPr>
            <a:endCxn id="94" idx="0"/>
          </p:cNvCxnSpPr>
          <p:nvPr/>
        </p:nvCxnSpPr>
        <p:spPr>
          <a:xfrm flipV="1">
            <a:off x="3286080" y="2428560"/>
            <a:ext cx="1643760" cy="286560"/>
          </a:xfrm>
          <a:prstGeom prst="curvedConnector5">
            <a:avLst>
              <a:gd name="adj1" fmla="val 13033"/>
              <a:gd name="adj2" fmla="val 89937"/>
              <a:gd name="adj3" fmla="val 13033"/>
            </a:avLst>
          </a:prstGeom>
          <a:ln w="44280">
            <a:solidFill>
              <a:srgbClr val="583b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2" name="Curved Connector 43"/>
          <p:cNvCxnSpPr>
            <a:endCxn id="103" idx="1"/>
          </p:cNvCxnSpPr>
          <p:nvPr/>
        </p:nvCxnSpPr>
        <p:spPr>
          <a:xfrm rot="5400000">
            <a:off x="291240" y="3308400"/>
            <a:ext cx="373680" cy="329040"/>
          </a:xfrm>
          <a:prstGeom prst="curvedConnector5">
            <a:avLst>
              <a:gd name="adj1" fmla="val 49951"/>
              <a:gd name="adj2" fmla="val 49945"/>
              <a:gd name="adj3" fmla="val 49951"/>
            </a:avLst>
          </a:prstGeom>
          <a:ln w="44280">
            <a:solidFill>
              <a:srgbClr val="ff00ff"/>
            </a:solidFill>
            <a:miter/>
          </a:ln>
        </p:spPr>
      </p:cxnSp>
      <p:pic>
        <p:nvPicPr>
          <p:cNvPr id="104" name="Table 4" descr=""/>
          <p:cNvPicPr/>
          <p:nvPr/>
        </p:nvPicPr>
        <p:blipFill>
          <a:blip r:embed="rId1"/>
          <a:stretch/>
        </p:blipFill>
        <p:spPr>
          <a:xfrm>
            <a:off x="122400" y="2163600"/>
            <a:ext cx="321120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Oval 5"/>
          <p:cNvSpPr/>
          <p:nvPr/>
        </p:nvSpPr>
        <p:spPr>
          <a:xfrm>
            <a:off x="0" y="285840"/>
            <a:ext cx="2643120" cy="1643040"/>
          </a:xfrm>
          <a:prstGeom prst="ellipse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3.1 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งเสริมการสร้างความเป็นอิสระในการดำเนินงานอย่างแท้จริงแก่สำนักงาน ป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ช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 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และองค์กรอิสระอื่นๆ ที่ทำหน้าที่เกี่ยวกั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การต่อต้านการทุจร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3929040" y="0"/>
            <a:ext cx="2214720" cy="117000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3.2 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ร้างกลไกการต่อต้านการทุจริตโดยการกระจายอำนาจการต่อต้านการทุจริตไปสู่ส่วนท้องถิ่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3429000" y="1428840"/>
            <a:ext cx="1928880" cy="1000080"/>
          </a:xfrm>
          <a:prstGeom prst="ellipse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3.3 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เสริมสร้างการตรวจสอบถ่วงดุลอำนา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0" y="3429000"/>
            <a:ext cx="2143080" cy="1571760"/>
          </a:xfrm>
          <a:prstGeom prst="ellipse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3.5 </a:t>
            </a:r>
            <a:r>
              <a:rPr b="1" lang="th-TH" sz="1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เสริมสร้างความเข้มแข็งในการตรวจสอบทรัพย์สินนักการเมือง ข้าราชการ และการทุจริตเชิงนโยบา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286000" y="0"/>
            <a:ext cx="171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ปรับปรุงการบริหารงานบุคค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เพิ่มประสิทธิภาพการบริหารงบประมา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6143760" y="0"/>
            <a:ext cx="300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ส่งเสริมให้มีการร่วมมือประสานงานระหว่างสำนักงาน ป</a:t>
            </a:r>
            <a:r>
              <a:rPr b="0" lang="th-TH" sz="14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.</a:t>
            </a:r>
            <a:r>
              <a:rPr b="0" lang="th-TH" sz="14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ป</a:t>
            </a:r>
            <a:r>
              <a:rPr b="0" lang="th-TH" sz="14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.</a:t>
            </a:r>
            <a:r>
              <a:rPr b="0" lang="th-TH" sz="14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ช</a:t>
            </a:r>
            <a:r>
              <a:rPr b="0" lang="th-TH" sz="14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. </a:t>
            </a:r>
            <a:r>
              <a:rPr b="0" lang="th-TH" sz="14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และหน่วยงานที่เกี่ยวข้องกับการบังคับใช้กฎหมา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ส่งเสริมให้มีการปรับปรุงโครงสร้างการป้องกันและปราบปรามการทุจริ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5357880" y="1285920"/>
            <a:ext cx="3786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ส่งเสริมให้มีการสร้างความเข้มแข็งให้แก่หน่วยงานตรวจสอบภายใ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เสริมสร้างความแข็งแกร่งให้แก่หน่วยงานตรวจสอบภายนอ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ส่งเสริมการปฏิบัติตามมาตรการให้คณะกรรมการ ป</a:t>
            </a:r>
            <a:r>
              <a:rPr b="0" lang="th-TH" sz="14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.</a:t>
            </a:r>
            <a:r>
              <a:rPr b="0" lang="th-TH" sz="14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ป</a:t>
            </a:r>
            <a:r>
              <a:rPr b="0" lang="th-TH" sz="14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.</a:t>
            </a:r>
            <a:r>
              <a:rPr b="0" lang="th-TH" sz="14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ช</a:t>
            </a:r>
            <a:r>
              <a:rPr b="0" lang="th-TH" sz="1400" spc="-1" strike="noStrike">
                <a:solidFill>
                  <a:srgbClr val="403152"/>
                </a:solidFill>
                <a:latin typeface="Browallia New"/>
                <a:ea typeface="Browallia New"/>
              </a:rPr>
              <a:t>. </a:t>
            </a:r>
            <a:r>
              <a:rPr b="0" lang="th-TH" sz="1400" spc="-1" strike="noStrike">
                <a:solidFill>
                  <a:srgbClr val="403152"/>
                </a:solidFill>
                <a:latin typeface="Browallia New"/>
                <a:cs typeface="Browallia New"/>
              </a:rPr>
              <a:t>มาจากผู้แทนหลายองค์กรรวมทั้งภาคเอกชนอย่างเคร่งคร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71280" y="4970520"/>
            <a:ext cx="2000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cc3399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cc3399"/>
                </a:solidFill>
                <a:latin typeface="Browallia New"/>
                <a:cs typeface="Browallia New"/>
              </a:rPr>
              <a:t>ส่งเสริมการตรวจสอบทรัพย์สินให้มีประสิทธิ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cc3399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cc3399"/>
                </a:solidFill>
                <a:latin typeface="Browallia New"/>
                <a:cs typeface="Browallia New"/>
              </a:rPr>
              <a:t>ส่งเสริมให้มีระบบสารสนเทศที่ทันสมัยมาใช้ในการบริหารจัด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cc3399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cc3399"/>
                </a:solidFill>
                <a:latin typeface="Browallia New"/>
                <a:cs typeface="Browallia New"/>
              </a:rPr>
              <a:t>ส่งเสริมมาตรการตรวจสอบทรัพย์สิ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Curved Connector 17"/>
          <p:cNvCxnSpPr/>
          <p:nvPr/>
        </p:nvCxnSpPr>
        <p:spPr>
          <a:xfrm flipV="1" rot="16200000">
            <a:off x="1091520" y="1948680"/>
            <a:ext cx="500760" cy="173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4280">
            <a:solidFill>
              <a:srgbClr val="77933c"/>
            </a:solidFill>
            <a:miter/>
          </a:ln>
        </p:spPr>
      </p:cxnSp>
      <p:sp>
        <p:nvSpPr>
          <p:cNvPr id="113" name="Oval 18"/>
          <p:cNvSpPr/>
          <p:nvPr/>
        </p:nvSpPr>
        <p:spPr>
          <a:xfrm>
            <a:off x="3857760" y="3000240"/>
            <a:ext cx="1928520" cy="9288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d0d0d"/>
                </a:solidFill>
                <a:latin typeface="Browallia New"/>
                <a:ea typeface="Browallia New"/>
              </a:rPr>
              <a:t>3.4 </a:t>
            </a:r>
            <a:r>
              <a:rPr b="1" lang="th-TH" sz="1500" spc="-1" strike="noStrike">
                <a:solidFill>
                  <a:srgbClr val="0d0d0d"/>
                </a:solidFill>
                <a:latin typeface="Browallia New"/>
                <a:cs typeface="Browallia New"/>
              </a:rPr>
              <a:t>เสริมสร้างประสิทธิภาพของกฎหมายต่อต้า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d0d0d"/>
                </a:solidFill>
                <a:latin typeface="Browallia New"/>
                <a:cs typeface="Browallia New"/>
              </a:rPr>
              <a:t>การทุจริ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4071960" y="4000680"/>
            <a:ext cx="18572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c0bb00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c0bb00"/>
                </a:solidFill>
                <a:latin typeface="Browallia New"/>
                <a:cs typeface="Browallia New"/>
              </a:rPr>
              <a:t>ส่งเสริมการปฏิบัติตามกฎหมายที่เกี่ยวกับการกำหนดอำนาจหน้าที่ของบุคลากรอย่างเคร่งคร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c0bb00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c0bb00"/>
                </a:solidFill>
                <a:latin typeface="Browallia New"/>
                <a:cs typeface="Browallia New"/>
              </a:rPr>
              <a:t>ผลักดันให้มีการปรับปรุงระเบียบให้สอดคล้องกับกฎหมายที่ใช้เป็นมาตรการในการป้องกันและปราบปรามการทุจริ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c0bb00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c0bb00"/>
                </a:solidFill>
                <a:latin typeface="Browallia New"/>
                <a:cs typeface="Browallia New"/>
              </a:rPr>
              <a:t>ผลักดันให้มีการบังคับใช้กฎหมายอย่างเคร่งครั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6715080" y="2500200"/>
            <a:ext cx="2428920" cy="12146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0d0d0d"/>
                </a:solidFill>
                <a:latin typeface="Browallia New"/>
                <a:ea typeface="Browallia New"/>
              </a:rPr>
              <a:t>3.6 </a:t>
            </a:r>
            <a:r>
              <a:rPr b="1" lang="th-TH" sz="1500" spc="-1" strike="noStrike">
                <a:solidFill>
                  <a:srgbClr val="0d0d0d"/>
                </a:solidFill>
                <a:latin typeface="Browallia New"/>
                <a:cs typeface="Browallia New"/>
              </a:rPr>
              <a:t>เสริมสร้างความเข้มแข็งในการต่อต้านการรับสินบนและส่งเสริมความซื่อสัตย์สุจริตในภาคธุรกิจเอกช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7500960" y="3786120"/>
            <a:ext cx="1643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6600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ff6600"/>
                </a:solidFill>
                <a:latin typeface="Browallia New"/>
                <a:cs typeface="Browallia New"/>
              </a:rPr>
              <a:t>ดำเนินมาตรการที่มีผลต่อการปราบปรามการรับสินบ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Browalli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6600"/>
                </a:solidFill>
                <a:latin typeface="Browallia New"/>
                <a:cs typeface="Browallia New"/>
              </a:rPr>
              <a:t>สร้างความเข้มแข็งให้แก่กระบวนการสอบสวนและฟ้องร้องคด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Browalli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6600"/>
                </a:solidFill>
                <a:latin typeface="Browallia New"/>
                <a:cs typeface="Browallia New"/>
              </a:rPr>
              <a:t>ส่งเสริมให้มีความรับผิดชอบของบริษัทธุรกิ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>
            <a:off x="2143080" y="3643200"/>
            <a:ext cx="1857600" cy="714600"/>
          </a:xfrm>
          <a:prstGeom prst="ellipse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2f2f2"/>
                </a:solidFill>
                <a:latin typeface="Browallia New"/>
                <a:ea typeface="Browallia New"/>
              </a:rPr>
              <a:t>3.7 </a:t>
            </a:r>
            <a:r>
              <a:rPr b="1" lang="th-TH" sz="1500" spc="-1" strike="noStrike">
                <a:solidFill>
                  <a:srgbClr val="f2f2f2"/>
                </a:solidFill>
                <a:latin typeface="Browallia New"/>
                <a:cs typeface="Browallia New"/>
              </a:rPr>
              <a:t>ส่งเสริมความร่วมมือกับองค์กรต่างประเท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2214720" y="4395960"/>
            <a:ext cx="1928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6666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006666"/>
                </a:solidFill>
                <a:latin typeface="Browallia New"/>
                <a:cs typeface="Browallia New"/>
              </a:rPr>
              <a:t>ส่งเสริมผลักดันให้หน่วยงานต่อต้านการทุจริตภายในประเทศเข้าร่วมพันธกรณีเป็นสมาชกองค์กรต่อต้านการทุจริตระดับนานา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6666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006666"/>
                </a:solidFill>
                <a:latin typeface="Browallia New"/>
                <a:cs typeface="Browallia New"/>
              </a:rPr>
              <a:t>ส่งเสริมความร่วมมือในการนำทรัพย์สินกลับคืนประเท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6666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006666"/>
                </a:solidFill>
                <a:latin typeface="Browallia New"/>
                <a:cs typeface="Browallia New"/>
              </a:rPr>
              <a:t>ส่งเสริมความร่วมมือในการส่งผู้ร้ายข้ามแด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7"/>
          <p:cNvSpPr/>
          <p:nvPr/>
        </p:nvSpPr>
        <p:spPr>
          <a:xfrm>
            <a:off x="6000840" y="3714840"/>
            <a:ext cx="1428840" cy="104148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500" spc="-1" strike="noStrike">
                <a:solidFill>
                  <a:srgbClr val="f2f2f2"/>
                </a:solidFill>
                <a:latin typeface="Browallia New"/>
                <a:ea typeface="Browallia New"/>
              </a:rPr>
              <a:t>3.8 </a:t>
            </a:r>
            <a:r>
              <a:rPr b="1" lang="th-TH" sz="1500" spc="-1" strike="noStrike">
                <a:solidFill>
                  <a:srgbClr val="f2f2f2"/>
                </a:solidFill>
                <a:latin typeface="Browallia New"/>
                <a:cs typeface="Browallia New"/>
              </a:rPr>
              <a:t>จัดทำดัชนีตัวชี้วัดความโปร่งใสในสังคมไท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6000840" y="4756320"/>
            <a:ext cx="1428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583b00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583b00"/>
                </a:solidFill>
                <a:latin typeface="Browallia New"/>
                <a:cs typeface="Browallia New"/>
              </a:rPr>
              <a:t>จัดทำเกณฑ์มาตรฐานกลางความโปร่งใสในสังคมไท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583b00"/>
                </a:solidFill>
                <a:latin typeface="Browallia New"/>
                <a:ea typeface="Browallia New"/>
              </a:rPr>
              <a:t>- </a:t>
            </a:r>
            <a:r>
              <a:rPr b="0" lang="th-TH" sz="1400" spc="-1" strike="noStrike">
                <a:solidFill>
                  <a:srgbClr val="583b00"/>
                </a:solidFill>
                <a:latin typeface="Browallia New"/>
                <a:cs typeface="Browallia New"/>
              </a:rPr>
              <a:t>จัดตั้งองค์กรกลางที่ทำหน้าที่ควบคุมดูแลมาตรฐานกลา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Curved Connector 32"/>
          <p:cNvCxnSpPr>
            <a:endCxn id="106" idx="2"/>
          </p:cNvCxnSpPr>
          <p:nvPr/>
        </p:nvCxnSpPr>
        <p:spPr>
          <a:xfrm flipV="1">
            <a:off x="1928880" y="583560"/>
            <a:ext cx="2000880" cy="16311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44280">
            <a:solidFill>
              <a:srgbClr val="663300"/>
            </a:solidFill>
            <a:miter/>
          </a:ln>
        </p:spPr>
      </p:cxnSp>
      <p:cxnSp>
        <p:nvCxnSpPr>
          <p:cNvPr id="122" name="Curved Connector 35"/>
          <p:cNvCxnSpPr>
            <a:endCxn id="107" idx="2"/>
          </p:cNvCxnSpPr>
          <p:nvPr/>
        </p:nvCxnSpPr>
        <p:spPr>
          <a:xfrm flipV="1">
            <a:off x="2786040" y="1928520"/>
            <a:ext cx="64332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44280">
            <a:solidFill>
              <a:srgbClr val="604a7b"/>
            </a:solidFill>
            <a:miter/>
          </a:ln>
        </p:spPr>
      </p:cxnSp>
      <p:cxnSp>
        <p:nvCxnSpPr>
          <p:cNvPr id="123" name="Curved Connector 37"/>
          <p:cNvCxnSpPr>
            <a:endCxn id="113" idx="2"/>
          </p:cNvCxnSpPr>
          <p:nvPr/>
        </p:nvCxnSpPr>
        <p:spPr>
          <a:xfrm flipH="1" rot="16200000">
            <a:off x="3268800" y="2874600"/>
            <a:ext cx="606960" cy="572400"/>
          </a:xfrm>
          <a:prstGeom prst="curvedConnector2">
            <a:avLst/>
          </a:prstGeom>
          <a:ln w="44280">
            <a:solidFill>
              <a:srgbClr val="ffc000"/>
            </a:solidFill>
            <a:miter/>
          </a:ln>
        </p:spPr>
      </p:cxnSp>
      <p:cxnSp>
        <p:nvCxnSpPr>
          <p:cNvPr id="124" name="Shape 39"/>
          <p:cNvCxnSpPr>
            <a:endCxn id="119" idx="0"/>
          </p:cNvCxnSpPr>
          <p:nvPr/>
        </p:nvCxnSpPr>
        <p:spPr>
          <a:xfrm>
            <a:off x="3285720" y="2642760"/>
            <a:ext cx="3429720" cy="1072440"/>
          </a:xfrm>
          <a:prstGeom prst="curvedConnector2">
            <a:avLst/>
          </a:prstGeom>
          <a:ln w="44280">
            <a:solidFill>
              <a:srgbClr val="996633"/>
            </a:solidFill>
            <a:miter/>
          </a:ln>
        </p:spPr>
      </p:cxnSp>
      <p:cxnSp>
        <p:nvCxnSpPr>
          <p:cNvPr id="125" name="Curved Connector 41"/>
          <p:cNvCxnSpPr>
            <a:endCxn id="117" idx="0"/>
          </p:cNvCxnSpPr>
          <p:nvPr/>
        </p:nvCxnSpPr>
        <p:spPr>
          <a:xfrm flipH="1" rot="16200000">
            <a:off x="2892240" y="3464280"/>
            <a:ext cx="28620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4280">
            <a:solidFill>
              <a:srgbClr val="3366cc"/>
            </a:solidFill>
            <a:miter/>
          </a:ln>
        </p:spPr>
      </p:cxnSp>
      <p:cxnSp>
        <p:nvCxnSpPr>
          <p:cNvPr id="126" name="Curved Connector 45"/>
          <p:cNvCxnSpPr>
            <a:endCxn id="115" idx="1"/>
          </p:cNvCxnSpPr>
          <p:nvPr/>
        </p:nvCxnSpPr>
        <p:spPr>
          <a:xfrm>
            <a:off x="3285720" y="2571480"/>
            <a:ext cx="3785400" cy="106920"/>
          </a:xfrm>
          <a:prstGeom prst="curvedConnector5">
            <a:avLst>
              <a:gd name="adj1" fmla="val 45291"/>
              <a:gd name="adj2" fmla="val -140878"/>
              <a:gd name="adj3" fmla="val 45291"/>
            </a:avLst>
          </a:prstGeom>
          <a:ln w="44280">
            <a:solidFill>
              <a:srgbClr val="ff66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able 4" descr=""/>
          <p:cNvPicPr/>
          <p:nvPr/>
        </p:nvPicPr>
        <p:blipFill>
          <a:blip r:embed="rId1"/>
          <a:stretch/>
        </p:blipFill>
        <p:spPr>
          <a:xfrm>
            <a:off x="122400" y="2163600"/>
            <a:ext cx="3211200" cy="1567080"/>
          </a:xfrm>
          <a:prstGeom prst="rect">
            <a:avLst/>
          </a:prstGeom>
          <a:ln w="0">
            <a:noFill/>
          </a:ln>
        </p:spPr>
      </p:pic>
      <p:sp>
        <p:nvSpPr>
          <p:cNvPr id="128" name="Oval 5"/>
          <p:cNvSpPr/>
          <p:nvPr/>
        </p:nvSpPr>
        <p:spPr>
          <a:xfrm>
            <a:off x="0" y="357120"/>
            <a:ext cx="2928960" cy="1428840"/>
          </a:xfrm>
          <a:prstGeom prst="ellipse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4.1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งเสริมการประพฤติตามมาตรฐานจรรยาบรรณวิชาชีพของบุคลากรในหน่วยงานต่อต้านการทุจริตอย่างเคร่งครัด </a:t>
            </a:r>
            <a:r>
              <a:rPr b="1" lang="en-US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(Code of Condu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429000" y="1285920"/>
            <a:ext cx="2500200" cy="12859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4.2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งเสริมการสร้างมาตรฐานเส้นทางวิชาชีพของบุคลากรและมาตรฐานค่าตอบแทนพิเศ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500280" y="2928960"/>
            <a:ext cx="2571840" cy="1000080"/>
          </a:xfrm>
          <a:prstGeom prst="ellipse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4.3 </a:t>
            </a:r>
            <a:r>
              <a:rPr b="1" lang="th-TH" sz="16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่งเสริมความร่วมมือด้านวิชาการกับองค์กรต่างประเท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2786040" y="71280"/>
            <a:ext cx="5929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ส่งเสริมผลักดันให้หน่วยงานบังคับใช้กฎหมายทุกหน่วยงานสร้างมาตรฐานจรรยาบรรณวิชาชี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4f6228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4f6228"/>
                </a:solidFill>
                <a:latin typeface="Browallia New"/>
                <a:cs typeface="Browallia New"/>
              </a:rPr>
              <a:t>ส่งเสริมให้หน่วยงานบังคับใช้กฎหมายทุกหน่วยงานมีการติดตามประเมินผลการปฏิบัติงานตามมาตรฐานจรรยาบรรณวิชาชี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6000840" y="928800"/>
            <a:ext cx="3143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ส่งเสริมให้หน่วยงานต่อต้านการทุจริตและหน่วยงานบังคับใช้กฎหมายที่เกี่ยวข้องจัดทำแผนบริหารงานบุคค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ส่งเสริมให้การบริหารงานบุคคลของหน่วยงานต่อต้านการทุจริตมีความเป็นอิสระอย่างแท้จริ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984807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984807"/>
                </a:solidFill>
                <a:latin typeface="Browallia New"/>
                <a:cs typeface="Browallia New"/>
              </a:rPr>
              <a:t>ผลักดันให้มีบรรทัดฐานในการกำหนดค่าตอบแทนพิเศษแก่บุคลาก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Curved Connector 17"/>
          <p:cNvCxnSpPr>
            <a:endCxn id="128" idx="5"/>
          </p:cNvCxnSpPr>
          <p:nvPr/>
        </p:nvCxnSpPr>
        <p:spPr>
          <a:xfrm flipV="1">
            <a:off x="1571400" y="1575720"/>
            <a:ext cx="929160" cy="639000"/>
          </a:xfrm>
          <a:prstGeom prst="curvedConnector2">
            <a:avLst/>
          </a:prstGeom>
          <a:ln w="38160">
            <a:solidFill>
              <a:srgbClr val="4f6228"/>
            </a:solidFill>
            <a:miter/>
          </a:ln>
        </p:spPr>
      </p:cxnSp>
      <p:sp>
        <p:nvSpPr>
          <p:cNvPr id="134" name="Oval 13"/>
          <p:cNvSpPr/>
          <p:nvPr/>
        </p:nvSpPr>
        <p:spPr>
          <a:xfrm>
            <a:off x="3714840" y="5357880"/>
            <a:ext cx="2357280" cy="9288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d0d0d"/>
                </a:solidFill>
                <a:latin typeface="Browallia New"/>
                <a:ea typeface="Browallia New"/>
              </a:rPr>
              <a:t>4.4 </a:t>
            </a:r>
            <a:r>
              <a:rPr b="1" lang="th-TH" sz="1600" spc="-1" strike="noStrike">
                <a:solidFill>
                  <a:srgbClr val="0d0d0d"/>
                </a:solidFill>
                <a:latin typeface="Browallia New"/>
                <a:cs typeface="Browallia New"/>
              </a:rPr>
              <a:t>ส่งเสริมการสร้างองค์กรการจัดการความ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5"/>
          <p:cNvSpPr/>
          <p:nvPr/>
        </p:nvSpPr>
        <p:spPr>
          <a:xfrm>
            <a:off x="142920" y="3857760"/>
            <a:ext cx="2571840" cy="1071360"/>
          </a:xfrm>
          <a:prstGeom prst="ellipse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2f2f2"/>
                </a:solidFill>
                <a:latin typeface="Browallia New"/>
                <a:ea typeface="Browallia New"/>
              </a:rPr>
              <a:t>4.6 </a:t>
            </a:r>
            <a:r>
              <a:rPr b="1" lang="th-TH" sz="1600" spc="-1" strike="noStrike">
                <a:solidFill>
                  <a:srgbClr val="f2f2f2"/>
                </a:solidFill>
                <a:latin typeface="Browallia New"/>
                <a:cs typeface="Browallia New"/>
              </a:rPr>
              <a:t>สร้างมาตรฐานหลักสูตรฝึกอบรมของหน่วยงานต่อต้านการทุจริ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6"/>
          <p:cNvSpPr/>
          <p:nvPr/>
        </p:nvSpPr>
        <p:spPr>
          <a:xfrm>
            <a:off x="71280" y="5072040"/>
            <a:ext cx="3429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66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006666"/>
                </a:solidFill>
                <a:latin typeface="Browallia New"/>
                <a:cs typeface="Browallia New"/>
              </a:rPr>
              <a:t>ส่งเสริมให้หน่วยงานต่อต้านการทุจริตมีหลักสูตรฝึกอบรมที่มีมาตรฐ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66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006666"/>
                </a:solidFill>
                <a:latin typeface="Browallia New"/>
                <a:cs typeface="Browallia New"/>
              </a:rPr>
              <a:t>ส่งเสริมให้หน่วยงานต่อต้านการทุจริตจัดตั้งศูนย์ฝึกอบรมภายในหน่วยง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6666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006666"/>
                </a:solidFill>
                <a:latin typeface="Browallia New"/>
                <a:cs typeface="Browallia New"/>
              </a:rPr>
              <a:t>สนับสนุนงบประมาณรวมทั้งหมาแหล่งเงินทุนสนับสนุนจากแหล่งเงินนอก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7"/>
          <p:cNvSpPr/>
          <p:nvPr/>
        </p:nvSpPr>
        <p:spPr>
          <a:xfrm>
            <a:off x="6429240" y="3786120"/>
            <a:ext cx="2500560" cy="107172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2f2f2"/>
                </a:solidFill>
                <a:latin typeface="Browallia New"/>
                <a:ea typeface="Browallia New"/>
              </a:rPr>
              <a:t>4.5 </a:t>
            </a:r>
            <a:r>
              <a:rPr b="1" lang="th-TH" sz="1600" spc="-1" strike="noStrike">
                <a:solidFill>
                  <a:srgbClr val="f2f2f2"/>
                </a:solidFill>
                <a:latin typeface="Browallia New"/>
                <a:cs typeface="Browallia New"/>
              </a:rPr>
              <a:t>ส่งเสริมการสร้างศูนย์ข้อมูลสารสนเทศเกี่ยวกับการทุจริ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6643800" y="492912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83b00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583b00"/>
                </a:solidFill>
                <a:latin typeface="Browallia New"/>
                <a:cs typeface="Browallia New"/>
              </a:rPr>
              <a:t>ผลักดันให้มีการจัดตั้งศูนย์ข้อมูลสารสนเทศกลา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583b00"/>
                </a:solidFill>
                <a:latin typeface="Browallia New"/>
                <a:ea typeface="Browallia New"/>
              </a:rPr>
              <a:t>- </a:t>
            </a:r>
            <a:r>
              <a:rPr b="0" lang="th-TH" sz="1600" spc="-1" strike="noStrike">
                <a:solidFill>
                  <a:srgbClr val="583b00"/>
                </a:solidFill>
                <a:latin typeface="Browallia New"/>
                <a:cs typeface="Browallia New"/>
              </a:rPr>
              <a:t>ส่งเสริมให้มีการพัฒนาฐานข้อมู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hape 33"/>
          <p:cNvCxnSpPr>
            <a:endCxn id="135" idx="6"/>
          </p:cNvCxnSpPr>
          <p:nvPr/>
        </p:nvCxnSpPr>
        <p:spPr>
          <a:xfrm rot="5400000">
            <a:off x="2445840" y="3982680"/>
            <a:ext cx="680040" cy="143640"/>
          </a:xfrm>
          <a:prstGeom prst="curvedConnector2">
            <a:avLst/>
          </a:prstGeom>
          <a:ln w="38160">
            <a:solidFill>
              <a:srgbClr val="006666"/>
            </a:solidFill>
            <a:miter/>
          </a:ln>
        </p:spPr>
      </p:cxnSp>
      <p:cxnSp>
        <p:nvCxnSpPr>
          <p:cNvPr id="140" name="Curved Connector 35"/>
          <p:cNvCxnSpPr>
            <a:endCxn id="129" idx="2"/>
          </p:cNvCxnSpPr>
          <p:nvPr/>
        </p:nvCxnSpPr>
        <p:spPr>
          <a:xfrm flipV="1">
            <a:off x="2285640" y="1928520"/>
            <a:ext cx="114372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8160">
            <a:solidFill>
              <a:srgbClr val="663300"/>
            </a:solidFill>
            <a:miter/>
          </a:ln>
        </p:spPr>
      </p:cxnSp>
      <p:cxnSp>
        <p:nvCxnSpPr>
          <p:cNvPr id="141" name="Shape 37"/>
          <p:cNvCxnSpPr>
            <a:endCxn id="130" idx="1"/>
          </p:cNvCxnSpPr>
          <p:nvPr/>
        </p:nvCxnSpPr>
        <p:spPr>
          <a:xfrm>
            <a:off x="3285720" y="2857680"/>
            <a:ext cx="591120" cy="218160"/>
          </a:xfrm>
          <a:prstGeom prst="curvedConnector2">
            <a:avLst/>
          </a:prstGeom>
          <a:ln w="38160">
            <a:solidFill>
              <a:srgbClr val="6600cc"/>
            </a:solidFill>
            <a:miter/>
          </a:ln>
        </p:spPr>
      </p:cxnSp>
      <p:cxnSp>
        <p:nvCxnSpPr>
          <p:cNvPr id="142" name="Curved Connector 39"/>
          <p:cNvCxnSpPr>
            <a:endCxn id="134" idx="1"/>
          </p:cNvCxnSpPr>
          <p:nvPr/>
        </p:nvCxnSpPr>
        <p:spPr>
          <a:xfrm flipH="1" rot="16200000">
            <a:off x="2604240" y="4038840"/>
            <a:ext cx="1780200" cy="1131120"/>
          </a:xfrm>
          <a:prstGeom prst="curvedConnector5">
            <a:avLst>
              <a:gd name="adj1" fmla="val 50000"/>
              <a:gd name="adj2" fmla="val 49984"/>
              <a:gd name="adj3" fmla="val 50000"/>
            </a:avLst>
          </a:prstGeom>
          <a:ln w="38160">
            <a:solidFill>
              <a:srgbClr val="ff6600"/>
            </a:solidFill>
            <a:miter/>
          </a:ln>
        </p:spPr>
      </p:cxnSp>
      <p:cxnSp>
        <p:nvCxnSpPr>
          <p:cNvPr id="143" name="Curved Connector 42"/>
          <p:cNvCxnSpPr>
            <a:endCxn id="137" idx="3"/>
          </p:cNvCxnSpPr>
          <p:nvPr/>
        </p:nvCxnSpPr>
        <p:spPr>
          <a:xfrm>
            <a:off x="3142800" y="3714840"/>
            <a:ext cx="3653640" cy="986400"/>
          </a:xfrm>
          <a:prstGeom prst="curvedConnector5">
            <a:avLst>
              <a:gd name="adj1" fmla="val 27246"/>
              <a:gd name="adj2" fmla="val 61591"/>
              <a:gd name="adj3" fmla="val 27246"/>
            </a:avLst>
          </a:prstGeom>
          <a:ln w="38160">
            <a:solidFill>
              <a:srgbClr val="9966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07:25:18Z</dcterms:created>
  <dc:creator>innertech1</dc:creator>
  <dc:description/>
  <dc:language>en-US</dc:language>
  <cp:lastModifiedBy>1FZXR1S</cp:lastModifiedBy>
  <dcterms:modified xsi:type="dcterms:W3CDTF">2008-11-28T03:44:38Z</dcterms:modified>
  <cp:revision>51</cp:revision>
  <dc:subject/>
  <dc:title>Slide 1</dc:title>
</cp:coreProperties>
</file>