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D19-8704-4B07-B387-A438720C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C5F-27C4-4F2A-AE45-B75EBD13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C93-F379-4AF9-A68D-D4624392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081-6501-448A-B20C-EDB5C2A4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6DC1-60D0-4A88-A0CB-FCD6F215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CF10-76EF-46FD-9A5A-19C8FD4A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F87-0490-4640-AE89-2264C79E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B503-AD1F-493F-BCF1-A63E7B7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698C-67AE-4EB2-BE1A-42768DD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210-49F0-48F9-A3F4-996E4778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BE91-B451-4BCE-87FC-0D7255D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820-4FA8-4936-B579-A3ABC3C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17DF-0D05-4804-B51B-DE29A1E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671C-6A77-45F0-AD13-63165C6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9F8-17D3-4E23-83F0-1D178C4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32E7-DBAB-4ED0-A090-B306A050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0666-EC8C-48D3-B1E3-B7CC08B3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62F-8383-4EC3-8F5B-97E935A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7AD-25DE-4B03-9ACD-C7AA892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857-26C3-4C4C-A19A-CEA7C9B9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288-53EE-48D4-9063-02233D95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EA2-F63B-4127-9D48-22D4BF2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90A-3A4C-4272-A469-A6780CD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760-D75A-4241-9628-FAA3AC2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C6DB-57CA-40A0-9978-4F49F71C0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12B-1DF4-425A-9077-5285ABC4D4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2438280"/>
            <a:ext cx="8763120" cy="2057400"/>
          </a:xfrm>
          <a:prstGeom prst="roundRect">
            <a:avLst>
              <a:gd name="adj" fmla="val 6565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2666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4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4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’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28600" y="990720"/>
            <a:ext cx="8915400" cy="1083960"/>
            <a:chOff x="228600" y="990720"/>
            <a:chExt cx="8915400" cy="1083960"/>
          </a:xfrm>
        </p:grpSpPr>
        <p:sp>
          <p:nvSpPr>
            <p:cNvPr id="151" name="Rectangle 5"/>
            <p:cNvSpPr/>
            <p:nvPr/>
          </p:nvSpPr>
          <p:spPr>
            <a:xfrm>
              <a:off x="228600" y="1554120"/>
              <a:ext cx="8915400" cy="516240"/>
            </a:xfrm>
            <a:prstGeom prst="rect">
              <a:avLst/>
            </a:prstGeom>
            <a:solidFill>
              <a:srgbClr val="cc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376920" y="990720"/>
              <a:ext cx="8618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376920" y="1554120"/>
              <a:ext cx="861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80808"/>
                  </a:solidFill>
                  <a:latin typeface="Browallia New"/>
                  <a:cs typeface="Browallia New"/>
                </a:rPr>
                <a:t>รายละเอียดตัวชี้วัดที่ </a:t>
              </a:r>
              <a:r>
                <a:rPr b="1" lang="en-US" sz="2800" spc="-1" strike="noStrike">
                  <a:solidFill>
                    <a:srgbClr val="080808"/>
                  </a:solidFill>
                  <a:latin typeface="Browallia New"/>
                  <a:ea typeface="Browallia New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8"/>
          <p:cNvSpPr/>
          <p:nvPr/>
        </p:nvSpPr>
        <p:spPr>
          <a:xfrm>
            <a:off x="304920" y="685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80808"/>
                </a:solidFill>
                <a:uFillTx/>
                <a:latin typeface="Browallia New"/>
                <a:cs typeface="Browallia New"/>
              </a:rPr>
              <a:t>มิติที่ 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Browallia New"/>
                <a:ea typeface="Browallia New"/>
              </a:rPr>
              <a:t>2</a:t>
            </a:r>
            <a:r>
              <a:rPr b="1" lang="th-TH" sz="3200" spc="-1" strike="noStrike" u="sng">
                <a:solidFill>
                  <a:srgbClr val="080808"/>
                </a:solidFill>
                <a:uFillTx/>
                <a:latin typeface="Browallia New"/>
                <a:ea typeface="Browallia New"/>
              </a:rPr>
              <a:t> </a:t>
            </a:r>
            <a:r>
              <a:rPr b="1" lang="th-TH" sz="3200" spc="-1" strike="noStrike" u="sng">
                <a:solidFill>
                  <a:srgbClr val="080808"/>
                </a:solidFill>
                <a:uFillTx/>
                <a:latin typeface="Browallia New"/>
                <a:cs typeface="Browallia New"/>
              </a:rPr>
              <a:t>มิติด้านคุณภาพการให้บริ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819520" y="2579760"/>
            <a:ext cx="60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ำเนินการตามแผนปฏิบัติการการป้องกันและปราบปรามการทุจริต ประจำ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แล้วเสร็จครบถ้ว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84200" y="4276800"/>
            <a:ext cx="153504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398520" y="4052880"/>
            <a:ext cx="38160" cy="50328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279360" y="455616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090440" y="3351240"/>
            <a:ext cx="153540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919080" y="367344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90480" y="397656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1168560" y="2822400"/>
            <a:ext cx="39600" cy="50184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774720" y="3397320"/>
            <a:ext cx="39600" cy="5014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 rot="18102600">
            <a:off x="-181080" y="3371760"/>
            <a:ext cx="1873440" cy="3816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f8f8f8"/>
              </a:gs>
            </a:gsLst>
            <a:lin ang="8898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button"/>
          <p:cNvPicPr/>
          <p:nvPr/>
        </p:nvPicPr>
        <p:blipFill>
          <a:blip r:embed="rId1"/>
          <a:stretch/>
        </p:blipFill>
        <p:spPr>
          <a:xfrm rot="2526600">
            <a:off x="618840" y="3045960"/>
            <a:ext cx="110880" cy="433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6" descr="goldman"/>
          <p:cNvPicPr/>
          <p:nvPr/>
        </p:nvPicPr>
        <p:blipFill>
          <a:blip r:embed="rId2"/>
          <a:stretch/>
        </p:blipFill>
        <p:spPr>
          <a:xfrm>
            <a:off x="835200" y="3230640"/>
            <a:ext cx="25380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819520" y="2579760"/>
            <a:ext cx="60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ระบุในแผนปฏิบัติการการป้องกันและปราบปรามการทุจริต ประจำ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ผลสำเร็จเป็นไปตามเป้าหมาย</a:t>
            </a: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484200" y="4276800"/>
            <a:ext cx="153504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66840" y="4005360"/>
            <a:ext cx="69840" cy="55080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279360" y="455616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63520" y="3351240"/>
            <a:ext cx="153540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871560" y="3673440"/>
            <a:ext cx="153504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58800" y="397656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216080" y="2822400"/>
            <a:ext cx="39600" cy="50184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74720" y="3397320"/>
            <a:ext cx="39600" cy="5014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 rot="18388200">
            <a:off x="-180720" y="3371760"/>
            <a:ext cx="1873440" cy="3816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f8f8f8"/>
              </a:gs>
            </a:gsLst>
            <a:lin ang="861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button"/>
          <p:cNvPicPr/>
          <p:nvPr/>
        </p:nvPicPr>
        <p:blipFill>
          <a:blip r:embed="rId1"/>
          <a:stretch/>
        </p:blipFill>
        <p:spPr>
          <a:xfrm rot="2526600">
            <a:off x="755280" y="2852640"/>
            <a:ext cx="111240" cy="433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goldman"/>
          <p:cNvPicPr/>
          <p:nvPr/>
        </p:nvPicPr>
        <p:blipFill>
          <a:blip r:embed="rId2"/>
          <a:stretch/>
        </p:blipFill>
        <p:spPr>
          <a:xfrm>
            <a:off x="1042920" y="2924280"/>
            <a:ext cx="25416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077840" y="3548160"/>
            <a:ext cx="1535040" cy="234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87440" y="4403880"/>
            <a:ext cx="153504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84360" y="411948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880920" y="3832200"/>
            <a:ext cx="153540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69720" y="4179960"/>
            <a:ext cx="38160" cy="50328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1176480" y="3029040"/>
            <a:ext cx="39600" cy="5014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782640" y="3603600"/>
            <a:ext cx="39600" cy="50184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 rot="18658800">
            <a:off x="-172800" y="3625200"/>
            <a:ext cx="1873080" cy="3816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f8f8f8"/>
              </a:gs>
            </a:gsLst>
            <a:lin ang="834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button"/>
          <p:cNvPicPr/>
          <p:nvPr/>
        </p:nvPicPr>
        <p:blipFill>
          <a:blip r:embed="rId1"/>
          <a:stretch/>
        </p:blipFill>
        <p:spPr>
          <a:xfrm rot="2526600">
            <a:off x="755280" y="3068640"/>
            <a:ext cx="111240" cy="4334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5"/>
          <p:cNvSpPr/>
          <p:nvPr/>
        </p:nvSpPr>
        <p:spPr>
          <a:xfrm>
            <a:off x="250920" y="4683240"/>
            <a:ext cx="1535040" cy="234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6" descr="goldman"/>
          <p:cNvPicPr/>
          <p:nvPr/>
        </p:nvPicPr>
        <p:blipFill>
          <a:blip r:embed="rId2"/>
          <a:stretch/>
        </p:blipFill>
        <p:spPr>
          <a:xfrm>
            <a:off x="1187280" y="2781360"/>
            <a:ext cx="254160" cy="73332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819520" y="2103480"/>
            <a:ext cx="63244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ระบุในแผนปฏิบัติการการป้องกันและปราบปรามการทุจริต ประจำปีงบประมาณ พ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มีผลสำเร็จสูงกว่าเป้าหมาย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ัดทำ</a:t>
            </a:r>
            <a:r>
              <a:rPr b="1" lang="hi-IN" sz="23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ประจำปีงบประมาณ พ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.</a:t>
            </a:r>
            <a:r>
              <a:rPr b="1" lang="hi-IN" sz="23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ศ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.2552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วมทั้งให้ข้อเสนอแนะสำหรับการจัดทำแผนปฏิบัติการการป้องกันและปราบปรามการทุจริตประจำปีงบประมาณ พ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3 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ได้แล้วเสร็จ พร้อมทั้งได้รับความเห็นชอบจากผู้ว่าราชการจังหวัดและจัดส่ง มายังสำนักงาน ก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ำนวน 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ุด พร้อมกับรายงานการประเมินผลตนเองรอบ 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2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ดือน ภายในเดือนตุลาคม พ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6021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0000"/>
                </a:solidFill>
                <a:uFillTx/>
                <a:latin typeface="Browallia New"/>
                <a:cs typeface="Browallia New"/>
              </a:rPr>
              <a:t>หมายเหตุ</a:t>
            </a:r>
            <a:r>
              <a:rPr b="0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: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ประจำปีงบประมาณ พ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ศ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2552</a:t>
            </a:r>
            <a:r>
              <a:rPr b="0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เป็นไปตามแนวทางที่กำหนด</a:t>
            </a:r>
            <a:r>
              <a:rPr b="1" lang="th-TH" sz="1800" spc="-1" strike="noStrike">
                <a:solidFill>
                  <a:srgbClr val="ff0000"/>
                </a:solidFill>
                <a:latin typeface="Arial"/>
              </a:rPr>
              <a:t>ตามแบบฟอร์ม</a:t>
            </a:r>
            <a:r>
              <a:rPr b="0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174600"/>
            <a:ext cx="6985080" cy="82548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ผนป้องกันและปราบปรามการทุจริต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-25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99880" y="743040"/>
          <a:ext cx="8701200" cy="6099120"/>
        </p:xfrm>
        <a:graphic>
          <a:graphicData uri="http://schemas.openxmlformats.org/drawingml/2006/table">
            <a:tbl>
              <a:tblPr/>
              <a:tblGrid>
                <a:gridCol w="804960"/>
                <a:gridCol w="750960"/>
                <a:gridCol w="663480"/>
                <a:gridCol w="698760"/>
                <a:gridCol w="731520"/>
                <a:gridCol w="503280"/>
                <a:gridCol w="455760"/>
                <a:gridCol w="436680"/>
                <a:gridCol w="495000"/>
                <a:gridCol w="782640"/>
                <a:gridCol w="736560"/>
                <a:gridCol w="777960"/>
                <a:gridCol w="86364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ุทธศาสตร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โครงการ ปีงบประมาณ พ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งบประมา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ชี้วัดผลสำเร็จและเป้าหมาย</a:t>
                      </a:r>
                      <a:br>
                        <a:rPr sz="1300"/>
                      </a:b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ีงบประมาณ พ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0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ลูกจิตสำนึก ค่านิยม คุณธรรม จริยธรรม และสร้างวินัย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แก่ทุกภาคส่ว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พลังแผ่นดินป้องกันและปราบปราม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สริมสร้างความแข็งแกร่งแก่หน่วยงานต่อต้าน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ร้างบุคลากรมืออาชีพป้องกันและปราบปราม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89000"/>
            <a:ext cx="8748720" cy="79452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ผนปฏิบัติการการป้องกันและปราบปรามการทุจริต ประจำปีงบประมาณ พ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3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2552 </a:t>
            </a:r>
            <a:r>
              <a:rPr b="1" lang="hi-IN" sz="23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50920" y="765000"/>
          <a:ext cx="8640720" cy="5900760"/>
        </p:xfrm>
        <a:graphic>
          <a:graphicData uri="http://schemas.openxmlformats.org/drawingml/2006/table">
            <a:tbl>
              <a:tblPr/>
              <a:tblGrid>
                <a:gridCol w="1228680"/>
                <a:gridCol w="2690640"/>
                <a:gridCol w="1040040"/>
                <a:gridCol w="1366560"/>
                <a:gridCol w="1122480"/>
                <a:gridCol w="119232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ุทธศาสตร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โครงการ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งบประมา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ชี้วัดผลสำเร็จและเป้าหมาย</a:t>
                      </a:r>
                      <a:br>
                        <a:rPr sz="1300"/>
                      </a:b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ีงบประมาณ พ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2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ผู้รับผิดชอบ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ชี้วัด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ป้าหมา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ลูกจิตสำนึก ค่านิยม คุณธรรม จริยธรรม และสร้างวินัย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แก่ทุกภาคส่ว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พลังแผ่นดินป้องกันและปราบปราม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สริมสร้างความแข็งแกร่งแก่หน่วยงานต่อต้าน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ร้างบุคลากรมืออาชีพป้องกันและปราบปราม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174600"/>
            <a:ext cx="8280360" cy="109944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 </a:t>
            </a:r>
            <a:br>
              <a:rPr sz="2200"/>
            </a:b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จำปีงบประมาณ พ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927000"/>
          <a:ext cx="8424720" cy="5872320"/>
        </p:xfrm>
        <a:graphic>
          <a:graphicData uri="http://schemas.openxmlformats.org/drawingml/2006/table">
            <a:tbl>
              <a:tblPr/>
              <a:tblGrid>
                <a:gridCol w="1276200"/>
                <a:gridCol w="1957320"/>
                <a:gridCol w="1041480"/>
                <a:gridCol w="1128960"/>
                <a:gridCol w="866520"/>
                <a:gridCol w="1014480"/>
                <a:gridCol w="1139760"/>
              </a:tblGrid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ยุทธศาสตร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โครงการ ปีงบประมาณ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พ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2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้อยละของความสำเร็จเทียบกับแผนงา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ผลสำเร็จตามตัวชี้วัด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ตัวชี้วัด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ป้าหมา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ผลการดำเนินงา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้อยละของความสำเร็จเทียบกับเป้าหมา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ลูกจิตสำนึก ค่านิยม คุณธรรม จริยธรรม และสร้างวินัย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แก่ทุกภาคส่ว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พลังแผ่นดินป้องกันและปราบปราม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เสริมสร้างความแข็งแกร่งแก่หน่วยงานต่อต้าน</a:t>
                      </a:r>
                      <a:br>
                        <a:rPr sz="1300"/>
                      </a:b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) </a:t>
                      </a:r>
                      <a:r>
                        <a:rPr b="0" lang="hi-IN" sz="13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ร้างบุคลากรมืออาชีพป้องกันและปราบปรามการทุจริ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.i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174600"/>
            <a:ext cx="8280360" cy="109944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 </a:t>
            </a:r>
            <a:br>
              <a:rPr sz="2200"/>
            </a:b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จำปีงบประมาณ พ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148428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Browallia New"/>
              </a:rPr>
              <a:t>ข้อด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rowallia New"/>
              </a:rPr>
              <a:t>/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Browallia New"/>
              </a:rPr>
              <a:t>ข้อเสี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Browallia New"/>
              </a:rPr>
              <a:t>ปัจจัยสนับสนุ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rowallia New"/>
              </a:rPr>
              <a:t>/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Browallia New"/>
              </a:rPr>
              <a:t>ปัญหา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74600"/>
            <a:ext cx="8280360" cy="109944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 </a:t>
            </a:r>
            <a:br>
              <a:rPr sz="2200"/>
            </a:b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จำปีงบประมาณ พ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1484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การตอบสนองต่อข้อร้องเรีย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42920" y="1938240"/>
          <a:ext cx="7632720" cy="3273480"/>
        </p:xfrm>
        <a:graphic>
          <a:graphicData uri="http://schemas.openxmlformats.org/drawingml/2006/table">
            <a:tbl>
              <a:tblPr/>
              <a:tblGrid>
                <a:gridCol w="2068560"/>
                <a:gridCol w="720720"/>
                <a:gridCol w="770040"/>
                <a:gridCol w="641160"/>
                <a:gridCol w="717840"/>
                <a:gridCol w="717480"/>
                <a:gridCol w="695160"/>
                <a:gridCol w="1301760"/>
              </a:tblGrid>
              <a:tr h="1313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ช่องทางการร้องเรีย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จำนวนเรื่องร้องเรีย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จำนวนเรื่องร้องเรียน</a:t>
                      </a:r>
                      <a:br>
                        <a:rPr sz="2000"/>
                      </a:b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ที่ได้รับการตอบสนอ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้อยละของ</a:t>
                      </a:r>
                      <a:br>
                        <a:rPr sz="2000"/>
                      </a:b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ตอบสนอ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รณ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รณ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รณ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รณ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tabLst>
                          <a:tab algn="l" pos="0"/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) 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ดำรงธรร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) 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บริการประชาช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) 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ช่องทางอื่น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9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174600"/>
            <a:ext cx="8280360" cy="109944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สรุปผลการดำเนินการตามแผนปฏิบัติการการป้องกันและปราบปรามการทุจริต </a:t>
            </a:r>
            <a:br>
              <a:rPr sz="2200"/>
            </a:b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จำปีงบประมาณ พ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2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1484280"/>
            <a:ext cx="748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เสนอแ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)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ำหรับการปรับปรุงแผนปฏิบัติการการป้องกันและปราบปรามการทุจริต ประจำปีงบประมาณ พ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3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)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ำหรับการสนับสนุนของหน่วยงานอื่นๆที่เกี่ยวข้องเพื่อให้การขับเคลื่อนยุทธศาสตร์ชาติว่าด้วยการป้องกันและปราบปรามการทุจริตของจังหวัดเป็นไปอย่างมีประสิทธิภาพและประสิทธิผล</a:t>
            </a:r>
            <a:br>
              <a:rPr sz="2400"/>
            </a:b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)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ื่น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351640" cy="144144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ากต้องการสอบถามหรือขอข้อมูลคำแนะนำเกี่ยวกับยุทธศาสตร์ชาติว่าด้วยการป้องกันและปราบปรามการทุจริตและความเสี่ยงที่อาจจะก่อให้เกิดการทุจริต </a:t>
            </a:r>
            <a:br>
              <a:rPr sz="2600"/>
            </a:b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ฏิบัติและ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ละเว้นการปฏิบัติหน้าที่โดยมิชอบในการดำเนินโครงการ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42920" y="2637000"/>
            <a:ext cx="72010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008000" indent="-385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36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ปรดติดต่อเจ้าหน้าที่ผู้รับผิดชอบของสำนักงานคณะกรรมการป้องกันและปราบปรามการทุจริตแห่งชาติ 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08000" indent="-385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36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าวน์โหลดข้อมูลได้ที่เว็บไซต์ของสำนักงาน ป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(http://www.nccc.go.th/asset/yutasart/nation.htm) 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เว็บไซต์ของสำนักงาน ก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</a:t>
            </a:r>
            <a:r>
              <a:rPr b="1" lang="th-TH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(www.opdc.go.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120600" y="128916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04920" y="137484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28600" y="2949480"/>
            <a:ext cx="86868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90000"/>
              </a:lnSpc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ิจารณาจากระดับความสำเร็จของการดำเนินการตามแผนปฏิบัติการ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้องกันและปราบปรามการทุจริต และการบริหารความเสี่ยงที่อาจจะก่อให้เกิดการทุจริต การปฏิบัติและ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ละเว้นการปฏิบัติหน้าที่โดยมิชอบของโครงการสำคัญที่ได้รับการจัดสรรงบประมาณในปีงบประมาณ พ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 </a:t>
            </a:r>
            <a:r>
              <a:rPr b="1" lang="th-TH" sz="2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พื่อขับเคลื่อนยุทธศาสตร์ชาติว่าด้วยการป้องกันและปราบปรามการทุจริต</a:t>
            </a:r>
            <a:r>
              <a:rPr b="0" lang="th-TH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"/>
          <p:cNvGrpSpPr/>
          <p:nvPr/>
        </p:nvGrpSpPr>
        <p:grpSpPr>
          <a:xfrm>
            <a:off x="0" y="304920"/>
            <a:ext cx="9144000" cy="916920"/>
            <a:chOff x="0" y="304920"/>
            <a:chExt cx="9144000" cy="916920"/>
          </a:xfrm>
        </p:grpSpPr>
        <p:sp>
          <p:nvSpPr>
            <p:cNvPr id="159" name="Rectangle 3"/>
            <p:cNvSpPr/>
            <p:nvPr/>
          </p:nvSpPr>
          <p:spPr>
            <a:xfrm>
              <a:off x="0" y="762120"/>
              <a:ext cx="9144000" cy="419040"/>
            </a:xfrm>
            <a:prstGeom prst="rect">
              <a:avLst/>
            </a:prstGeom>
            <a:solidFill>
              <a:srgbClr val="cc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152280" y="304920"/>
              <a:ext cx="88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 u="sng">
                  <a:solidFill>
                    <a:srgbClr val="000000"/>
                  </a:solidFill>
                  <a:uFillTx/>
                  <a:latin typeface="Browallia New"/>
                  <a:cs typeface="Browallia New"/>
                </a:rPr>
                <a:t>มิติที่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Browallia New"/>
                  <a:ea typeface="Browallia New"/>
                </a:rPr>
                <a:t>2 </a:t>
              </a:r>
              <a:r>
                <a:rPr b="1" lang="th-TH" sz="2400" spc="-1" strike="noStrike" u="sng">
                  <a:solidFill>
                    <a:srgbClr val="000000"/>
                  </a:solidFill>
                  <a:uFillTx/>
                  <a:latin typeface="Browallia New"/>
                  <a:cs typeface="Browallia New"/>
                </a:rPr>
                <a:t>มิติด้านคุณภาพการให้บริ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152280" y="762120"/>
              <a:ext cx="88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ประเด็นการประเมินผล</a:t>
              </a:r>
              <a:r>
                <a:rPr b="1" lang="en-US" sz="24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: </a:t>
              </a:r>
              <a:r>
                <a:rPr b="1" lang="th-TH" sz="24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ความเปิดเผย โปร่งใ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24000" y="474840"/>
            <a:ext cx="8319960" cy="1252080"/>
          </a:xfrm>
          <a:prstGeom prst="rect">
            <a:avLst/>
          </a:prstGeom>
          <a:solidFill>
            <a:srgbClr val="93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หน่วยงานผู้รับผิดชอบหลัก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:  </a:t>
            </a:r>
            <a:br>
              <a:rPr sz="2800"/>
            </a:b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ำนักงานคณะกรรมการป้องกันและปราบปรามการทุจริตแห่งชา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900000" y="2421000"/>
          <a:ext cx="7775640" cy="2376000"/>
        </p:xfrm>
        <a:graphic>
          <a:graphicData uri="http://schemas.openxmlformats.org/drawingml/2006/table">
            <a:tbl>
              <a:tblPr/>
              <a:tblGrid>
                <a:gridCol w="317520"/>
                <a:gridCol w="2774880"/>
                <a:gridCol w="2162160"/>
                <a:gridCol w="2521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8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8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หมายเลขโทรศัพท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8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E-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8b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ายสุธีร์       ตั้งสถิตย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2 2800140 - 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Suthee_tha@nccc.go.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างสาวปาลิดา   โชคธนานันท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2 2800140 - 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palida_cho@nccc.go.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ายศาตปัญญ์     สีดานนท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02 2800140 - 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33480"/>
                          <a:tab algn="l" pos="1084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satapan_see@nccc.go.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168120" y="3036240"/>
            <a:ext cx="2498400" cy="1992960"/>
            <a:chOff x="168120" y="3036240"/>
            <a:chExt cx="2498400" cy="1992960"/>
          </a:xfrm>
        </p:grpSpPr>
        <p:sp>
          <p:nvSpPr>
            <p:cNvPr id="164" name="Rectangle 3"/>
            <p:cNvSpPr/>
            <p:nvPr/>
          </p:nvSpPr>
          <p:spPr>
            <a:xfrm>
              <a:off x="1131840" y="3659040"/>
              <a:ext cx="1534680" cy="235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541080" y="4514760"/>
              <a:ext cx="1535040" cy="23652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738000" y="4230720"/>
              <a:ext cx="1534680" cy="235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934920" y="3943440"/>
              <a:ext cx="1534680" cy="23652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423720" y="4290840"/>
              <a:ext cx="37800" cy="5032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8"/>
            <p:cNvGrpSpPr/>
            <p:nvPr/>
          </p:nvGrpSpPr>
          <p:grpSpPr>
            <a:xfrm>
              <a:off x="168120" y="3036240"/>
              <a:ext cx="1257480" cy="1439280"/>
              <a:chOff x="168120" y="3036240"/>
              <a:chExt cx="1257480" cy="1439280"/>
            </a:xfrm>
          </p:grpSpPr>
          <p:sp>
            <p:nvSpPr>
              <p:cNvPr id="170" name="Rectangle 9"/>
              <p:cNvSpPr/>
              <p:nvPr/>
            </p:nvSpPr>
            <p:spPr>
              <a:xfrm>
                <a:off x="1209600" y="3140280"/>
                <a:ext cx="39240" cy="501840"/>
              </a:xfrm>
              <a:prstGeom prst="rect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0"/>
              <p:cNvSpPr/>
              <p:nvPr/>
            </p:nvSpPr>
            <p:spPr>
              <a:xfrm>
                <a:off x="816120" y="3714480"/>
                <a:ext cx="38880" cy="501840"/>
              </a:xfrm>
              <a:prstGeom prst="rect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1"/>
              <p:cNvSpPr/>
              <p:nvPr/>
            </p:nvSpPr>
            <p:spPr>
              <a:xfrm rot="18658800">
                <a:off x="-139680" y="3736440"/>
                <a:ext cx="1873080" cy="38520"/>
              </a:xfrm>
              <a:prstGeom prst="rect">
                <a:avLst/>
              </a:prstGeom>
              <a:gradFill rotWithShape="0">
                <a:gsLst>
                  <a:gs pos="0">
                    <a:srgbClr val="f4f4f4"/>
                  </a:gs>
                  <a:gs pos="100000">
                    <a:srgbClr val="f8f8f8"/>
                  </a:gs>
                </a:gsLst>
                <a:lin ang="834000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12" descr="button"/>
              <p:cNvPicPr/>
              <p:nvPr/>
            </p:nvPicPr>
            <p:blipFill>
              <a:blip r:embed="rId1"/>
              <a:stretch/>
            </p:blipFill>
            <p:spPr>
              <a:xfrm rot="18726600">
                <a:off x="340560" y="3702960"/>
                <a:ext cx="433080" cy="11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Rectangle 13"/>
            <p:cNvSpPr/>
            <p:nvPr/>
          </p:nvSpPr>
          <p:spPr>
            <a:xfrm>
              <a:off x="304920" y="4794120"/>
              <a:ext cx="1535040" cy="235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c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14" descr="goldman"/>
            <p:cNvPicPr/>
            <p:nvPr/>
          </p:nvPicPr>
          <p:blipFill>
            <a:blip r:embed="rId2"/>
            <a:stretch/>
          </p:blipFill>
          <p:spPr>
            <a:xfrm>
              <a:off x="685800" y="4038480"/>
              <a:ext cx="25344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5"/>
          <p:cNvSpPr/>
          <p:nvPr/>
        </p:nvSpPr>
        <p:spPr>
          <a:xfrm>
            <a:off x="2797200" y="2136600"/>
            <a:ext cx="63244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ึกษา วิเคราะห์ข้อมูลเพื่อใช้เป็นแนวทางดำเนินการจัดทำแผนป้องกันและปราบปรามการทุจริต 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 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-2555) 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แผนปฏิบัติการการป้องกันและปราบปรามการทุจริตปีงบประมาณ พ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ดังนี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24000" y="9018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4154400"/>
            <a:ext cx="58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ุทธศาสตร์ชาติว่าด้วยการป้องกันและปราบปราม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ทุจริ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8120" y="3036240"/>
            <a:ext cx="2498760" cy="1992960"/>
            <a:chOff x="168120" y="3036240"/>
            <a:chExt cx="2498760" cy="1992960"/>
          </a:xfrm>
        </p:grpSpPr>
        <p:sp>
          <p:nvSpPr>
            <p:cNvPr id="182" name="Rectangle 3"/>
            <p:cNvSpPr/>
            <p:nvPr/>
          </p:nvSpPr>
          <p:spPr>
            <a:xfrm>
              <a:off x="1131840" y="3659040"/>
              <a:ext cx="1535040" cy="235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"/>
            <p:cNvSpPr/>
            <p:nvPr/>
          </p:nvSpPr>
          <p:spPr>
            <a:xfrm>
              <a:off x="541440" y="4514760"/>
              <a:ext cx="1535040" cy="23652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738360" y="4230720"/>
              <a:ext cx="1535040" cy="235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934920" y="3943440"/>
              <a:ext cx="1535400" cy="23652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c0c0c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c0c0c0"/>
                  </a:solidFill>
                  <a:latin typeface="Browallia New"/>
                  <a:ea typeface="Browallia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423720" y="4290840"/>
              <a:ext cx="38160" cy="5032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168120" y="3036240"/>
              <a:ext cx="1257480" cy="1439280"/>
              <a:chOff x="168120" y="3036240"/>
              <a:chExt cx="1257480" cy="1439280"/>
            </a:xfrm>
          </p:grpSpPr>
          <p:sp>
            <p:nvSpPr>
              <p:cNvPr id="188" name="Rectangle 9"/>
              <p:cNvSpPr/>
              <p:nvPr/>
            </p:nvSpPr>
            <p:spPr>
              <a:xfrm>
                <a:off x="1209600" y="3140280"/>
                <a:ext cx="39240" cy="501840"/>
              </a:xfrm>
              <a:prstGeom prst="rect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0"/>
              <p:cNvSpPr/>
              <p:nvPr/>
            </p:nvSpPr>
            <p:spPr>
              <a:xfrm>
                <a:off x="816480" y="3714480"/>
                <a:ext cx="38880" cy="501840"/>
              </a:xfrm>
              <a:prstGeom prst="rect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"/>
              <p:cNvSpPr/>
              <p:nvPr/>
            </p:nvSpPr>
            <p:spPr>
              <a:xfrm rot="18658800">
                <a:off x="-139680" y="3736440"/>
                <a:ext cx="1873080" cy="38520"/>
              </a:xfrm>
              <a:prstGeom prst="rect">
                <a:avLst/>
              </a:prstGeom>
              <a:gradFill rotWithShape="0">
                <a:gsLst>
                  <a:gs pos="0">
                    <a:srgbClr val="f4f4f4"/>
                  </a:gs>
                  <a:gs pos="100000">
                    <a:srgbClr val="f8f8f8"/>
                  </a:gs>
                </a:gsLst>
                <a:lin ang="8340000"/>
              </a:gradFill>
              <a:ln w="0">
                <a:noFill/>
              </a:ln>
              <a:effectLst>
                <a:outerShdw dist="17819" dir="2700000" blurRad="0" rotWithShape="0">
                  <a:srgbClr val="95959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1" name="Picture 12" descr="button"/>
              <p:cNvPicPr/>
              <p:nvPr/>
            </p:nvPicPr>
            <p:blipFill>
              <a:blip r:embed="rId1"/>
              <a:stretch/>
            </p:blipFill>
            <p:spPr>
              <a:xfrm rot="18726600">
                <a:off x="340560" y="3702960"/>
                <a:ext cx="433080" cy="11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Rectangle 13"/>
            <p:cNvSpPr/>
            <p:nvPr/>
          </p:nvSpPr>
          <p:spPr>
            <a:xfrm>
              <a:off x="304920" y="4794120"/>
              <a:ext cx="1535040" cy="235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c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ระดับคะแนน </a:t>
              </a:r>
              <a:r>
                <a:rPr b="1" lang="en-US" sz="1800" spc="-1" strike="noStrike">
                  <a:solidFill>
                    <a:srgbClr val="000000"/>
                  </a:solidFill>
                  <a:latin typeface="Browallia New"/>
                  <a:ea typeface="Browallia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4" descr="goldman"/>
            <p:cNvPicPr/>
            <p:nvPr/>
          </p:nvPicPr>
          <p:blipFill>
            <a:blip r:embed="rId2"/>
            <a:stretch/>
          </p:blipFill>
          <p:spPr>
            <a:xfrm>
              <a:off x="755640" y="4005360"/>
              <a:ext cx="254160" cy="73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2276640"/>
            <a:ext cx="59054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ามเสี่ยงต่างๆ ที่อาจจะก่อให้เกิดการทุจริต การปฏิบัติและ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ละเว้นการปฏิบัติหน้าที่โดยมิชอบในการปฏิบัติราชการ โดยวิเคราะห์เพื่อให้ทราบถึงปัจจัยเสี่ยงที่อาจเป็นเหตุทำให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Browall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ฏิบัติราชการตามอำนาจหน้าที่ของข้าราชการเป็นไป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ลักษณะที่ขาดหรือมีความรับผิดชอบไม่เพียงพ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Browall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ฏิบัติหน้าที่ไปในทางที่ทำให้ประชาชนขาดความเชื่อถือ</a:t>
            </a:r>
            <a:br>
              <a:rPr sz="2200"/>
            </a:br>
            <a:r>
              <a:rPr b="1" lang="th-TH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ความมีคุณธรรม ความมีจริยธรร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Browallia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ฏิบัติราชการโดยขาดการคำนึงถึงประโยชน์ส่วนรวมมากกว่าประโยชน์ส่วนตนและการยึดมั่นในหลักธรรมาภิบา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131840" y="365904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41440" y="451476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38360" y="423072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34920" y="3943440"/>
            <a:ext cx="153540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23720" y="4290840"/>
            <a:ext cx="38160" cy="503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168120" y="3036240"/>
            <a:ext cx="1257480" cy="1439280"/>
            <a:chOff x="168120" y="3036240"/>
            <a:chExt cx="1257480" cy="1439280"/>
          </a:xfrm>
        </p:grpSpPr>
        <p:sp>
          <p:nvSpPr>
            <p:cNvPr id="204" name="Rectangle 9"/>
            <p:cNvSpPr/>
            <p:nvPr/>
          </p:nvSpPr>
          <p:spPr>
            <a:xfrm>
              <a:off x="1209600" y="3140280"/>
              <a:ext cx="3924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816480" y="3714480"/>
              <a:ext cx="3888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 rot="18658800">
              <a:off x="-139680" y="3736440"/>
              <a:ext cx="1873080" cy="38520"/>
            </a:xfrm>
            <a:prstGeom prst="rect">
              <a:avLst/>
            </a:prstGeom>
            <a:gradFill rotWithShape="0">
              <a:gsLst>
                <a:gs pos="0">
                  <a:srgbClr val="f4f4f4"/>
                </a:gs>
                <a:gs pos="100000">
                  <a:srgbClr val="f8f8f8"/>
                </a:gs>
              </a:gsLst>
              <a:lin ang="834000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12" descr="button"/>
            <p:cNvPicPr/>
            <p:nvPr/>
          </p:nvPicPr>
          <p:blipFill>
            <a:blip r:embed="rId1"/>
            <a:stretch/>
          </p:blipFill>
          <p:spPr>
            <a:xfrm rot="18726600">
              <a:off x="340560" y="3702960"/>
              <a:ext cx="433080" cy="1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Rectangle 13"/>
          <p:cNvSpPr/>
          <p:nvPr/>
        </p:nvSpPr>
        <p:spPr>
          <a:xfrm>
            <a:off x="304920" y="479412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goldman"/>
          <p:cNvPicPr/>
          <p:nvPr/>
        </p:nvPicPr>
        <p:blipFill>
          <a:blip r:embed="rId2"/>
          <a:stretch/>
        </p:blipFill>
        <p:spPr>
          <a:xfrm>
            <a:off x="685800" y="4038480"/>
            <a:ext cx="254160" cy="7336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276640"/>
            <a:ext cx="63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การดำเนินการตามมาตรการในการป้องกันและปราบปรามการทุจริตในปีที่ผ่านม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ที่ได้จากระบบการรับฟังข้อร้องเรียนของจังหวัดหรือที่มีการร้องเรียนผ่านศูนย์ดำรงธรรม กระทรวงมหาดไทย หรือศูนย์บริการประชาชน สำนักงานปลัดสำนักนายกรัฐมนตรี</a:t>
            </a: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50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ิเคราะห์ความเสี่ยงที่อาจจะก่อให้เกิดการทุจริต การปฏิบัติและ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ละเว้นการปฏิบัติหน้าที่โดยมิชอบของโครงการสำคัญที่ได้รับการจัดสรรงบประมาณใน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ำนวน  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ครงการ โดยการคัดเลือกโครงการต้องสอดคล้องกับหลักเกณฑ์ที่สำนักงาน ป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หนด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ามเงื่อนไข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31840" y="365904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41440" y="451476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38360" y="423072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934920" y="3943440"/>
            <a:ext cx="153540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3720" y="4290840"/>
            <a:ext cx="38160" cy="503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68120" y="3036240"/>
            <a:ext cx="1257480" cy="1439280"/>
            <a:chOff x="168120" y="3036240"/>
            <a:chExt cx="1257480" cy="1439280"/>
          </a:xfrm>
        </p:grpSpPr>
        <p:sp>
          <p:nvSpPr>
            <p:cNvPr id="220" name="Rectangle 9"/>
            <p:cNvSpPr/>
            <p:nvPr/>
          </p:nvSpPr>
          <p:spPr>
            <a:xfrm>
              <a:off x="1209600" y="3140280"/>
              <a:ext cx="3924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816480" y="3714480"/>
              <a:ext cx="3888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 rot="18658800">
              <a:off x="-139680" y="3736440"/>
              <a:ext cx="1873080" cy="38520"/>
            </a:xfrm>
            <a:prstGeom prst="rect">
              <a:avLst/>
            </a:prstGeom>
            <a:gradFill rotWithShape="0">
              <a:gsLst>
                <a:gs pos="0">
                  <a:srgbClr val="f4f4f4"/>
                </a:gs>
                <a:gs pos="100000">
                  <a:srgbClr val="f8f8f8"/>
                </a:gs>
              </a:gsLst>
              <a:lin ang="834000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12" descr="button"/>
            <p:cNvPicPr/>
            <p:nvPr/>
          </p:nvPicPr>
          <p:blipFill>
            <a:blip r:embed="rId1"/>
            <a:stretch/>
          </p:blipFill>
          <p:spPr>
            <a:xfrm rot="18726600">
              <a:off x="340560" y="3702960"/>
              <a:ext cx="433080" cy="1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13"/>
          <p:cNvSpPr/>
          <p:nvPr/>
        </p:nvSpPr>
        <p:spPr>
          <a:xfrm>
            <a:off x="304920" y="4794120"/>
            <a:ext cx="1535040" cy="235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goldman"/>
          <p:cNvPicPr/>
          <p:nvPr/>
        </p:nvPicPr>
        <p:blipFill>
          <a:blip r:embed="rId2"/>
          <a:stretch/>
        </p:blipFill>
        <p:spPr>
          <a:xfrm>
            <a:off x="685800" y="4038480"/>
            <a:ext cx="254160" cy="7336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>
            <a:off x="120600" y="83664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36720" y="2443320"/>
            <a:ext cx="62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เงื่อนไขการคัดเลือกโครงกา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คัดเลือกโครงการที่ได้รับจัดสรรงบประมาณใน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ูงสุด 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ลำดับแรกม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38240" y="5877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**** </a:t>
            </a:r>
            <a:r>
              <a:rPr b="1" lang="hi-IN" sz="20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ทั้งนี้ ในการประเมินผลจะพิจารณาถึงคุณภาพของการวิเคราะห์ความเสี่ยงที่อาจก่อให้เกิดการทุจริตฯ ของโครงการด้ว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19520" y="2421000"/>
            <a:ext cx="60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ำข้อมูลที่ได้จากการศึกษาวิเคราะห์ข้อมูลมาประกอบ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พิจารณาจัดทำแผนป้องกันและปราบปรามการทุจริต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-2555)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แผนปฏิบัติการ</a:t>
            </a:r>
            <a:br>
              <a:rPr sz="2400"/>
            </a:b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ป้องกันและปราบปรามการทุจริต ประจำ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พร้อมทั้งกำหนดเป้าหมายและตัวชี้วัดในแต่ละปีที่สะท้อนผลสัมฤทธิ์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Outcome)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อย่างชัดเจนและเป็นรูปธรร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-4680" y="3069720"/>
            <a:ext cx="1257840" cy="1439640"/>
            <a:chOff x="-4680" y="3069720"/>
            <a:chExt cx="1257840" cy="1439640"/>
          </a:xfrm>
        </p:grpSpPr>
        <p:sp>
          <p:nvSpPr>
            <p:cNvPr id="236" name="Rectangle 11"/>
            <p:cNvSpPr/>
            <p:nvPr/>
          </p:nvSpPr>
          <p:spPr>
            <a:xfrm>
              <a:off x="1036800" y="3173400"/>
              <a:ext cx="3924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643680" y="3747600"/>
              <a:ext cx="38880" cy="50184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 rot="18658800">
              <a:off x="-312480" y="3770280"/>
              <a:ext cx="1873440" cy="38520"/>
            </a:xfrm>
            <a:prstGeom prst="rect">
              <a:avLst/>
            </a:prstGeom>
            <a:gradFill rotWithShape="0">
              <a:gsLst>
                <a:gs pos="0">
                  <a:srgbClr val="f4f4f4"/>
                </a:gs>
                <a:gs pos="100000">
                  <a:srgbClr val="f8f8f8"/>
                </a:gs>
              </a:gsLst>
              <a:lin ang="8340000"/>
            </a:gradFill>
            <a:ln w="0">
              <a:noFill/>
            </a:ln>
            <a:effectLst>
              <a:outerShdw dist="17819" dir="2700000" blurRad="0" rotWithShape="0">
                <a:srgbClr val="95959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14" descr="button"/>
            <p:cNvPicPr/>
            <p:nvPr/>
          </p:nvPicPr>
          <p:blipFill>
            <a:blip r:embed="rId1"/>
            <a:stretch/>
          </p:blipFill>
          <p:spPr>
            <a:xfrm rot="18726600">
              <a:off x="167760" y="3736080"/>
              <a:ext cx="433080" cy="1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Rectangle 6"/>
          <p:cNvSpPr/>
          <p:nvPr/>
        </p:nvSpPr>
        <p:spPr>
          <a:xfrm>
            <a:off x="384120" y="4516560"/>
            <a:ext cx="1535040" cy="236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98440" y="4292640"/>
            <a:ext cx="38160" cy="50328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179280" y="4795920"/>
            <a:ext cx="1535400" cy="234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990720" y="3591000"/>
            <a:ext cx="1535040" cy="2347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755640" y="393372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90400" y="4216320"/>
            <a:ext cx="153540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goldman"/>
          <p:cNvPicPr/>
          <p:nvPr/>
        </p:nvPicPr>
        <p:blipFill>
          <a:blip r:embed="rId2"/>
          <a:stretch/>
        </p:blipFill>
        <p:spPr>
          <a:xfrm>
            <a:off x="539640" y="3716280"/>
            <a:ext cx="25416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819520" y="2421000"/>
            <a:ext cx="600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แผนปฏิบัติการการป้องกันและปราบปรามการทุจริต ประจำปีงบประมาณ พ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ระบุกิจกรรม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ครงการได้สอดคล้องกับยุทธศาสตร์ชาติว่าด้วยการป้องกันและปราบปรามการทุจริตครบถ้วนทั้ง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ุทธศาสตร์  และครอบคลุมการบริหารความเสี่ยงที่อาจจะก่อให้เกิดการทุจริต การปฏิบัติและ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ละเว้นการปฏิบัติหน้าที่โดยมิชอบของโครงการสำคัญทั้ง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 rot="21028800">
            <a:off x="1047600" y="2997360"/>
            <a:ext cx="69840" cy="4158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57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 rot="21028800">
            <a:off x="762120" y="3546000"/>
            <a:ext cx="41040" cy="50184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57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 rot="18081000">
            <a:off x="-165240" y="3600720"/>
            <a:ext cx="1649160" cy="698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f8f8f8"/>
              </a:gs>
            </a:gsLst>
            <a:lin ang="8922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button"/>
          <p:cNvPicPr/>
          <p:nvPr/>
        </p:nvPicPr>
        <p:blipFill>
          <a:blip r:embed="rId1"/>
          <a:stretch/>
        </p:blipFill>
        <p:spPr>
          <a:xfrm rot="1955400">
            <a:off x="398520" y="3425760"/>
            <a:ext cx="117360" cy="4334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436680" y="4387680"/>
            <a:ext cx="1535040" cy="2368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51000" y="4164120"/>
            <a:ext cx="37800" cy="50328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231840" y="4667400"/>
            <a:ext cx="1535040" cy="234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042920" y="3462480"/>
            <a:ext cx="1535040" cy="2347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871560" y="378468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42960" y="408780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6" descr="goldman"/>
          <p:cNvPicPr/>
          <p:nvPr/>
        </p:nvPicPr>
        <p:blipFill>
          <a:blip r:embed="rId2"/>
          <a:stretch/>
        </p:blipFill>
        <p:spPr>
          <a:xfrm>
            <a:off x="619200" y="3589200"/>
            <a:ext cx="253800" cy="7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5"/>
          <p:cNvSpPr/>
          <p:nvPr/>
        </p:nvSpPr>
        <p:spPr>
          <a:xfrm>
            <a:off x="228600" y="2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Browallia New"/>
                <a:cs typeface="Browallia New"/>
              </a:rPr>
              <a:t>รายละเอียดตัวชี้วัดเพิ่มเติ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2819520" y="2133720"/>
            <a:ext cx="6095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28600" y="781200"/>
            <a:ext cx="8915400" cy="1225440"/>
          </a:xfrm>
          <a:prstGeom prst="roundRect">
            <a:avLst>
              <a:gd name="adj" fmla="val 6565"/>
            </a:avLst>
          </a:prstGeom>
          <a:solidFill>
            <a:srgbClr val="acc8c7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24000" y="9018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ัวชี้วัด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้ำหนักร้อยละ 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“</a:t>
            </a:r>
            <a:r>
              <a:rPr b="1" lang="th-TH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วามสำเร็จของการดำเนินการตามมาตรการป้องกันและปราบปรามการทุจริต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819520" y="242100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ผนป้องกันและปราบปรามการทุจริต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-2555)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แผนปฏิบัติการการป้องกันและปราบปรามการทุจริตประจำปีงบประมาณ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องจังหวัด ได้รับความเห็นชอบจากผู้ว่าราชการจังหวัด ภายในวันที่ 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1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นาคม พ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</a:t>
            </a:r>
            <a:r>
              <a:rPr b="1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2552 </a:t>
            </a:r>
            <a:r>
              <a:rPr b="1" lang="hi-IN" sz="2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ให้นำเผยแพร่ผ่านทางเว็บไซต์ของจังหวัด</a:t>
            </a: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 rot="21028800">
            <a:off x="1047600" y="2997360"/>
            <a:ext cx="69840" cy="41580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57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 rot="21028800">
            <a:off x="762120" y="3546000"/>
            <a:ext cx="41040" cy="50184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f8f8f8"/>
              </a:gs>
            </a:gsLst>
            <a:lin ang="570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 rot="18081000">
            <a:off x="-165240" y="3600720"/>
            <a:ext cx="1649160" cy="698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f8f8f8"/>
              </a:gs>
            </a:gsLst>
            <a:lin ang="8922000"/>
          </a:gradFill>
          <a:ln w="0">
            <a:noFill/>
          </a:ln>
          <a:effectLst>
            <a:outerShdw dist="17819" dir="2700000" blurRad="0" rotWithShape="0">
              <a:srgbClr val="9595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4" descr="button"/>
          <p:cNvPicPr/>
          <p:nvPr/>
        </p:nvPicPr>
        <p:blipFill>
          <a:blip r:embed="rId1"/>
          <a:stretch/>
        </p:blipFill>
        <p:spPr>
          <a:xfrm rot="1955400">
            <a:off x="398520" y="3425760"/>
            <a:ext cx="117360" cy="433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436680" y="4387680"/>
            <a:ext cx="1535040" cy="2368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351000" y="4164120"/>
            <a:ext cx="37800" cy="503280"/>
          </a:xfrm>
          <a:prstGeom prst="rect">
            <a:avLst/>
          </a:prstGeom>
          <a:solidFill>
            <a:srgbClr val="330066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231840" y="4667400"/>
            <a:ext cx="1535040" cy="2347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042920" y="3462480"/>
            <a:ext cx="1535040" cy="2347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871560" y="3784680"/>
            <a:ext cx="1535040" cy="23652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42960" y="4087800"/>
            <a:ext cx="1535040" cy="23508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0c0c0"/>
                </a:solidFill>
                <a:latin typeface="Browallia New"/>
                <a:cs typeface="Browallia New"/>
              </a:rPr>
              <a:t>ระดับคะแนน </a:t>
            </a:r>
            <a:r>
              <a:rPr b="1" lang="en-US" sz="1800" spc="-1" strike="noStrike">
                <a:solidFill>
                  <a:srgbClr val="c0c0c0"/>
                </a:solidFill>
                <a:latin typeface="Browallia New"/>
                <a:ea typeface="Browallia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goldman"/>
          <p:cNvPicPr/>
          <p:nvPr/>
        </p:nvPicPr>
        <p:blipFill>
          <a:blip r:embed="rId2"/>
          <a:stretch/>
        </p:blipFill>
        <p:spPr>
          <a:xfrm>
            <a:off x="619200" y="3589200"/>
            <a:ext cx="253800" cy="733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42920" y="5445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0000"/>
                </a:solidFill>
                <a:uFillTx/>
                <a:latin typeface="Browallia New"/>
                <a:cs typeface="Browallia New"/>
              </a:rPr>
              <a:t>หมายเหตุ</a:t>
            </a:r>
            <a:r>
              <a:rPr b="0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: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แผนป้องกันและปราบปรามการทุจริต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4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ปี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(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ปีงบประมาณ พ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ศ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2552-2555)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และแผนปฏิบัติการ</a:t>
            </a:r>
            <a:br>
              <a:rPr sz="1800"/>
            </a:b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การป้องกันและปราบปรามการทุจริตประจำปีงบประมาณ พ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ศ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.2552 </a:t>
            </a:r>
            <a:r>
              <a:rPr b="1" lang="th-TH" sz="18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ของจังหวัดเป็นไปตามแนวทางที่กำหนดตามแบบฟอร์ม</a:t>
            </a:r>
            <a:r>
              <a:rPr b="0" lang="th-TH" sz="18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2:09:00Z</dcterms:created>
  <dc:creator>Mullika</dc:creator>
  <dc:description/>
  <dc:language>en-US</dc:language>
  <cp:lastModifiedBy>Mullika</cp:lastModifiedBy>
  <dcterms:modified xsi:type="dcterms:W3CDTF">2008-12-17T07:35:45Z</dcterms:modified>
  <cp:revision>30</cp:revision>
  <dc:subject/>
  <dc:title>Slide 1</dc:title>
</cp:coreProperties>
</file>