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917280" y="74268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46B4-FE08-4984-8897-7A92F1365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A29D-9DE8-469F-AAF9-F385CF9A97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D103-A406-47F6-B835-4823463DBB2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29F-F23A-4227-843B-E6BE0584995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F4E0-0E51-4998-97BB-372867EFBF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481D-EA8B-4D19-A3EE-F18F1E6E23E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D047-3AC4-43F8-A327-8DCC72B441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6288-9C46-489E-A058-F62747987042}" type="slidenum">
              <a:rPr b="0" lang="en-US" sz="1200" spc="-1" strike="noStrike">
                <a:solidFill>
                  <a:srgbClr val="333333"/>
                </a:solidFill>
                <a:latin typeface="Arial"/>
                <a:ea typeface="Angsana New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305C-38E8-47E3-9F03-9ADE4805B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9124-4D47-416B-BEE3-8C742B9D6E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1F1EC-E539-4F03-A21D-7AF1171F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F38DE-C8E9-4476-99DA-439BE4F4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B62DD-2C92-4940-88D0-6850E010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EAE56-12DA-4817-B3FE-757688CE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1755B-6B56-4D70-AA66-7FF58FDB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87670-CDB5-4167-8CE6-FF276F5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7CA54-ADD6-45B4-8304-30322A46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67088-8DE3-434F-8BDE-0B452C00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2588D-F712-482E-94DD-EC1F5D40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21445-F6EA-4705-B906-FD57D5E7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4BD7-9F7E-49A8-92AB-26F16DE1A17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93156-BB7C-4A26-838D-5765F7B9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FFFBD-E667-4FF8-92BC-2A0CB612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418F0-436A-44A7-9609-4D83AE7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BA4E3-F4F4-4505-89CE-B48F2DC0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C9040-3E2F-46C6-AB58-B054426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725E8-E427-40B8-A84E-2A50E19D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47F0E-B99E-407E-8548-0765357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986AD-2059-4138-851F-09B00B79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42DA9-ABFC-4B8A-920C-99DB9C2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C7E0C-BBDE-4083-AF31-F47367AC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0210-9FAA-41F2-B7B1-605B681504A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5323C-B7C5-41A2-8D54-F5884A20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C0C8-CCC8-438E-AEAE-E07B23E238B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C0CC-BD95-49CE-B68F-0E1BF140139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3E7D3-639A-4438-BC8F-306D9B2274D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B7487-0BDC-4743-9B49-9DB4221E5E9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2B68F-806C-4192-A8A8-51E8E5E07B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D42B1-3413-47D1-A0C5-3F529DD0BC2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6A867-0E49-4E2D-984C-857E101EB1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1A799-0671-4A61-9706-AC2BC445EE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B4534-AD8A-4403-97A4-A02A752CD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4E733-50E0-4741-AE9B-CA9FB6FA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89B95-6FD3-4D20-908E-4A53A2E3B3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12E3C-6D1F-49C5-B9F2-B76AFC3CB5B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FDE5-2D03-454B-B614-9E44FD526E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93310-C67D-4CB7-A82F-1CEB2DAD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6BACA-316B-45A1-84A3-42CD044B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74EF4-B530-4C8C-A563-F007E2D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8749D-000C-47F0-8770-255309E6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F87E7-8FF0-444D-9D6B-B52D621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6917D-4831-4D75-B216-74ACE7A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E4EE-7CBD-42BE-BC6C-6DA257CB1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95C05-5133-4BEB-98BE-9C6FE6DA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54C6D-2829-4DDF-A250-FEE0120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B4B60-CA8B-4B50-B5B9-4192B5F3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1CB49-EF52-4408-9385-C9E45A85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000D9-D986-4430-A321-26C35D13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FC6AE-A5A0-41A8-8202-BDEA20071D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101A9-2BEA-488F-BD34-EAD682C6D8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C1915-6590-49FA-9F38-82B1D8A648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4ECC5-7A76-43CD-8058-E8113C958E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A9EB9-09F5-4600-A9DC-93E44D201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6AF9-F86E-4A67-8088-EC10C16B56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DEDE1-BEF1-4240-B63C-6C1AA1E782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17329-4173-4FE0-B386-B90EBC6585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15182-3111-4D6E-9B16-625F8ED698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ABF0F-8D26-4124-B8A6-4BB1D5FFE9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4B96A-CB2B-4EF4-BE85-94158D2689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7144B-07C8-435C-9C48-6EE4B6479E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31383-E68D-4E34-8B9A-BFAEDFD415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FA80F-1D89-4219-A069-26F12B0E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44428-F6FF-4D18-8536-8C7EFD17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B7FC7-543A-4A20-9D73-94A973B2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3E37-8761-47FB-B8FB-02F227AD1B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275D7-0896-42BA-85DE-D09731B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A5441-B370-4A3C-919D-012029A5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33805-8479-43B0-ABF6-47DB750F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65160-2D66-448E-995E-5F93D45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7862F-1F85-4707-BF37-33A2058D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8F29A-8B3F-4DD5-B95C-46F00CD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FEC36-5F95-4AA4-9415-9BB6E3C0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35726-309C-4565-9F54-D3C46BD4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FC9CA-460E-4FF5-861B-29C6F859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7B84-65A8-4D48-8E28-E30751B09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F7CE-44E3-4E21-81CA-CF6D9D91869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3C99-8DC2-4636-BAA2-D41085CB644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5E29-A7F7-4B7C-9608-0FFD58C30A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90EB-CB3C-4ADD-9915-FFBAA48A9C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CF08-2846-4C8B-A2B7-35A5CEB8F2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49BA-110A-4B96-89D4-96B3026DF0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40C5-AAF8-41EF-B65A-6242AD5847E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945E-5ABC-4D55-B1F3-73CCFE65F6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9E90-21F3-45A8-85A0-BC5F3F1A5E4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F8D8-0003-4F3B-9EFD-3134C8FB3F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7DEE-160A-4007-BA81-E29726E9B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D6C6-3CAA-4BF8-AE5F-670345B4C5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89D5-84FC-4FB5-A7F7-679DE80158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AC9B3-54AC-41BF-80ED-B89CB9D5D5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5FA2E2-00EF-4927-9583-1910EBA641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F2407-E446-4A05-AF87-65538DF8EE9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5C651-8EEE-447B-932D-B9897DF032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EC2DD-7721-4ADC-AFEE-B78D64A7FF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7C95E-44D7-4CCA-8768-5CA75E3A9F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722AE-020F-4A88-81AA-74B149B0E0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FDB02-AF06-4A2D-8DE7-B467EAF275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575F8-181F-4C05-8D4B-B1EB2DB03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2C0D-4C5C-4C92-8905-B18FDBB527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132C5-50F0-4418-98F9-87F68320A3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F7787-C751-42C9-8C90-C2951EAEE8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7EEAF-6301-4CDC-8C87-F7D1E49DE1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CB3F5-2D89-46D9-A0C5-218D55E1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5FC12-9299-4403-AB72-67D5A646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24509-92B9-4D21-A505-6AA5A553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00B19-18CD-4840-9797-2238ABAE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4EAE9A-4736-43AC-86D4-E998DBDA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CF406-BE78-4134-9418-21592F18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3B360-BB87-475F-9231-BF2E156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D3DE-D899-4153-8958-49E1CFD2A48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FCEF1-8E27-495D-92CA-882CBA5A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ECA73C-7B77-4254-A4FC-3D40A68D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B1DEE2-45F4-4460-8117-7E39A6A7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7E671E-3A99-4387-AF27-F3F08E29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BED779-6552-470D-9757-22981112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D72EB-821D-42C1-8FAB-678900326B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AEA2B-9582-456C-87FD-6993BCE713F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41BB4-1C0B-4332-A277-D047B0C7912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752BD-DFD9-47DE-90FB-DA751375E8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11FF3-90E0-4D3A-848C-72F32BD84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EDAB-FF6C-4EF8-9870-30B5329F2B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0" y="658800"/>
            <a:ext cx="626904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85269-E192-4314-8A95-AEC0DACBCD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D9A94-8E91-465D-BBA0-0A3624894D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9D945-7F81-43BD-8333-02B776667F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DCCE6-CD97-4382-AFF2-807D130FDB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52280" y="348516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39669-3CA9-41DD-B4C5-F1A10407EE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2560" y="15746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5228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42560" y="348516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8A2C6-EAD4-49C8-8587-5AB3B072550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150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77880" y="15746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522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150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77880" y="348516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4201A-CEF2-4253-AB18-8F587BDCB6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532F8-2930-4AC1-871C-DD4EBF20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8A169-30BC-4C8B-993E-E59C2F53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B828C-6F6E-4414-961B-DA5A53EA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89000"/>
            <a:ext cx="9144000" cy="84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5A59-7FD4-44AC-A0DB-E4021271E14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6" descr="OPDC_Thai"/>
          <p:cNvPicPr/>
          <p:nvPr/>
        </p:nvPicPr>
        <p:blipFill>
          <a:blip r:embed="rId2"/>
          <a:stretch/>
        </p:blipFill>
        <p:spPr>
          <a:xfrm>
            <a:off x="4313160" y="6480000"/>
            <a:ext cx="774720" cy="285840"/>
          </a:xfrm>
          <a:prstGeom prst="rect">
            <a:avLst/>
          </a:prstGeom>
          <a:ln w="0">
            <a:noFill/>
          </a:ln>
        </p:spPr>
      </p:pic>
      <p:sp>
        <p:nvSpPr>
          <p:cNvPr id="5" name="Line 7"/>
          <p:cNvSpPr/>
          <p:nvPr/>
        </p:nvSpPr>
        <p:spPr>
          <a:xfrm>
            <a:off x="0" y="10396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810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ภาพประกอบslideกพร1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281640" y="189000"/>
            <a:ext cx="286236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A5B0-2070-48D8-8CEE-35BA547ABE7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189000"/>
            <a:ext cx="9144000" cy="84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1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28E9-B865-47C5-B9DA-1065AD8027D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Picture 6" descr="OPDC_Thai"/>
          <p:cNvPicPr/>
          <p:nvPr/>
        </p:nvPicPr>
        <p:blipFill>
          <a:blip r:embed="rId2"/>
          <a:stretch/>
        </p:blipFill>
        <p:spPr>
          <a:xfrm>
            <a:off x="4313160" y="6480000"/>
            <a:ext cx="774720" cy="285840"/>
          </a:xfrm>
          <a:prstGeom prst="rect">
            <a:avLst/>
          </a:prstGeom>
          <a:ln w="0">
            <a:noFill/>
          </a:ln>
        </p:spPr>
      </p:pic>
      <p:sp>
        <p:nvSpPr>
          <p:cNvPr id="430" name="Line 7"/>
          <p:cNvSpPr/>
          <p:nvPr/>
        </p:nvSpPr>
        <p:spPr>
          <a:xfrm>
            <a:off x="0" y="10396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0" y="1810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2" name="Picture 9" descr="ภาพประกอบslideกพร1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281640" y="189000"/>
            <a:ext cx="286236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3F9D-8113-41BB-85DB-D531FC5B9C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189000"/>
            <a:ext cx="9144000" cy="84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7ADF-5E19-47BF-94DA-A05E7488E66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6" descr="OPDC_Thai"/>
          <p:cNvPicPr/>
          <p:nvPr/>
        </p:nvPicPr>
        <p:blipFill>
          <a:blip r:embed="rId2"/>
          <a:stretch/>
        </p:blipFill>
        <p:spPr>
          <a:xfrm>
            <a:off x="4313160" y="6480000"/>
            <a:ext cx="774720" cy="285840"/>
          </a:xfrm>
          <a:prstGeom prst="rect">
            <a:avLst/>
          </a:prstGeom>
          <a:ln w="0">
            <a:noFill/>
          </a:ln>
        </p:spPr>
      </p:pic>
      <p:sp>
        <p:nvSpPr>
          <p:cNvPr id="90" name="Line 7"/>
          <p:cNvSpPr/>
          <p:nvPr/>
        </p:nvSpPr>
        <p:spPr>
          <a:xfrm>
            <a:off x="0" y="10396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0" y="1810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9" descr="ภาพประกอบslideกพร1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281640" y="189000"/>
            <a:ext cx="286236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15A-8B4D-4AF1-8029-75940E3E3C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189000"/>
            <a:ext cx="9144000" cy="84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C232-F740-4241-88A7-ACCC8CB5DA4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6" descr="OPDC_Thai"/>
          <p:cNvPicPr/>
          <p:nvPr/>
        </p:nvPicPr>
        <p:blipFill>
          <a:blip r:embed="rId2"/>
          <a:stretch/>
        </p:blipFill>
        <p:spPr>
          <a:xfrm>
            <a:off x="4313160" y="6480000"/>
            <a:ext cx="774720" cy="285840"/>
          </a:xfrm>
          <a:prstGeom prst="rect">
            <a:avLst/>
          </a:prstGeom>
          <a:ln w="0">
            <a:noFill/>
          </a:ln>
        </p:spPr>
      </p:pic>
      <p:sp>
        <p:nvSpPr>
          <p:cNvPr id="175" name="Line 7"/>
          <p:cNvSpPr/>
          <p:nvPr/>
        </p:nvSpPr>
        <p:spPr>
          <a:xfrm>
            <a:off x="0" y="10396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0" y="1810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9" descr="ภาพประกอบslideกพร1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281640" y="189000"/>
            <a:ext cx="286236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189000"/>
            <a:ext cx="9144000" cy="84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0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2C16-1FF8-4527-807F-8DB86506304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6" descr="OPDC_Thai"/>
          <p:cNvPicPr/>
          <p:nvPr/>
        </p:nvPicPr>
        <p:blipFill>
          <a:blip r:embed="rId2"/>
          <a:stretch/>
        </p:blipFill>
        <p:spPr>
          <a:xfrm>
            <a:off x="4313160" y="6480000"/>
            <a:ext cx="774720" cy="285840"/>
          </a:xfrm>
          <a:prstGeom prst="rect">
            <a:avLst/>
          </a:prstGeom>
          <a:ln w="0">
            <a:noFill/>
          </a:ln>
        </p:spPr>
      </p:pic>
      <p:sp>
        <p:nvSpPr>
          <p:cNvPr id="219" name="Line 7"/>
          <p:cNvSpPr/>
          <p:nvPr/>
        </p:nvSpPr>
        <p:spPr>
          <a:xfrm>
            <a:off x="0" y="10396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0" y="1810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1" name="Picture 9" descr="ภาพประกอบslideกพร1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281640" y="189000"/>
            <a:ext cx="286236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F81-144E-44C6-ADE5-E3796ADC72F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189000"/>
            <a:ext cx="9144000" cy="84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658800"/>
            <a:ext cx="6269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52280" y="157464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14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3CF0-4992-46D0-A77E-32CBB0A6A4F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Picture 6" descr="OPDC_Thai"/>
          <p:cNvPicPr/>
          <p:nvPr/>
        </p:nvPicPr>
        <p:blipFill>
          <a:blip r:embed="rId2"/>
          <a:stretch/>
        </p:blipFill>
        <p:spPr>
          <a:xfrm>
            <a:off x="4313160" y="6480000"/>
            <a:ext cx="774720" cy="285840"/>
          </a:xfrm>
          <a:prstGeom prst="rect">
            <a:avLst/>
          </a:prstGeom>
          <a:ln w="0">
            <a:noFill/>
          </a:ln>
        </p:spPr>
      </p:pic>
      <p:sp>
        <p:nvSpPr>
          <p:cNvPr id="304" name="Line 7"/>
          <p:cNvSpPr/>
          <p:nvPr/>
        </p:nvSpPr>
        <p:spPr>
          <a:xfrm>
            <a:off x="0" y="10396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0" y="181080"/>
            <a:ext cx="9144000" cy="0"/>
          </a:xfrm>
          <a:prstGeom prst="line">
            <a:avLst/>
          </a:prstGeom>
          <a:ln w="19080">
            <a:solidFill>
              <a:srgbClr val="fff3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6" name="Picture 9" descr="ภาพประกอบslideกพร1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281640" y="189000"/>
            <a:ext cx="2862360" cy="83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3B9-73C1-4DBE-825D-40EDEC29BF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71280" y="142920"/>
            <a:ext cx="7035840" cy="1038600"/>
          </a:xfrm>
          <a:prstGeom prst="rect">
            <a:avLst/>
          </a:prstGeom>
          <a:solidFill>
            <a:srgbClr val="1515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</a:rPr>
              <a:t>การชี้แจงกรอบการประเมินผลการตามคำรับรองการปฏิบัติราชการ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</a:rPr>
              <a:t>. 2552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</a:rPr>
              <a:t>ของสถาบันอุดมศึกษา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735840" y="1984320"/>
            <a:ext cx="7796160" cy="1373760"/>
          </a:xfrm>
          <a:prstGeom prst="rect">
            <a:avLst/>
          </a:prstGeom>
          <a:solidFill>
            <a:srgbClr val="0d0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ตัวชี้วัดที่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13 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ระดับความสำเร็จในการเปิดโอกาส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ให้ประชาชนเข้ามามีส่วนร่วมในการแสดงความคิดเห็น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และร่วมติดตามตรวจสอบผลการปฏิบัติราชการ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ตัวยึดหมายเลขภาพนิ่ง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DCA-65C1-4189-A80B-DC0F518AFC73}" type="slidenum">
              <a:rPr b="1" lang="en-US" sz="1400" spc="-1" strike="noStrike">
                <a:solidFill>
                  <a:srgbClr val="ffffff"/>
                </a:solidFill>
                <a:latin typeface="Tahoma"/>
                <a:ea typeface="Angsana New"/>
              </a:rPr>
              <a:t>&lt;number&gt;</a:t>
            </a:fld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841320" y="278280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th-TH" sz="3600" spc="-1" strike="noStrike">
                <a:solidFill>
                  <a:srgbClr val="00ff00"/>
                </a:solidFill>
                <a:latin typeface="Tahoma"/>
              </a:rPr>
              <a:t>การพัฒนาหลักเกณฑ์การประเมิน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857160" y="2865600"/>
            <a:ext cx="576360" cy="50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3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2558160" y="328680"/>
            <a:ext cx="4717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Tahoma"/>
              </a:rPr>
              <a:t>ระดับการมีส่วนร่วมของประชาชน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ublic Participation Spectrum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898560" y="45133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รับรู้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1763640" y="4500720"/>
            <a:ext cx="16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ให้ความเห็น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252960" y="4513320"/>
            <a:ext cx="102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ร่วมคิด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4282920" y="4510080"/>
            <a:ext cx="136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ร่วมตัดสินใจ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5722920" y="4481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ร่วมทำ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6950160" y="4530600"/>
            <a:ext cx="1869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ร่วมตรวจสอบ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เป็นเจ้าของ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714240" y="3068640"/>
            <a:ext cx="1714680" cy="122400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85" y="0"/>
                </a:lnTo>
                <a:lnTo>
                  <a:pt x="21600" y="10800"/>
                </a:lnTo>
                <a:lnTo>
                  <a:pt x="16385" y="21600"/>
                </a:lnTo>
                <a:lnTo>
                  <a:pt x="0" y="21600"/>
                </a:lnTo>
                <a:lnTo>
                  <a:pt x="5215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ให้ข้อมูล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ข่าวสาร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Inform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AutoShape 10"/>
          <p:cNvSpPr/>
          <p:nvPr/>
        </p:nvSpPr>
        <p:spPr>
          <a:xfrm>
            <a:off x="1928880" y="3068640"/>
            <a:ext cx="1993680" cy="1224000"/>
          </a:xfrm>
          <a:custGeom>
            <a:avLst/>
            <a:gdLst>
              <a:gd name="textAreaLeft" fmla="*/ 0 w 1993680"/>
              <a:gd name="textAreaRight" fmla="*/ 1994040 w 19936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31" y="0"/>
                </a:lnTo>
                <a:lnTo>
                  <a:pt x="21600" y="10800"/>
                </a:lnTo>
                <a:lnTo>
                  <a:pt x="16531" y="21600"/>
                </a:lnTo>
                <a:lnTo>
                  <a:pt x="0" y="21600"/>
                </a:lnTo>
                <a:lnTo>
                  <a:pt x="5069" y="10800"/>
                </a:lnTo>
                <a:close/>
              </a:path>
            </a:pathLst>
          </a:custGeom>
          <a:solidFill>
            <a:srgbClr val="ffff66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รับฟัง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ความคิดเห็น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Consult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AutoShape 11"/>
          <p:cNvSpPr/>
          <p:nvPr/>
        </p:nvSpPr>
        <p:spPr>
          <a:xfrm>
            <a:off x="3449520" y="3067200"/>
            <a:ext cx="1979640" cy="12366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72" y="0"/>
                </a:lnTo>
                <a:lnTo>
                  <a:pt x="21600" y="10800"/>
                </a:lnTo>
                <a:lnTo>
                  <a:pt x="16572" y="21600"/>
                </a:lnTo>
                <a:lnTo>
                  <a:pt x="0" y="21600"/>
                </a:lnTo>
                <a:lnTo>
                  <a:pt x="5028" y="1080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    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เกี่ยวข้อง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Involv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AutoShape 12"/>
          <p:cNvSpPr/>
          <p:nvPr/>
        </p:nvSpPr>
        <p:spPr>
          <a:xfrm>
            <a:off x="4930920" y="3068640"/>
            <a:ext cx="2212920" cy="1236600"/>
          </a:xfrm>
          <a:custGeom>
            <a:avLst/>
            <a:gdLst>
              <a:gd name="textAreaLeft" fmla="*/ 0 w 2212920"/>
              <a:gd name="textAreaRight" fmla="*/ 2213280 w 22129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1" y="0"/>
                </a:lnTo>
                <a:lnTo>
                  <a:pt x="21600" y="10800"/>
                </a:lnTo>
                <a:lnTo>
                  <a:pt x="16541" y="21600"/>
                </a:lnTo>
                <a:lnTo>
                  <a:pt x="0" y="21600"/>
                </a:lnTo>
                <a:lnTo>
                  <a:pt x="5059" y="108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2400" spc="-1" strike="noStrike">
                <a:solidFill>
                  <a:srgbClr val="0000cc"/>
                </a:solidFill>
                <a:latin typeface="Tahoma"/>
              </a:rPr>
              <a:t>     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th-TH" sz="2400" spc="-1" strike="noStrike">
                <a:solidFill>
                  <a:srgbClr val="0000cc"/>
                </a:solidFill>
                <a:latin typeface="Tahoma"/>
              </a:rPr>
              <a:t>ร่วมมือ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Collaborat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     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AutoShape 13"/>
          <p:cNvSpPr/>
          <p:nvPr/>
        </p:nvSpPr>
        <p:spPr>
          <a:xfrm>
            <a:off x="6643800" y="3078000"/>
            <a:ext cx="2143080" cy="123696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12" y="0"/>
                </a:lnTo>
                <a:lnTo>
                  <a:pt x="21600" y="10800"/>
                </a:lnTo>
                <a:lnTo>
                  <a:pt x="16412" y="21600"/>
                </a:lnTo>
                <a:lnTo>
                  <a:pt x="0" y="21600"/>
                </a:lnTo>
                <a:lnTo>
                  <a:pt x="5188" y="10800"/>
                </a:lnTo>
                <a:close/>
              </a:path>
            </a:pathLst>
          </a:custGeom>
          <a:solidFill>
            <a:srgbClr val="ff6600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1400" spc="-1" strike="noStrike">
                <a:solidFill>
                  <a:srgbClr val="0000cc"/>
                </a:solidFill>
                <a:latin typeface="Tahoma"/>
              </a:rPr>
              <a:t>     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เสริมอำนาจ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ประชาชน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Empower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 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AutoShape 14"/>
          <p:cNvSpPr/>
          <p:nvPr/>
        </p:nvSpPr>
        <p:spPr>
          <a:xfrm>
            <a:off x="1403280" y="460224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6" name="AutoShape 15"/>
          <p:cNvSpPr/>
          <p:nvPr/>
        </p:nvSpPr>
        <p:spPr>
          <a:xfrm>
            <a:off x="2843280" y="460224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AutoShape 16"/>
          <p:cNvSpPr/>
          <p:nvPr/>
        </p:nvSpPr>
        <p:spPr>
          <a:xfrm>
            <a:off x="3936960" y="460224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AutoShape 17"/>
          <p:cNvSpPr/>
          <p:nvPr/>
        </p:nvSpPr>
        <p:spPr>
          <a:xfrm>
            <a:off x="5354640" y="460224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AutoShape 18"/>
          <p:cNvSpPr/>
          <p:nvPr/>
        </p:nvSpPr>
        <p:spPr>
          <a:xfrm>
            <a:off x="6515280" y="460224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AutoShape 19"/>
          <p:cNvSpPr/>
          <p:nvPr/>
        </p:nvSpPr>
        <p:spPr>
          <a:xfrm rot="5400000">
            <a:off x="780480" y="1908000"/>
            <a:ext cx="395280" cy="36036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AutoShape 20"/>
          <p:cNvSpPr/>
          <p:nvPr/>
        </p:nvSpPr>
        <p:spPr>
          <a:xfrm rot="5400000">
            <a:off x="2231640" y="1898640"/>
            <a:ext cx="610920" cy="360360"/>
          </a:xfrm>
          <a:prstGeom prst="pie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AutoShape 21"/>
          <p:cNvSpPr/>
          <p:nvPr/>
        </p:nvSpPr>
        <p:spPr>
          <a:xfrm rot="5400000">
            <a:off x="3616920" y="1854720"/>
            <a:ext cx="755640" cy="43344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3" name="AutoShape 22"/>
          <p:cNvSpPr/>
          <p:nvPr/>
        </p:nvSpPr>
        <p:spPr>
          <a:xfrm rot="5400000">
            <a:off x="5074920" y="1844640"/>
            <a:ext cx="1150920" cy="433440"/>
          </a:xfrm>
          <a:prstGeom prst="pi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AutoShape 23"/>
          <p:cNvSpPr/>
          <p:nvPr/>
        </p:nvSpPr>
        <p:spPr>
          <a:xfrm rot="13683600">
            <a:off x="7092360" y="1412280"/>
            <a:ext cx="1295640" cy="1152720"/>
          </a:xfrm>
          <a:prstGeom prst="rtTriangl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Text Box 24"/>
          <p:cNvSpPr/>
          <p:nvPr/>
        </p:nvSpPr>
        <p:spPr>
          <a:xfrm>
            <a:off x="928800" y="1844640"/>
            <a:ext cx="7385040" cy="3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ff"/>
                </a:solidFill>
                <a:latin typeface="Tahoma"/>
              </a:rPr>
              <a:t>ระดับหรือบทบาทที่เพิ่มขึ้นตามการมีส่วนร่วมของประชาชน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Text Box 25"/>
          <p:cNvSpPr/>
          <p:nvPr/>
        </p:nvSpPr>
        <p:spPr>
          <a:xfrm>
            <a:off x="250920" y="5967360"/>
            <a:ext cx="79200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ที่มา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: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7" name="Rectangle 26"/>
          <p:cNvSpPr/>
          <p:nvPr/>
        </p:nvSpPr>
        <p:spPr>
          <a:xfrm>
            <a:off x="826920" y="5996160"/>
            <a:ext cx="8066160" cy="28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Public Participation Spectrum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 ,</a:t>
            </a:r>
            <a:r>
              <a:rPr b="1" lang="th-TH" sz="1200" spc="-1" strike="noStrike">
                <a:solidFill>
                  <a:srgbClr val="0000ff"/>
                </a:solidFill>
                <a:latin typeface="Tahoma"/>
              </a:rPr>
              <a:t>พัฒนาโดย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International Association for Public Participation (IAP2)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8" name="Picture 27" descr="iap2-en"/>
          <p:cNvPicPr/>
          <p:nvPr/>
        </p:nvPicPr>
        <p:blipFill>
          <a:blip r:embed="rId1"/>
          <a:stretch/>
        </p:blipFill>
        <p:spPr>
          <a:xfrm>
            <a:off x="466560" y="182520"/>
            <a:ext cx="865440" cy="7984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28"/>
          <p:cNvSpPr/>
          <p:nvPr/>
        </p:nvSpPr>
        <p:spPr>
          <a:xfrm>
            <a:off x="201960" y="9079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Angsana New"/>
              </a:rPr>
              <a:t>International Association</a:t>
            </a:r>
            <a:endParaRPr b="1" lang="en-US" sz="9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Angsana New"/>
              </a:rPr>
              <a:t>For Public Participation</a:t>
            </a:r>
            <a:endParaRPr b="1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900000" y="45086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รับรู้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9"/>
          <p:cNvGrpSpPr/>
          <p:nvPr/>
        </p:nvGrpSpPr>
        <p:grpSpPr>
          <a:xfrm>
            <a:off x="1763640" y="1413000"/>
            <a:ext cx="5761080" cy="3895200"/>
            <a:chOff x="1763640" y="1413000"/>
            <a:chExt cx="5761080" cy="3895200"/>
          </a:xfrm>
        </p:grpSpPr>
        <p:sp>
          <p:nvSpPr>
            <p:cNvPr id="572" name="AutoShape 10"/>
            <p:cNvSpPr/>
            <p:nvPr/>
          </p:nvSpPr>
          <p:spPr>
            <a:xfrm>
              <a:off x="1763640" y="4342680"/>
              <a:ext cx="5761080" cy="965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00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(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ให้ข่าวสารข้อมูล 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5 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ช่องทาง</a:t>
              </a:r>
              <a:r>
                <a:rPr b="1" lang="th-TH" sz="14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3" name="AutoShape 11"/>
            <p:cNvSpPr/>
            <p:nvPr/>
          </p:nvSpPr>
          <p:spPr>
            <a:xfrm>
              <a:off x="2734200" y="3614760"/>
              <a:ext cx="4790160" cy="965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400" spc="-1" strike="noStrike">
                  <a:solidFill>
                    <a:srgbClr val="000000"/>
                  </a:solidFill>
                  <a:latin typeface="Tahoma"/>
                </a:rPr>
                <a:t>2 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(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รับฟังความคิดเห็น 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3 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ช่องทาง</a:t>
              </a:r>
              <a:r>
                <a:rPr b="1" lang="th-TH" sz="14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4" name="AutoShape 12"/>
            <p:cNvSpPr/>
            <p:nvPr/>
          </p:nvSpPr>
          <p:spPr>
            <a:xfrm>
              <a:off x="3643560" y="2887560"/>
              <a:ext cx="3880800" cy="965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ระดับคะแนน </a:t>
              </a:r>
              <a:r>
                <a:rPr b="1" lang="th-TH" sz="1400" spc="-1" strike="noStrike">
                  <a:solidFill>
                    <a:srgbClr val="003300"/>
                  </a:solidFill>
                  <a:latin typeface="Tahoma"/>
                </a:rPr>
                <a:t>3 </a:t>
              </a: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3300"/>
                  </a:solidFill>
                  <a:latin typeface="Arial"/>
                </a:rPr>
                <a:t>(</a:t>
              </a:r>
              <a:r>
                <a:rPr b="1" lang="th-TH" sz="1200" spc="-1" strike="noStrike">
                  <a:solidFill>
                    <a:srgbClr val="003300"/>
                  </a:solidFill>
                  <a:latin typeface="Arial"/>
                </a:rPr>
                <a:t>นำความเห็นประกอบการบริหารงาน </a:t>
              </a:r>
              <a:r>
                <a:rPr b="1" lang="th-TH" sz="12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5" name="AutoShape 13"/>
            <p:cNvSpPr/>
            <p:nvPr/>
          </p:nvSpPr>
          <p:spPr>
            <a:xfrm>
              <a:off x="4554000" y="2153160"/>
              <a:ext cx="2970360" cy="965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400" spc="-1" strike="noStrike">
                  <a:solidFill>
                    <a:srgbClr val="000000"/>
                  </a:solidFill>
                  <a:latin typeface="Tahoma"/>
                </a:rPr>
                <a:t>4 </a:t>
              </a: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</a:rPr>
                <a:t>มีที่ปรึกษา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th-TH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6" name="AutoShape 14"/>
            <p:cNvSpPr/>
            <p:nvPr/>
          </p:nvSpPr>
          <p:spPr>
            <a:xfrm>
              <a:off x="5463000" y="1413000"/>
              <a:ext cx="2061360" cy="965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9933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400" spc="-1" strike="noStrike">
                  <a:solidFill>
                    <a:srgbClr val="000000"/>
                  </a:solidFill>
                  <a:latin typeface="Tahoma"/>
                </a:rPr>
                <a:t>5 </a:t>
              </a: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มีกลไกการตรวจสอบ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7" name="Rectangle 17"/>
          <p:cNvSpPr/>
          <p:nvPr/>
        </p:nvSpPr>
        <p:spPr>
          <a:xfrm>
            <a:off x="2631600" y="177336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c6724"/>
                </a:solidFill>
                <a:latin typeface="Arial"/>
              </a:rPr>
              <a:t>ตัวชี้วัดปี </a:t>
            </a:r>
            <a:r>
              <a:rPr b="1" lang="th-TH" sz="2400" spc="-1" strike="noStrike">
                <a:solidFill>
                  <a:srgbClr val="fc6724"/>
                </a:solidFill>
                <a:latin typeface="Arial"/>
              </a:rPr>
              <a:t>49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8" name="Text Box 19"/>
          <p:cNvSpPr/>
          <p:nvPr/>
        </p:nvSpPr>
        <p:spPr>
          <a:xfrm>
            <a:off x="1908000" y="5308560"/>
            <a:ext cx="45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ef7"/>
                </a:solidFill>
                <a:latin typeface="Arial"/>
              </a:rPr>
              <a:t>เน้นการสร้างระบบ</a:t>
            </a:r>
            <a:r>
              <a:rPr b="1" lang="th-TH" sz="2000" spc="-1" strike="noStrike">
                <a:solidFill>
                  <a:srgbClr val="fffef7"/>
                </a:solidFill>
                <a:latin typeface="Arial"/>
              </a:rPr>
              <a:t>/</a:t>
            </a:r>
            <a:r>
              <a:rPr b="1" lang="th-TH" sz="2000" spc="-1" strike="noStrike">
                <a:solidFill>
                  <a:srgbClr val="fffef7"/>
                </a:solidFill>
                <a:latin typeface="Arial"/>
              </a:rPr>
              <a:t>กลไกในการเปิดโอกาสให้ประชาชนมีส่วนร่วม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Text Box 20"/>
          <p:cNvSpPr/>
          <p:nvPr/>
        </p:nvSpPr>
        <p:spPr>
          <a:xfrm>
            <a:off x="468360" y="476280"/>
            <a:ext cx="4608360" cy="45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การพัฒนาเกณฑ์การประเมินผล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79280" y="115920"/>
            <a:ext cx="8496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</a:rPr>
              <a:t>กำหนดตัวชี้วัดการมีส่วนร่วมของภาคประชาชนไว้ในกรอบการประเมินฯ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324000" y="3141720"/>
            <a:ext cx="3384360" cy="2734920"/>
            <a:chOff x="324000" y="3141720"/>
            <a:chExt cx="3384360" cy="2734920"/>
          </a:xfrm>
        </p:grpSpPr>
        <p:sp>
          <p:nvSpPr>
            <p:cNvPr id="582" name="AutoShape 4"/>
            <p:cNvSpPr/>
            <p:nvPr/>
          </p:nvSpPr>
          <p:spPr>
            <a:xfrm>
              <a:off x="324000" y="5198760"/>
              <a:ext cx="3384360" cy="677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00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r>
                <a:rPr b="1" lang="th-TH" sz="1000" spc="-1" strike="noStrike">
                  <a:solidFill>
                    <a:srgbClr val="003300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ให้ข้อมูลข่าวสาร 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5 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ช่องทาง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3" name="AutoShape 5"/>
            <p:cNvSpPr/>
            <p:nvPr/>
          </p:nvSpPr>
          <p:spPr>
            <a:xfrm>
              <a:off x="894240" y="4687920"/>
              <a:ext cx="2814120" cy="67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2 </a:t>
              </a:r>
              <a:r>
                <a:rPr b="1" lang="th-TH" sz="1000" spc="-1" strike="noStrike">
                  <a:solidFill>
                    <a:srgbClr val="003300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รับฟังความคิดเห็น 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3 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ช่องทาง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4" name="AutoShape 6"/>
            <p:cNvSpPr/>
            <p:nvPr/>
          </p:nvSpPr>
          <p:spPr>
            <a:xfrm>
              <a:off x="1428480" y="4177080"/>
              <a:ext cx="2279880" cy="67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3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(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นำความเห็นประกอบการบริหารงาน</a:t>
              </a:r>
              <a:r>
                <a:rPr b="1" lang="th-TH" sz="14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5" name="AutoShape 7"/>
            <p:cNvSpPr/>
            <p:nvPr/>
          </p:nvSpPr>
          <p:spPr>
            <a:xfrm>
              <a:off x="1963080" y="3661560"/>
              <a:ext cx="1744920" cy="67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4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(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มีที่ปรึกษา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6" name="AutoShape 8"/>
            <p:cNvSpPr/>
            <p:nvPr/>
          </p:nvSpPr>
          <p:spPr>
            <a:xfrm>
              <a:off x="2497320" y="3141720"/>
              <a:ext cx="1211040" cy="677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9933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5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มีกลไกตรวจสอบ</a:t>
              </a: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587" name="Group 9"/>
          <p:cNvGrpSpPr/>
          <p:nvPr/>
        </p:nvGrpSpPr>
        <p:grpSpPr>
          <a:xfrm>
            <a:off x="4356000" y="1452600"/>
            <a:ext cx="4392720" cy="3168000"/>
            <a:chOff x="4356000" y="1452600"/>
            <a:chExt cx="4392720" cy="3168000"/>
          </a:xfrm>
        </p:grpSpPr>
        <p:sp>
          <p:nvSpPr>
            <p:cNvPr id="588" name="AutoShape 10"/>
            <p:cNvSpPr/>
            <p:nvPr/>
          </p:nvSpPr>
          <p:spPr>
            <a:xfrm>
              <a:off x="4356000" y="3835440"/>
              <a:ext cx="4392720" cy="785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00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1   </a:t>
              </a:r>
              <a:r>
                <a:rPr b="1" lang="th-TH" sz="1200" spc="-1" strike="noStrike">
                  <a:solidFill>
                    <a:srgbClr val="000066"/>
                  </a:solidFill>
                  <a:latin typeface="Tahoma"/>
                </a:rPr>
                <a:t>(</a:t>
              </a:r>
              <a:r>
                <a:rPr b="1" lang="th-TH" sz="1200" spc="-1" strike="noStrike">
                  <a:solidFill>
                    <a:srgbClr val="000066"/>
                  </a:solidFill>
                  <a:latin typeface="Tahoma"/>
                </a:rPr>
                <a:t>มีคณะทำงานภาคประชาชน</a:t>
              </a:r>
              <a:r>
                <a:rPr b="1" lang="th-TH" sz="12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9" name="AutoShape 11"/>
            <p:cNvSpPr/>
            <p:nvPr/>
          </p:nvSpPr>
          <p:spPr>
            <a:xfrm>
              <a:off x="5096160" y="3243600"/>
              <a:ext cx="3652560" cy="785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2 </a:t>
              </a:r>
              <a:r>
                <a:rPr b="1" lang="th-TH" sz="1000" spc="-1" strike="noStrike">
                  <a:solidFill>
                    <a:srgbClr val="003300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003300"/>
                  </a:solidFill>
                  <a:latin typeface="Tahoma"/>
                </a:rPr>
                <a:t>มีการปรึกษาหารือ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0" name="AutoShape 12"/>
            <p:cNvSpPr/>
            <p:nvPr/>
          </p:nvSpPr>
          <p:spPr>
            <a:xfrm>
              <a:off x="5789520" y="2652120"/>
              <a:ext cx="2959200" cy="785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33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3300"/>
                  </a:solidFill>
                  <a:latin typeface="Tahoma"/>
                </a:rPr>
                <a:t>3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(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ร่วมกำหนดเป้าหมาย ตัวชี้วัด วิธีการวัดผล </a:t>
              </a:r>
              <a:r>
                <a:rPr b="1" lang="th-TH" sz="10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1" name="AutoShape 13"/>
            <p:cNvSpPr/>
            <p:nvPr/>
          </p:nvSpPr>
          <p:spPr>
            <a:xfrm>
              <a:off x="6483600" y="2054880"/>
              <a:ext cx="2264760" cy="785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4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th-TH" sz="1000" spc="-1" strike="noStrike">
                  <a:solidFill>
                    <a:srgbClr val="000000"/>
                  </a:solidFill>
                  <a:latin typeface="Arial"/>
                </a:rPr>
                <a:t>ร่วมติดตามความก้าวหน้า</a:t>
              </a:r>
              <a:r>
                <a:rPr b="1" lang="th-TH" sz="1000" spc="-1" strike="noStrike">
                  <a:solidFill>
                    <a:srgbClr val="333333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2" name="AutoShape 14"/>
            <p:cNvSpPr/>
            <p:nvPr/>
          </p:nvSpPr>
          <p:spPr>
            <a:xfrm>
              <a:off x="7176600" y="1452600"/>
              <a:ext cx="1571760" cy="785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9933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5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มีรายงานสาธารณะ</a:t>
              </a: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93" name="Rectangle 15"/>
          <p:cNvSpPr/>
          <p:nvPr/>
        </p:nvSpPr>
        <p:spPr>
          <a:xfrm>
            <a:off x="1334520" y="1989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ea4b"/>
                </a:solidFill>
                <a:latin typeface="Arial"/>
              </a:rPr>
              <a:t>ตัวชี้วัดปี </a:t>
            </a:r>
            <a:r>
              <a:rPr b="1" lang="th-TH" sz="2400" spc="-1" strike="noStrike">
                <a:solidFill>
                  <a:srgbClr val="ffea4b"/>
                </a:solidFill>
                <a:latin typeface="Arial"/>
              </a:rPr>
              <a:t>49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3851280" y="3933720"/>
            <a:ext cx="36036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Rectangle 17"/>
          <p:cNvSpPr/>
          <p:nvPr/>
        </p:nvSpPr>
        <p:spPr>
          <a:xfrm>
            <a:off x="4830120" y="149868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c6724"/>
                </a:solidFill>
                <a:latin typeface="Arial"/>
              </a:rPr>
              <a:t>ตัวชี้วัดปี </a:t>
            </a:r>
            <a:r>
              <a:rPr b="1" lang="th-TH" sz="2400" spc="-1" strike="noStrike">
                <a:solidFill>
                  <a:srgbClr val="fc6724"/>
                </a:solidFill>
                <a:latin typeface="Arial"/>
              </a:rPr>
              <a:t>50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324000" y="6021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ef7"/>
                </a:solidFill>
                <a:latin typeface="Arial"/>
              </a:rPr>
              <a:t>เน้นการสร้างระบบ</a:t>
            </a:r>
            <a:r>
              <a:rPr b="1" lang="th-TH" sz="1800" spc="-1" strike="noStrike">
                <a:solidFill>
                  <a:srgbClr val="fffef7"/>
                </a:solidFill>
                <a:latin typeface="Arial"/>
              </a:rPr>
              <a:t>/</a:t>
            </a:r>
            <a:r>
              <a:rPr b="1" lang="th-TH" sz="1800" spc="-1" strike="noStrike">
                <a:solidFill>
                  <a:srgbClr val="fffef7"/>
                </a:solidFill>
                <a:latin typeface="Arial"/>
              </a:rPr>
              <a:t>กลไกในการเปิดโอกาสให้ประชาชนมีส่วนร่วม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4500720" y="474336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ef7"/>
                </a:solidFill>
                <a:latin typeface="Arial"/>
              </a:rPr>
              <a:t>เน้นการทำงานร่วมกับภาคประชาชน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Text Box 20"/>
          <p:cNvSpPr/>
          <p:nvPr/>
        </p:nvSpPr>
        <p:spPr>
          <a:xfrm>
            <a:off x="468360" y="595440"/>
            <a:ext cx="460836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การพัฒนาเกณฑ์การประเมินผล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79280" y="115920"/>
            <a:ext cx="8496360" cy="75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th-TH" sz="1800" spc="-1" strike="noStrike">
                <a:solidFill>
                  <a:srgbClr val="ffff00"/>
                </a:solidFill>
                <a:latin typeface="Tahoma"/>
              </a:rPr>
              <a:t>กำหนดตัวชี้วัดการมีส่วนร่วมของภาคประชาชนไว้ในกรอบการประเมินฯ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71280" y="3141720"/>
            <a:ext cx="2880000" cy="2160000"/>
            <a:chOff x="71280" y="3141720"/>
            <a:chExt cx="2880000" cy="2160000"/>
          </a:xfrm>
        </p:grpSpPr>
        <p:sp>
          <p:nvSpPr>
            <p:cNvPr id="601" name="AutoShape 3"/>
            <p:cNvSpPr/>
            <p:nvPr/>
          </p:nvSpPr>
          <p:spPr>
            <a:xfrm>
              <a:off x="71280" y="4766400"/>
              <a:ext cx="2880000" cy="5353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00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1 </a:t>
              </a:r>
              <a:r>
                <a:rPr b="1" lang="th-TH" sz="1000" spc="-1" strike="noStrike">
                  <a:solidFill>
                    <a:srgbClr val="3e3e5c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ให้ข้อมูลข่าวสาร 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5 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ช่องทาง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2" name="AutoShape 4"/>
            <p:cNvSpPr/>
            <p:nvPr/>
          </p:nvSpPr>
          <p:spPr>
            <a:xfrm>
              <a:off x="556560" y="4362840"/>
              <a:ext cx="2394720" cy="535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2 </a:t>
              </a:r>
              <a:r>
                <a:rPr b="1" lang="th-TH" sz="1000" spc="-1" strike="noStrike">
                  <a:solidFill>
                    <a:srgbClr val="3e3e5c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รับฟังความคิดเห็น 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3 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ช่องทาง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3" name="AutoShape 5"/>
            <p:cNvSpPr/>
            <p:nvPr/>
          </p:nvSpPr>
          <p:spPr>
            <a:xfrm>
              <a:off x="1010880" y="3959640"/>
              <a:ext cx="1940040" cy="535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3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(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นำความเห็นประกอบการบริหารงาน</a:t>
              </a:r>
              <a:r>
                <a:rPr b="1" lang="th-TH" sz="14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4" name="AutoShape 6"/>
            <p:cNvSpPr/>
            <p:nvPr/>
          </p:nvSpPr>
          <p:spPr>
            <a:xfrm>
              <a:off x="1466280" y="3552120"/>
              <a:ext cx="1485000" cy="535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4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(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มีที่ปรึกษา</a:t>
              </a:r>
              <a:r>
                <a:rPr b="1" lang="th-TH" sz="16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5" name="AutoShape 7"/>
            <p:cNvSpPr/>
            <p:nvPr/>
          </p:nvSpPr>
          <p:spPr>
            <a:xfrm>
              <a:off x="1920600" y="3141720"/>
              <a:ext cx="1030680" cy="5353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9933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5 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9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1" lang="th-TH" sz="900" spc="-1" strike="noStrike">
                  <a:solidFill>
                    <a:srgbClr val="000000"/>
                  </a:solidFill>
                  <a:latin typeface="Tahoma"/>
                </a:rPr>
                <a:t>มีกลไกตรวจสอบ</a:t>
              </a:r>
              <a:r>
                <a:rPr b="1" lang="th-TH" sz="9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1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606" name="Group 8"/>
          <p:cNvGrpSpPr/>
          <p:nvPr/>
        </p:nvGrpSpPr>
        <p:grpSpPr>
          <a:xfrm>
            <a:off x="3024360" y="3068640"/>
            <a:ext cx="2950920" cy="2232000"/>
            <a:chOff x="3024360" y="3068640"/>
            <a:chExt cx="2950920" cy="2232000"/>
          </a:xfrm>
        </p:grpSpPr>
        <p:sp>
          <p:nvSpPr>
            <p:cNvPr id="607" name="AutoShape 9"/>
            <p:cNvSpPr/>
            <p:nvPr/>
          </p:nvSpPr>
          <p:spPr>
            <a:xfrm>
              <a:off x="3024360" y="4747320"/>
              <a:ext cx="2950920" cy="5533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00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1 </a:t>
              </a:r>
              <a:r>
                <a:rPr b="1" lang="th-TH" sz="1000" spc="-1" strike="noStrike">
                  <a:solidFill>
                    <a:srgbClr val="3e3e5c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3e3e5c"/>
                  </a:solidFill>
                  <a:latin typeface="Tahoma"/>
                </a:rPr>
                <a:t>มีคณะทำงานภาคประชาชน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8" name="AutoShape 10"/>
            <p:cNvSpPr/>
            <p:nvPr/>
          </p:nvSpPr>
          <p:spPr>
            <a:xfrm>
              <a:off x="3521520" y="4330080"/>
              <a:ext cx="2453760" cy="5533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2 </a:t>
              </a:r>
              <a:r>
                <a:rPr b="1" lang="th-TH" sz="1000" spc="-1" strike="noStrike">
                  <a:solidFill>
                    <a:srgbClr val="3e3e5c"/>
                  </a:solidFill>
                  <a:latin typeface="Tahoma"/>
                </a:rPr>
                <a:t>(</a:t>
              </a:r>
              <a:r>
                <a:rPr b="1" lang="th-TH" sz="1000" spc="-1" strike="noStrike">
                  <a:solidFill>
                    <a:srgbClr val="3e3e5c"/>
                  </a:solidFill>
                  <a:latin typeface="Tahoma"/>
                </a:rPr>
                <a:t>มีการปรึกษาหารือ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9" name="AutoShape 11"/>
            <p:cNvSpPr/>
            <p:nvPr/>
          </p:nvSpPr>
          <p:spPr>
            <a:xfrm>
              <a:off x="3987360" y="3913560"/>
              <a:ext cx="1987920" cy="5533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3e3e5c"/>
                  </a:solidFill>
                  <a:latin typeface="Tahoma"/>
                </a:rPr>
                <a:t>3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(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ร่วมกำหนดเป้าหมาย ตัวชี้วัด วิธีการวัดผล </a:t>
              </a:r>
              <a:r>
                <a:rPr b="1" lang="th-TH" sz="10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0" name="AutoShape 12"/>
            <p:cNvSpPr/>
            <p:nvPr/>
          </p:nvSpPr>
          <p:spPr>
            <a:xfrm>
              <a:off x="4453560" y="3492720"/>
              <a:ext cx="1521360" cy="5533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200" spc="-1" strike="noStrike">
                  <a:solidFill>
                    <a:srgbClr val="000000"/>
                  </a:solidFill>
                  <a:latin typeface="Tahoma"/>
                </a:rPr>
                <a:t>4 </a:t>
              </a:r>
              <a:endParaRPr b="1" lang="en-US" sz="1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th-TH" sz="1000" spc="-1" strike="noStrike">
                  <a:solidFill>
                    <a:srgbClr val="000000"/>
                  </a:solidFill>
                  <a:latin typeface="Arial"/>
                </a:rPr>
                <a:t>ร่วมติดตามความก้าวหน้า</a:t>
              </a:r>
              <a:r>
                <a:rPr b="1" lang="th-TH" sz="1000" spc="-1" strike="noStrike">
                  <a:solidFill>
                    <a:srgbClr val="333333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1" name="AutoShape 13"/>
            <p:cNvSpPr/>
            <p:nvPr/>
          </p:nvSpPr>
          <p:spPr>
            <a:xfrm>
              <a:off x="4919400" y="3068640"/>
              <a:ext cx="1055880" cy="5533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9933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ระดับคะแนน </a:t>
              </a:r>
              <a:r>
                <a:rPr b="1" lang="th-TH" sz="1000" spc="-1" strike="noStrike">
                  <a:solidFill>
                    <a:srgbClr val="000000"/>
                  </a:solidFill>
                  <a:latin typeface="Tahoma"/>
                </a:rPr>
                <a:t>5 </a:t>
              </a:r>
              <a:endParaRPr b="1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9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1" lang="th-TH" sz="900" spc="-1" strike="noStrike">
                  <a:solidFill>
                    <a:srgbClr val="000000"/>
                  </a:solidFill>
                  <a:latin typeface="Tahoma"/>
                </a:rPr>
                <a:t>มีรายงานสาธารณะ</a:t>
              </a:r>
              <a:r>
                <a:rPr b="1" lang="th-TH" sz="9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1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12" name="Rectangle 14"/>
          <p:cNvSpPr/>
          <p:nvPr/>
        </p:nvSpPr>
        <p:spPr>
          <a:xfrm>
            <a:off x="159480" y="2852640"/>
            <a:ext cx="14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Arial"/>
              </a:rPr>
              <a:t>ตัวชี้วัดปี </a:t>
            </a:r>
            <a:r>
              <a:rPr b="1" lang="th-TH" sz="2000" spc="-1" strike="noStrike">
                <a:solidFill>
                  <a:srgbClr val="ff9900"/>
                </a:solidFill>
                <a:latin typeface="Arial"/>
              </a:rPr>
              <a:t>49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3183840" y="2805120"/>
            <a:ext cx="14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ตัวชี้วัดปี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142920" y="5543640"/>
            <a:ext cx="2519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เน้นการสร้างระบบ</a:t>
            </a: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กลไกในการ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เปิดโอกาสให้ประชาชนมีส่วนร่วม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Text Box 17"/>
          <p:cNvSpPr/>
          <p:nvPr/>
        </p:nvSpPr>
        <p:spPr>
          <a:xfrm>
            <a:off x="2951280" y="553068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เน้นการทำงานร่วมกับภาคประชาชน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Text Box 18"/>
          <p:cNvSpPr/>
          <p:nvPr/>
        </p:nvSpPr>
        <p:spPr>
          <a:xfrm>
            <a:off x="0" y="115920"/>
            <a:ext cx="9144000" cy="101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การพัฒนาเกณฑ์การประเมินผล </a:t>
            </a:r>
            <a:r>
              <a:rPr b="1" lang="en-US" sz="2400" spc="-1" strike="noStrike">
                <a:solidFill>
                  <a:srgbClr val="fffef7"/>
                </a:solidFill>
                <a:latin typeface="Arial"/>
              </a:rPr>
              <a:t>: </a:t>
            </a: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การมีส่วนร่วมของประชาชน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  </a:t>
            </a: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สำหรับปีงบประมาณ พ</a:t>
            </a: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.</a:t>
            </a: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ศ</a:t>
            </a:r>
            <a:r>
              <a:rPr b="1" lang="th-TH" sz="2400" spc="-1" strike="noStrike">
                <a:solidFill>
                  <a:srgbClr val="fffef7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ef7"/>
                </a:solidFill>
                <a:latin typeface="Tahoma"/>
              </a:rPr>
              <a:t>2549-</a:t>
            </a:r>
            <a:r>
              <a:rPr b="1" lang="th-TH" sz="2400" spc="-1" strike="noStrike">
                <a:solidFill>
                  <a:srgbClr val="fffef7"/>
                </a:solidFill>
                <a:latin typeface="Tahoma"/>
              </a:rPr>
              <a:t>2551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5689440" y="5516640"/>
            <a:ext cx="35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เน้นการสร้างและพัฒนาระบบ</a:t>
            </a: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กลไกที่มีอยู่เดิม </a:t>
            </a: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th-TH" sz="1200" spc="-1" strike="noStrike">
                <a:solidFill>
                  <a:srgbClr val="ffffff"/>
                </a:solidFill>
                <a:latin typeface="Arial"/>
              </a:rPr>
              <a:t>เพิ่มคุณภาพในการทำงานร่วมกับภาคประชาชน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18" name="Group 20"/>
          <p:cNvGrpSpPr/>
          <p:nvPr/>
        </p:nvGrpSpPr>
        <p:grpSpPr>
          <a:xfrm>
            <a:off x="5977080" y="2924280"/>
            <a:ext cx="3058920" cy="2520360"/>
            <a:chOff x="5977080" y="2924280"/>
            <a:chExt cx="3058920" cy="2520360"/>
          </a:xfrm>
        </p:grpSpPr>
        <p:sp>
          <p:nvSpPr>
            <p:cNvPr id="619" name="AutoShape 21"/>
            <p:cNvSpPr/>
            <p:nvPr/>
          </p:nvSpPr>
          <p:spPr>
            <a:xfrm>
              <a:off x="5977080" y="4820040"/>
              <a:ext cx="3058920" cy="624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00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8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800" spc="-1" strike="noStrike">
                  <a:solidFill>
                    <a:srgbClr val="3e3e5c"/>
                  </a:solidFill>
                  <a:latin typeface="Tahoma"/>
                </a:rPr>
                <a:t>1   - </a:t>
              </a:r>
              <a:r>
                <a:rPr b="1" lang="th-TH" sz="700" spc="-1" strike="noStrike">
                  <a:solidFill>
                    <a:srgbClr val="3e3e5c"/>
                  </a:solidFill>
                  <a:latin typeface="Tahoma"/>
                </a:rPr>
                <a:t>มีคณะทำงานภาคประชาชน</a:t>
              </a:r>
              <a:endParaRPr b="1" lang="en-US" sz="7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700" spc="-1" strike="noStrike">
                  <a:solidFill>
                    <a:srgbClr val="3e3e5c"/>
                  </a:solidFill>
                  <a:latin typeface="Tahoma"/>
                </a:rPr>
                <a:t>                            </a:t>
              </a:r>
              <a:r>
                <a:rPr b="1" lang="th-TH" sz="700" spc="-1" strike="noStrike">
                  <a:solidFill>
                    <a:srgbClr val="3e3e5c"/>
                  </a:solidFill>
                  <a:latin typeface="Tahoma"/>
                </a:rPr>
                <a:t>- </a:t>
              </a:r>
              <a:r>
                <a:rPr b="1" lang="th-TH" sz="700" spc="-1" strike="noStrike">
                  <a:solidFill>
                    <a:srgbClr val="3e3e5c"/>
                  </a:solidFill>
                  <a:latin typeface="Tahoma"/>
                </a:rPr>
                <a:t>หารือ เลือกประเด็ฯ</a:t>
              </a:r>
              <a:endParaRPr b="1" lang="en-US" sz="7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AutoShape 22"/>
            <p:cNvSpPr/>
            <p:nvPr/>
          </p:nvSpPr>
          <p:spPr>
            <a:xfrm>
              <a:off x="6492240" y="4349160"/>
              <a:ext cx="2543400" cy="6249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9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900" spc="-1" strike="noStrike">
                  <a:solidFill>
                    <a:srgbClr val="3e3e5c"/>
                  </a:solidFill>
                  <a:latin typeface="Tahoma"/>
                </a:rPr>
                <a:t>2   -</a:t>
              </a:r>
              <a:r>
                <a:rPr b="1" lang="th-TH" sz="800" spc="-1" strike="noStrike">
                  <a:solidFill>
                    <a:srgbClr val="3e3e5c"/>
                  </a:solidFill>
                  <a:latin typeface="Tahoma"/>
                </a:rPr>
                <a:t>มีช่องทางรับพังความคิดเห็น</a:t>
              </a: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800" spc="-1" strike="noStrike">
                  <a:solidFill>
                    <a:srgbClr val="3e3e5c"/>
                  </a:solidFill>
                  <a:latin typeface="Tahoma"/>
                </a:rPr>
                <a:t>ในประเด็ฯที่เลือก  </a:t>
              </a: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800" spc="-1" strike="noStrike">
                  <a:solidFill>
                    <a:srgbClr val="3e3e5c"/>
                  </a:solidFill>
                  <a:latin typeface="Arial"/>
                </a:rPr>
                <a:t>- </a:t>
              </a:r>
              <a:r>
                <a:rPr b="1" lang="th-TH" sz="800" spc="-1" strike="noStrike">
                  <a:solidFill>
                    <a:srgbClr val="3e3e5c"/>
                  </a:solidFill>
                  <a:latin typeface="Arial"/>
                </a:rPr>
                <a:t>จัดทำแผนแบบมีส่วนร่วม</a:t>
              </a: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AutoShape 23"/>
            <p:cNvSpPr/>
            <p:nvPr/>
          </p:nvSpPr>
          <p:spPr>
            <a:xfrm>
              <a:off x="6975360" y="3878640"/>
              <a:ext cx="2060640" cy="6249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8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800" spc="-1" strike="noStrike">
                  <a:solidFill>
                    <a:srgbClr val="3e3e5c"/>
                  </a:solidFill>
                  <a:latin typeface="Tahoma"/>
                </a:rPr>
                <a:t>3 </a:t>
              </a: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700" spc="-1" strike="noStrike">
                  <a:solidFill>
                    <a:srgbClr val="3e3e5c"/>
                  </a:solidFill>
                  <a:latin typeface="Arial"/>
                </a:rPr>
                <a:t>(</a:t>
              </a:r>
              <a:r>
                <a:rPr b="1" lang="th-TH" sz="700" spc="-1" strike="noStrike">
                  <a:solidFill>
                    <a:srgbClr val="3e3e5c"/>
                  </a:solidFill>
                  <a:latin typeface="Arial"/>
                </a:rPr>
                <a:t>ดำเนินการตามแผนและร่วมติดตามความก้าวหน้า</a:t>
              </a:r>
              <a:r>
                <a:rPr b="1" lang="th-TH" sz="7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7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AutoShape 24"/>
            <p:cNvSpPr/>
            <p:nvPr/>
          </p:nvSpPr>
          <p:spPr>
            <a:xfrm>
              <a:off x="7458480" y="3403440"/>
              <a:ext cx="1577160" cy="6249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700" spc="-1" strike="noStrike">
                  <a:solidFill>
                    <a:srgbClr val="3e3e5c"/>
                  </a:solidFill>
                  <a:latin typeface="Tahoma"/>
                </a:rPr>
                <a:t>ระดับคะแนน </a:t>
              </a:r>
              <a:r>
                <a:rPr b="1" lang="th-TH" sz="700" spc="-1" strike="noStrike">
                  <a:solidFill>
                    <a:srgbClr val="3e3e5c"/>
                  </a:solidFill>
                  <a:latin typeface="Tahoma"/>
                </a:rPr>
                <a:t>4 </a:t>
              </a:r>
              <a:endParaRPr b="1" lang="en-US" sz="7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600" spc="-1" strike="noStrike">
                  <a:solidFill>
                    <a:srgbClr val="3e3e5c"/>
                  </a:solidFill>
                  <a:latin typeface="Arial"/>
                </a:rPr>
                <a:t>(</a:t>
              </a:r>
              <a:r>
                <a:rPr b="1" lang="th-TH" sz="600" spc="-1" strike="noStrike">
                  <a:solidFill>
                    <a:srgbClr val="3e3e5c"/>
                  </a:solidFill>
                  <a:latin typeface="Arial"/>
                </a:rPr>
                <a:t>ร่วมประเมินผลส ายงานต่อสาธารณะ</a:t>
              </a:r>
              <a:endParaRPr b="1" lang="en-US" sz="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600" spc="-1" strike="noStrike">
                  <a:solidFill>
                    <a:srgbClr val="3e3e5c"/>
                  </a:solidFill>
                  <a:latin typeface="Arial"/>
                </a:rPr>
                <a:t>นำไปปรับปรุงงานของส่วนราชการ</a:t>
              </a:r>
              <a:r>
                <a:rPr b="1" lang="th-TH" sz="600" spc="-1" strike="noStrike">
                  <a:solidFill>
                    <a:srgbClr val="3e3e5c"/>
                  </a:solidFill>
                  <a:latin typeface="Arial"/>
                </a:rPr>
                <a:t>)</a:t>
              </a:r>
              <a:endParaRPr b="1" lang="en-US" sz="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3" name="AutoShape 25"/>
            <p:cNvSpPr/>
            <p:nvPr/>
          </p:nvSpPr>
          <p:spPr>
            <a:xfrm>
              <a:off x="7941240" y="2924280"/>
              <a:ext cx="1094400" cy="624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9933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800" spc="-1" strike="noStrike">
                  <a:solidFill>
                    <a:srgbClr val="333333"/>
                  </a:solidFill>
                  <a:latin typeface="Tahoma"/>
                </a:rPr>
                <a:t>ระดับคะแนน </a:t>
              </a:r>
              <a:r>
                <a:rPr b="1" lang="th-TH" sz="800" spc="-1" strike="noStrike">
                  <a:solidFill>
                    <a:srgbClr val="333333"/>
                  </a:solidFill>
                  <a:latin typeface="Tahoma"/>
                </a:rPr>
                <a:t>5 </a:t>
              </a:r>
              <a:endParaRPr b="1" lang="en-US" sz="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700" spc="-1" strike="noStrike">
                  <a:solidFill>
                    <a:srgbClr val="3e3e5c"/>
                  </a:solidFill>
                  <a:latin typeface="Tahoma"/>
                </a:rPr>
                <a:t>กำหนดแนวทางการบริหาร</a:t>
              </a:r>
              <a:endParaRPr b="1" lang="en-US" sz="7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700" spc="-1" strike="noStrike">
                  <a:solidFill>
                    <a:srgbClr val="3e3e5c"/>
                  </a:solidFill>
                  <a:latin typeface="Tahoma"/>
                </a:rPr>
                <a:t>แบบมีส่วนร่วมปีต่อไป</a:t>
              </a:r>
              <a:endParaRPr b="1" lang="en-US" sz="7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4" name="Rectangle 26"/>
          <p:cNvSpPr/>
          <p:nvPr/>
        </p:nvSpPr>
        <p:spPr>
          <a:xfrm>
            <a:off x="6131880" y="285264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3300"/>
                </a:solidFill>
                <a:latin typeface="Arial"/>
              </a:rPr>
              <a:t>ตัวชี้วัดปี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51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AutoShape 27"/>
          <p:cNvSpPr/>
          <p:nvPr/>
        </p:nvSpPr>
        <p:spPr>
          <a:xfrm>
            <a:off x="3240000" y="3789360"/>
            <a:ext cx="432000" cy="431640"/>
          </a:xfrm>
          <a:prstGeom prst="rightArrow">
            <a:avLst>
              <a:gd name="adj1" fmla="val 50000"/>
              <a:gd name="adj2" fmla="val 25021"/>
            </a:avLst>
          </a:prstGeom>
          <a:solidFill>
            <a:srgbClr val="b5b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AutoShape 28"/>
          <p:cNvSpPr/>
          <p:nvPr/>
        </p:nvSpPr>
        <p:spPr>
          <a:xfrm>
            <a:off x="6337440" y="386064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5b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108000" y="1569960"/>
          <a:ext cx="8893080" cy="4851360"/>
        </p:xfrm>
        <a:graphic>
          <a:graphicData uri="http://schemas.openxmlformats.org/drawingml/2006/table">
            <a:tbl>
              <a:tblPr/>
              <a:tblGrid>
                <a:gridCol w="650880"/>
                <a:gridCol w="7170840"/>
                <a:gridCol w="1071360"/>
              </a:tblGrid>
              <a:tr h="508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ประเด็นการประเมินผล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d0f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น้ำหนัก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d0fafe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มิติที่ </a:t>
                      </a:r>
                      <a:r>
                        <a:rPr b="1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 :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มิติด้านพัฒนาสถาบัน </a:t>
                      </a:r>
                      <a:r>
                        <a:rPr b="1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</a:t>
                      </a:r>
                      <a:r>
                        <a:rPr b="1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น้ำหนักร้อยละ </a:t>
                      </a:r>
                      <a:r>
                        <a:rPr b="1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0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>
                      <a:noFill/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66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3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206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การบริหารการศึกษา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ระดับคุณภาพของการกำกับดูแลตามหน้าที่และบทบาทของสภามหาวิทยาลัยและการถ่ายทอดเป้าหมายตามยุทธศาสตร์ของมหาวิทยาลัยสู่การปฏิบัติ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ระดับความสำเร็จในการเปิดโอกาสให้ประชาชนเข้ามามีส่วนร่วมในการแสดงความคิดเห็นและร่วมติดตามตรวจสอบผลการปฏิบัติราชการ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0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---------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---------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6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7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8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---------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---------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---------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8" name="Rectangle 46"/>
          <p:cNvSpPr/>
          <p:nvPr/>
        </p:nvSpPr>
        <p:spPr>
          <a:xfrm>
            <a:off x="7920" y="928800"/>
            <a:ext cx="9144000" cy="476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66ffff"/>
                </a:solidFill>
                <a:latin typeface="Tahoma"/>
              </a:rPr>
              <a:t>กรอบการประเมินผลการปฏิบัติราชการ ประจำปีงบประมาณ </a:t>
            </a:r>
            <a:r>
              <a:rPr b="1" lang="th-TH" sz="1800" spc="-1" strike="noStrike">
                <a:solidFill>
                  <a:srgbClr val="66ffff"/>
                </a:solidFill>
                <a:latin typeface="Tahoma"/>
              </a:rPr>
              <a:t>2552 </a:t>
            </a:r>
            <a:r>
              <a:rPr b="1" lang="th-TH" sz="1800" spc="-1" strike="noStrike">
                <a:solidFill>
                  <a:srgbClr val="66ffff"/>
                </a:solidFill>
                <a:latin typeface="Tahoma"/>
              </a:rPr>
              <a:t>ของสถาบันอุดมศึกษา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Rectangle 47"/>
          <p:cNvSpPr/>
          <p:nvPr/>
        </p:nvSpPr>
        <p:spPr>
          <a:xfrm>
            <a:off x="214200" y="3643200"/>
            <a:ext cx="8715600" cy="7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Oval 5"/>
          <p:cNvSpPr/>
          <p:nvPr/>
        </p:nvSpPr>
        <p:spPr>
          <a:xfrm>
            <a:off x="250920" y="355680"/>
            <a:ext cx="28872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333333"/>
                </a:solidFill>
                <a:latin typeface="Tahoma"/>
              </a:rPr>
              <a:t>1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79280" y="277920"/>
            <a:ext cx="849636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</a:rPr>
              <a:t>กำหนดตัวชี้วัดการมีส่วนร่วมของภาคประชาชนไว้ในกรอบการประเมินฯ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15"/>
          <p:cNvGrpSpPr/>
          <p:nvPr/>
        </p:nvGrpSpPr>
        <p:grpSpPr>
          <a:xfrm>
            <a:off x="449280" y="5299200"/>
            <a:ext cx="8480520" cy="1966680"/>
            <a:chOff x="449280" y="5299200"/>
            <a:chExt cx="8480520" cy="1966680"/>
          </a:xfrm>
        </p:grpSpPr>
        <p:sp>
          <p:nvSpPr>
            <p:cNvPr id="633" name="Rounded Rectangle 16"/>
            <p:cNvSpPr/>
            <p:nvPr/>
          </p:nvSpPr>
          <p:spPr>
            <a:xfrm>
              <a:off x="449280" y="5299200"/>
              <a:ext cx="8480520" cy="1278000"/>
            </a:xfrm>
            <a:prstGeom prst="roundRect">
              <a:avLst>
                <a:gd name="adj" fmla="val 10000"/>
              </a:avLst>
            </a:prstGeom>
            <a:solidFill>
              <a:srgbClr val="0000cc"/>
            </a:solidFill>
            <a:ln w="25560">
              <a:solidFill>
                <a:srgbClr val="dbcc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4" name="Rounded Rectangle 4"/>
            <p:cNvSpPr/>
            <p:nvPr/>
          </p:nvSpPr>
          <p:spPr>
            <a:xfrm>
              <a:off x="2284200" y="5670360"/>
              <a:ext cx="664560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th-TH" sz="2400" spc="-1" strike="noStrike">
                  <a:solidFill>
                    <a:srgbClr val="dbccbd"/>
                  </a:solidFill>
                  <a:latin typeface="Tahoma"/>
                </a:rPr>
                <a:t> </a:t>
              </a:r>
              <a:endParaRPr b="1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5" name="Rounded Rectangle 8"/>
          <p:cNvSpPr/>
          <p:nvPr/>
        </p:nvSpPr>
        <p:spPr>
          <a:xfrm>
            <a:off x="428760" y="2701800"/>
            <a:ext cx="8501040" cy="12859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333333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ff00"/>
                </a:solidFill>
                <a:latin typeface="Tahoma"/>
              </a:rPr>
              <a:t>ออกแบบการสร้างการมีส่วนร่วมในประเด็นที่เลือก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ounded Rectangle 7"/>
          <p:cNvSpPr/>
          <p:nvPr/>
        </p:nvSpPr>
        <p:spPr>
          <a:xfrm>
            <a:off x="428760" y="727200"/>
            <a:ext cx="8501040" cy="19285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</a:rPr>
              <a:t>กำหนดทิศทางการบริหารราชการแบบมีส่วนร่วม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วิเคราะห์ภารกิจหลัก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ยุทธศาสตร์หลักของสถาบันฯโดยการวิเคราะห์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0" lang="th-TH" sz="1800" spc="-1" strike="noStrike">
                <a:solidFill>
                  <a:srgbClr val="ffff00"/>
                </a:solidFill>
                <a:latin typeface="Tahoma"/>
                <a:cs typeface="Tahoma"/>
              </a:rPr>
              <a:t>วิเคราะห์ผู้มีส่วนได้เสีย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อย่างครอบคลุมและชัดเจน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บทวนผลสรุปและข้อเสนอแนะจากการดำเนินการปีงบประมาณ 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551   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เลือกประเด็นที่จะดำเนินการในปีงบประมาณ 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37" name="Picture 2" descr="C:\Documents and Settings\User\My Documents\My Pictures\Microsoft Clip Organizer\j0401945.jpg"/>
          <p:cNvPicPr/>
          <p:nvPr/>
        </p:nvPicPr>
        <p:blipFill>
          <a:blip r:embed="rId1"/>
          <a:stretch/>
        </p:blipFill>
        <p:spPr>
          <a:xfrm>
            <a:off x="571680" y="1012680"/>
            <a:ext cx="1643040" cy="1351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C:\Documents and Settings\User\My Documents\My Pictures\Microsoft Clip Organizer\j0399353.jpg"/>
          <p:cNvPicPr/>
          <p:nvPr/>
        </p:nvPicPr>
        <p:blipFill>
          <a:blip r:embed="rId2"/>
          <a:stretch/>
        </p:blipFill>
        <p:spPr>
          <a:xfrm>
            <a:off x="550800" y="2752560"/>
            <a:ext cx="1663920" cy="1214640"/>
          </a:xfrm>
          <a:prstGeom prst="rect">
            <a:avLst/>
          </a:prstGeom>
          <a:ln w="0">
            <a:noFill/>
          </a:ln>
        </p:spPr>
      </p:pic>
      <p:sp>
        <p:nvSpPr>
          <p:cNvPr id="639" name="TextBox 10"/>
          <p:cNvSpPr/>
          <p:nvPr/>
        </p:nvSpPr>
        <p:spPr>
          <a:xfrm>
            <a:off x="428760" y="119160"/>
            <a:ext cx="5429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Arial"/>
              </a:rPr>
              <a:t>ขั้นตอนสำคัญ </a:t>
            </a:r>
            <a:r>
              <a:rPr b="0" lang="th-TH" sz="2400" spc="-1" strike="noStrike">
                <a:solidFill>
                  <a:srgbClr val="000099"/>
                </a:solidFill>
                <a:latin typeface="Arial"/>
              </a:rPr>
              <a:t>ปีงบประมาณ </a:t>
            </a:r>
            <a:r>
              <a:rPr b="0" lang="th-TH" sz="2400" spc="-1" strike="noStrike">
                <a:solidFill>
                  <a:srgbClr val="000099"/>
                </a:solidFill>
                <a:latin typeface="Arial"/>
              </a:rPr>
              <a:t>2552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40" name="Group 9"/>
          <p:cNvGrpSpPr/>
          <p:nvPr/>
        </p:nvGrpSpPr>
        <p:grpSpPr>
          <a:xfrm>
            <a:off x="428760" y="4033800"/>
            <a:ext cx="8501040" cy="1214640"/>
            <a:chOff x="428760" y="4033800"/>
            <a:chExt cx="8501040" cy="1214640"/>
          </a:xfrm>
        </p:grpSpPr>
        <p:sp>
          <p:nvSpPr>
            <p:cNvPr id="641" name="Rounded Rectangle 11"/>
            <p:cNvSpPr/>
            <p:nvPr/>
          </p:nvSpPr>
          <p:spPr>
            <a:xfrm>
              <a:off x="428760" y="4033800"/>
              <a:ext cx="8501040" cy="1214640"/>
            </a:xfrm>
            <a:prstGeom prst="roundRect">
              <a:avLst>
                <a:gd name="adj" fmla="val 10000"/>
              </a:avLst>
            </a:prstGeom>
            <a:solidFill>
              <a:srgbClr val="0000cc"/>
            </a:solidFill>
            <a:ln w="25560">
              <a:solidFill>
                <a:srgbClr val="dbcc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42" name="Rounded Rectangle 4"/>
            <p:cNvSpPr/>
            <p:nvPr/>
          </p:nvSpPr>
          <p:spPr>
            <a:xfrm>
              <a:off x="2268720" y="4033800"/>
              <a:ext cx="666108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ahoma"/>
                </a:rPr>
                <a:t>วางแผนแบบมีส่วนร่วม</a:t>
              </a:r>
              <a:endParaRPr b="1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th-TH" sz="2400" spc="-1" strike="noStrike">
                  <a:solidFill>
                    <a:srgbClr val="ffff00"/>
                  </a:solidFill>
                  <a:latin typeface="Tahoma"/>
                </a:rPr>
                <a:t>ดำเนินการตามแผนที่กำหนด</a:t>
              </a:r>
              <a:endParaRPr b="1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3" name="Rounded Rectangle 13"/>
          <p:cNvSpPr/>
          <p:nvPr/>
        </p:nvSpPr>
        <p:spPr>
          <a:xfrm>
            <a:off x="571680" y="4071960"/>
            <a:ext cx="1639800" cy="1181160"/>
          </a:xfrm>
          <a:prstGeom prst="roundRect">
            <a:avLst>
              <a:gd name="adj" fmla="val 1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Rounded Rectangle 14"/>
          <p:cNvSpPr/>
          <p:nvPr/>
        </p:nvSpPr>
        <p:spPr>
          <a:xfrm>
            <a:off x="573120" y="5319720"/>
            <a:ext cx="1641600" cy="1278000"/>
          </a:xfrm>
          <a:prstGeom prst="roundRect">
            <a:avLst>
              <a:gd name="adj" fmla="val 10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Rectangle 18"/>
          <p:cNvSpPr/>
          <p:nvPr/>
        </p:nvSpPr>
        <p:spPr>
          <a:xfrm>
            <a:off x="2214720" y="55008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</a:rPr>
              <a:t>สรุปผลการเปลี่ยนแปลงที่เกิดขึ้น รายงานต่อสาธารณะ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Tahoma"/>
              </a:rPr>
              <a:t>แสดงความต่อเนื่องระดับนโยบาย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3276720" y="476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</a:rPr>
              <a:t>หัวข้อนำเสนอ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684360" y="170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6600"/>
                </a:solidFill>
                <a:latin typeface="Wingdings 2"/>
                <a:ea typeface="Wingdings 2"/>
              </a:rPr>
              <a:t></a:t>
            </a:r>
            <a:r>
              <a:rPr b="1" lang="th-TH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th-TH" sz="3200" spc="-1" strike="noStrike">
                <a:solidFill>
                  <a:srgbClr val="ff6600"/>
                </a:solidFill>
                <a:latin typeface="Tahoma"/>
              </a:rPr>
              <a:t>ที่มา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969480" y="2637000"/>
            <a:ext cx="6778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66ffff"/>
                </a:solidFill>
                <a:latin typeface="Wingdings 2"/>
                <a:ea typeface="Wingdings 2"/>
              </a:rPr>
              <a:t></a:t>
            </a:r>
            <a:r>
              <a:rPr b="1" lang="th-TH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th-TH" sz="3200" spc="-1" strike="noStrike">
                <a:solidFill>
                  <a:srgbClr val="00ffff"/>
                </a:solidFill>
                <a:latin typeface="Tahoma"/>
              </a:rPr>
              <a:t>การขับเคลื่อนการบริหารราชการแบบ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Tahoma"/>
              </a:rPr>
              <a:t>     </a:t>
            </a:r>
            <a:r>
              <a:rPr b="1" lang="th-TH" sz="3200" spc="-1" strike="noStrike">
                <a:solidFill>
                  <a:srgbClr val="00ffff"/>
                </a:solidFill>
                <a:latin typeface="Tahoma"/>
              </a:rPr>
              <a:t>มีส่วนร่วมในภาพรวม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925920" y="400536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ff00"/>
                </a:solidFill>
                <a:latin typeface="Wingdings 2"/>
                <a:ea typeface="Wingdings 2"/>
              </a:rPr>
              <a:t></a:t>
            </a:r>
            <a:r>
              <a:rPr b="1" lang="th-TH" sz="32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th-TH" sz="3200" spc="-1" strike="noStrike">
                <a:solidFill>
                  <a:srgbClr val="00ff00"/>
                </a:solidFill>
                <a:latin typeface="Tahoma"/>
              </a:rPr>
              <a:t>การพัฒนาเกณฑ์การประเมิน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F55B-5CBF-490F-B64A-DB8FE7C446E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40720" cy="100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การบริหารราชการแบบมีส่วนร่วม</a:t>
            </a:r>
            <a:br>
              <a:rPr sz="2800"/>
            </a:b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การเปิดระบบราชการให้ประชาชนเข้ามามีส่วนร่วม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Tahoma"/>
                <a:cs typeface="Tahoma"/>
              </a:rPr>
              <a:t>ฐานที่มาของความคิดตามกรอบกฎหมาย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รัฐธรรมนูญแห่งราชอาณาจักรไทย พุทธศักราช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2540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าตรา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56,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58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59, 60, 76,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ละ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ป็นต้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  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พระราชบัญญัติระเบียบบริหารราชการแผ่นดิน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ฉบับที่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5)     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พ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ศ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. 2545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าตรา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3/1 (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มีส่วนร่วม และโปร่งใส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  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พระราชกฤษฎีกาว่าด้วยหลักเกณฑ์และวิธีการบริหารกิจการ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บ้านเมืองที่ดี พ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ศ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.2546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าตรา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8 (3)(4) (5)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าตรา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39, 43,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ล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1" lang="th-TH" sz="2400" spc="-1" strike="noStrike">
                <a:solidFill>
                  <a:srgbClr val="00ff00"/>
                </a:solidFill>
                <a:latin typeface="Tahoma"/>
                <a:cs typeface="Tahoma"/>
              </a:rPr>
              <a:t>แผนยุทธศาสตร์การพัฒนาระบบราชการไทย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ea typeface="Tahoma"/>
              </a:rPr>
              <a:t>(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cs typeface="Tahoma"/>
              </a:rPr>
              <a:t>พ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ea typeface="Tahoma"/>
              </a:rPr>
              <a:t>.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cs typeface="Tahoma"/>
              </a:rPr>
              <a:t>ศ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ea typeface="Tahoma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Tahoma"/>
              </a:rPr>
              <a:t>2546-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cs typeface="Tahoma"/>
              </a:rPr>
              <a:t>พ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ea typeface="Tahoma"/>
              </a:rPr>
              <a:t>.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cs typeface="Tahoma"/>
              </a:rPr>
              <a:t>ศ</a:t>
            </a:r>
            <a:r>
              <a:rPr b="1" lang="th-TH" sz="2000" spc="-1" strike="noStrike">
                <a:solidFill>
                  <a:srgbClr val="00ff00"/>
                </a:solidFill>
                <a:latin typeface="Tahoma"/>
                <a:ea typeface="Tahoma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Tahoma"/>
              </a:rPr>
              <a:t>2550)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ยุทธศาสตร์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7 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เปิดระบบราชการ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ให้ประชาชนเข้ามามีส่วนร่ว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689200" y="5334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6" name="Oval 5"/>
          <p:cNvSpPr/>
          <p:nvPr/>
        </p:nvSpPr>
        <p:spPr>
          <a:xfrm>
            <a:off x="468360" y="208908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Oval 6"/>
          <p:cNvSpPr/>
          <p:nvPr/>
        </p:nvSpPr>
        <p:spPr>
          <a:xfrm>
            <a:off x="468360" y="299736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Oval 7"/>
          <p:cNvSpPr/>
          <p:nvPr/>
        </p:nvSpPr>
        <p:spPr>
          <a:xfrm>
            <a:off x="468360" y="396072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Oval 8"/>
          <p:cNvSpPr/>
          <p:nvPr/>
        </p:nvSpPr>
        <p:spPr>
          <a:xfrm>
            <a:off x="468360" y="500076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ตัวยึดหมายเลขภาพนิ่ง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193B-F59E-46A7-951C-7140DD8ADA6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AutoShape 2"/>
          <p:cNvSpPr/>
          <p:nvPr/>
        </p:nvSpPr>
        <p:spPr>
          <a:xfrm>
            <a:off x="324000" y="189000"/>
            <a:ext cx="8381880" cy="936360"/>
          </a:xfrm>
          <a:prstGeom prst="hexagon">
            <a:avLst>
              <a:gd name="adj" fmla="val 40365"/>
              <a:gd name="vf" fmla="val 1154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395280" y="-674640"/>
            <a:ext cx="8137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ahoma"/>
              </a:rPr>
              <a:t>ลักษณะการมีส่วนร่วมของประชาชน</a:t>
            </a:r>
            <a:br>
              <a:rPr sz="2400"/>
            </a:br>
            <a:r>
              <a:rPr b="1" lang="th-TH" sz="2400" spc="-1" strike="noStrike">
                <a:solidFill>
                  <a:srgbClr val="ff0000"/>
                </a:solidFill>
                <a:latin typeface="Tahoma"/>
              </a:rPr>
              <a:t>ตามรัฐธรรมนูญแห่งราชอาณาจักรไทย พุทธศักราช </a:t>
            </a:r>
            <a:r>
              <a:rPr b="1" lang="th-TH" sz="2400" spc="-1" strike="noStrike">
                <a:solidFill>
                  <a:srgbClr val="ff0000"/>
                </a:solidFill>
                <a:latin typeface="Tahoma"/>
              </a:rPr>
              <a:t>255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250920" y="1052640"/>
            <a:ext cx="8750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99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cc0099"/>
                </a:solidFill>
                <a:latin typeface="Tahoma"/>
              </a:rPr>
              <a:t>              </a:t>
            </a:r>
            <a:r>
              <a:rPr b="1" lang="th-TH" sz="2000" spc="-1" strike="noStrike">
                <a:solidFill>
                  <a:srgbClr val="ff9900"/>
                </a:solidFill>
                <a:latin typeface="Tahoma"/>
              </a:rPr>
              <a:t>ส่วนที่ </a:t>
            </a:r>
            <a:r>
              <a:rPr b="1" lang="th-TH" sz="2000" spc="-1" strike="noStrike">
                <a:solidFill>
                  <a:srgbClr val="ff9900"/>
                </a:solidFill>
                <a:latin typeface="Tahoma"/>
              </a:rPr>
              <a:t>10 </a:t>
            </a:r>
            <a:r>
              <a:rPr b="1" lang="th-TH" sz="2000" spc="-1" strike="noStrike">
                <a:solidFill>
                  <a:srgbClr val="ff9900"/>
                </a:solidFill>
                <a:latin typeface="Tahoma"/>
              </a:rPr>
              <a:t>แนวนโยบายด้านการมีส่วนร่วมของประชาชน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</a:rPr>
              <a:t>มาตรา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</a:rPr>
              <a:t>87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</a:rPr>
              <a:t>รัฐต้องดำเนินการตามแนวนโยบายด้านการมีส่วนร่วมของ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</a:rPr>
              <a:t>ประชาชน ดังต่อไปนี้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ส่งเสริมให้ประชาชนมีส่วนร่วม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</a:rPr>
              <a:t>ในการกำหนดนโยบายและวางแผนพัฒนาเศรษฐกิจและสังคมทั้งในระดับชาติและระดับท้องถิ่น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ส่งเสริมและสนับสนุนการมีส่วนร่วมของประชาชน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</a:rPr>
              <a:t>ในการตัดสินใจทางการเมือง การวางแผนทางเศรษฐกิจ และสังคม รวมทั้งการจัดทำบริการสาธารณะ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ส่งเสริมและสนับสนุนการมีส่วนร่วมของประชาชน</a:t>
            </a:r>
            <a:r>
              <a:rPr b="1" lang="th-TH" sz="1600" spc="-1" strike="noStrike">
                <a:solidFill>
                  <a:srgbClr val="ffff00"/>
                </a:solidFill>
                <a:latin typeface="Arial"/>
              </a:rPr>
              <a:t>ในการ ตรวจสอบการใช้อำนาจรัฐทุกระดับ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ในรูปแบบองค์กรทางวิชาชีพ หรือตามสาขาอาชีพที่หลากหลายหรือรูปแบบอื่น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1600" spc="-1" strike="noStrike">
                <a:solidFill>
                  <a:srgbClr val="bdffff"/>
                </a:solidFill>
                <a:latin typeface="Arial"/>
              </a:rPr>
              <a:t>การมีส่วนร่วมของประชาชนในมาตรานี้ต้องคำนึงถึงสัดส่วนของหญิงและชายที่ใกล้เคียงกัน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755640" y="4071960"/>
            <a:ext cx="831708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สงเสริมใหประชาชนมีความเขมแข็งในทางการเมือง และจัดใหมีกฎหมายจัดงกองทุนพัฒนาการเมืองภาคพลเมืองเพื่อชวยเหลือการดําเนินกิจกรรมสาธารณะของชุมชน รวมทั้ง</a:t>
            </a:r>
            <a:r>
              <a:rPr b="1" lang="th-TH" sz="1600" spc="-1" strike="noStrike">
                <a:solidFill>
                  <a:srgbClr val="ffff00"/>
                </a:solidFill>
                <a:latin typeface="Arial"/>
              </a:rPr>
              <a:t>สนับสนุนการดําเนินการของกลุมประชาชนที่รวมตัวกันในลักษณะเครือขายทุกรูปแบบใหสามารถแสดงความคิดเห็นและเสนอความตองการของชุมชนในพื้นที่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สงเสริมและใหการศึกษาแกประชาชนเกี่ยวกับการพัฒนาการเมืองและการปกครองระบอบประชาธิปไตยอันมีพระมหากษัตริยทรงเปนประมุข รวมทั้งสงเสริมใหประชาชนไดใชสิทธิเลือกตั้งโดยสุจริตและเที่ยงธรรม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ตัวยึดหมายเลขภาพนิ่ง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750F-CA55-4982-828A-F0707B23084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AutoShape 2"/>
          <p:cNvSpPr/>
          <p:nvPr/>
        </p:nvSpPr>
        <p:spPr>
          <a:xfrm>
            <a:off x="260280" y="122400"/>
            <a:ext cx="8382240" cy="647640"/>
          </a:xfrm>
          <a:prstGeom prst="hexagon">
            <a:avLst>
              <a:gd name="adj" fmla="val 58362"/>
              <a:gd name="vf" fmla="val 1154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95280" y="-747720"/>
            <a:ext cx="81374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ahoma"/>
              </a:rPr>
              <a:t>การบริหารราชการแผ่นดิน</a:t>
            </a:r>
            <a:br>
              <a:rPr sz="2400"/>
            </a:br>
            <a:r>
              <a:rPr b="1" lang="th-TH" sz="2400" spc="-1" strike="noStrike">
                <a:solidFill>
                  <a:srgbClr val="ff0000"/>
                </a:solidFill>
                <a:latin typeface="Tahoma"/>
              </a:rPr>
              <a:t>ตามรัฐธรรมนูญแห่งราชอาณาจักรไทย พุทธศักราช </a:t>
            </a:r>
            <a:r>
              <a:rPr b="1" lang="th-TH" sz="2400" spc="-1" strike="noStrike">
                <a:solidFill>
                  <a:srgbClr val="ff0000"/>
                </a:solidFill>
                <a:latin typeface="Tahoma"/>
              </a:rPr>
              <a:t>255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50920" y="76500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99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cc0099"/>
                </a:solidFill>
                <a:latin typeface="Tahoma"/>
              </a:rPr>
              <a:t>              </a:t>
            </a:r>
            <a:r>
              <a:rPr b="1" lang="th-TH" sz="2000" spc="-1" strike="noStrike">
                <a:solidFill>
                  <a:srgbClr val="ff9900"/>
                </a:solidFill>
                <a:latin typeface="Tahoma"/>
              </a:rPr>
              <a:t>ส่วนที่ </a:t>
            </a:r>
            <a:r>
              <a:rPr b="1" lang="th-TH" sz="2000" spc="-1" strike="noStrike">
                <a:solidFill>
                  <a:srgbClr val="ff9900"/>
                </a:solidFill>
                <a:latin typeface="Tahoma"/>
              </a:rPr>
              <a:t>3 </a:t>
            </a:r>
            <a:r>
              <a:rPr b="1" lang="th-TH" sz="2000" spc="-1" strike="noStrike">
                <a:solidFill>
                  <a:srgbClr val="ff9900"/>
                </a:solidFill>
                <a:latin typeface="Tahoma"/>
              </a:rPr>
              <a:t>แนวนโยบายด้านการบริหารราชการแผ่นดิน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68360" y="1197000"/>
            <a:ext cx="842472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มาตรา ๗๘ รัฐตองดําเนินการตามแนวนโยบายดานการบริหารราชการแผนดิน ดังตอไปนี้</a:t>
            </a:r>
            <a:endParaRPr b="1" lang="en-US" sz="15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บริหารราชการแผนดินให เปนไปเพื่อการพัฒนาสังคม เศรษฐกิจ และความมั่นคงของประเทศอยางยั่งยืน โดยตองสงเสริมการดําเนินการตาม</a:t>
            </a:r>
            <a:r>
              <a:rPr b="1" lang="th-TH" sz="1500" spc="-1" strike="noStrike">
                <a:solidFill>
                  <a:srgbClr val="ffff00"/>
                </a:solidFill>
                <a:latin typeface="Arial"/>
              </a:rPr>
              <a:t>ปรัชญาเศรษฐกิจพอเพียงและคํานึงถึงผลประโยชนของประเทศชาติในภาพรวมเปนสําคัญ</a:t>
            </a:r>
            <a:endParaRPr b="1" lang="en-US" sz="15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1500" spc="-1" strike="noStrike">
                <a:solidFill>
                  <a:srgbClr val="ffcc00"/>
                </a:solidFill>
                <a:latin typeface="Arial"/>
              </a:rPr>
              <a:t>จัดระบบการบริหารราชการสวนกลาง สวนภูมิภาค และสวนทองถิ่น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 ใหมีขอบเขตอํานาจหนาที่ และความรับผิดชอบที่ชัดเจนเหมาะสมแกการพัฒนาประเทศ </a:t>
            </a:r>
            <a:r>
              <a:rPr b="1" lang="th-TH" sz="1500" spc="-1" strike="noStrike">
                <a:solidFill>
                  <a:srgbClr val="ffcc00"/>
                </a:solidFill>
                <a:latin typeface="Arial"/>
              </a:rPr>
              <a:t>และสนับสนุนใหจังหวัดมีแผนและงบประมาณเพื่อพัฒนาจังหวัด เพื่อประโยชนของประชาชนในพื้นที่</a:t>
            </a:r>
            <a:endParaRPr b="1" lang="en-US" sz="15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๓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1500" spc="-1" strike="noStrike">
                <a:solidFill>
                  <a:srgbClr val="66ff33"/>
                </a:solidFill>
                <a:latin typeface="Arial"/>
              </a:rPr>
              <a:t>กระจายอํานาจใหองคกรปกครองสวนทองถิ่นพึ่งตนเองและตัดสินใจในกิจการของทองถิ่นไดเอง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 สงเสริมใหองค กรปกครองสวนทองถิ่นมีสวนรวมในการดําเนินการตามแนวนโยบายพื้นฐาน   แหงรัฐ พัฒนาเศรษฐกิจของทองถิ่นและระบบสาธารณูปโภคและสาธารณูปการ ตลอดทั้งโครงสรางพื้นฐานสารสนเทศในทองถิ่น ใหทั่วถึงและเทาเทียมกันทั่วประเทศ รวมทั้งพัฒนาจังหวัดที่มีความ  พรอมใหเปนองคกรปกครองสวนทองถิ่นขนาดใหญ โดยคํานึงถึงเจตนารมณของประชาชนในจังหวัดนั้น</a:t>
            </a:r>
            <a:endParaRPr b="1" lang="en-US" sz="15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๔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พัฒนาระบบงานภาครัฐ โดยมุงเนน</a:t>
            </a:r>
            <a:r>
              <a:rPr b="1" lang="th-TH" sz="1500" spc="-1" strike="noStrike">
                <a:solidFill>
                  <a:srgbClr val="00ccff"/>
                </a:solidFill>
                <a:latin typeface="Arial"/>
              </a:rPr>
              <a:t>การพัฒนาคุณภาพ คุณธรรม และจริยธรรมของเจาหนาที่ของรัฐ ควบคูไปกับการปรับปรุงรูปแบบและวิธีการทํางาน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 เพื่อใหการบริหารราชการแผนดินเปน ไปอยางมีประสิทธิภาพ และสงเสริมใหหนวยงานของรัฐใชหลักการบริหารกิจการบานเมืองที่ดีเป็น แนวทางในการปฏิบัติราชการ</a:t>
            </a:r>
            <a:endParaRPr b="1" lang="en-US" sz="15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๕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จัดระบบงานราชการและงานของรัฐอยางอื่น เพื่อใหการจัดทําและการใหบริการสาธารณะเปน ไปอยางรวดเร็ว มีประสิทธิภาพ โปรงใส และตรวจสอบได </a:t>
            </a:r>
            <a:r>
              <a:rPr b="1" lang="th-TH" sz="1500" spc="-1" strike="noStrike">
                <a:solidFill>
                  <a:srgbClr val="ffff00"/>
                </a:solidFill>
                <a:latin typeface="Arial"/>
              </a:rPr>
              <a:t>โดยคํานึงถึงการมีสวนรวมของประชาชน</a:t>
            </a:r>
            <a:endParaRPr b="1" lang="en-US" sz="15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1" lang="en-US" sz="1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558160" y="328680"/>
            <a:ext cx="4717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Tahoma"/>
              </a:rPr>
              <a:t>ระดับการมีส่วนร่วมของประชาชน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ublic Participation Spectrum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898560" y="45133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รับรู้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1763640" y="4500720"/>
            <a:ext cx="16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ให้ความเห็น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3252960" y="4513320"/>
            <a:ext cx="102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ร่วมคิด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282920" y="4510080"/>
            <a:ext cx="136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ร่วมตัดสินใจ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5722920" y="4481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ร่วมทำ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6950160" y="4530600"/>
            <a:ext cx="1869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ร่วมตรวจสอบ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เป็นเจ้าของ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714240" y="3068640"/>
            <a:ext cx="1714680" cy="122400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85" y="0"/>
                </a:lnTo>
                <a:lnTo>
                  <a:pt x="21600" y="10800"/>
                </a:lnTo>
                <a:lnTo>
                  <a:pt x="16385" y="21600"/>
                </a:lnTo>
                <a:lnTo>
                  <a:pt x="0" y="21600"/>
                </a:lnTo>
                <a:lnTo>
                  <a:pt x="5215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ให้ข้อมูล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ข่าวสาร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Inform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1928880" y="3068640"/>
            <a:ext cx="1993680" cy="1224000"/>
          </a:xfrm>
          <a:custGeom>
            <a:avLst/>
            <a:gdLst>
              <a:gd name="textAreaLeft" fmla="*/ 0 w 1993680"/>
              <a:gd name="textAreaRight" fmla="*/ 1994040 w 19936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31" y="0"/>
                </a:lnTo>
                <a:lnTo>
                  <a:pt x="21600" y="10800"/>
                </a:lnTo>
                <a:lnTo>
                  <a:pt x="16531" y="21600"/>
                </a:lnTo>
                <a:lnTo>
                  <a:pt x="0" y="21600"/>
                </a:lnTo>
                <a:lnTo>
                  <a:pt x="5069" y="10800"/>
                </a:lnTo>
                <a:close/>
              </a:path>
            </a:pathLst>
          </a:custGeom>
          <a:solidFill>
            <a:srgbClr val="ffff66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รับฟัง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ความคิดเห็น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Consult</a:t>
            </a:r>
            <a:r>
              <a:rPr b="1" lang="th-TH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AutoShape 11"/>
          <p:cNvSpPr/>
          <p:nvPr/>
        </p:nvSpPr>
        <p:spPr>
          <a:xfrm>
            <a:off x="3449520" y="3067200"/>
            <a:ext cx="1979640" cy="12366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72" y="0"/>
                </a:lnTo>
                <a:lnTo>
                  <a:pt x="21600" y="10800"/>
                </a:lnTo>
                <a:lnTo>
                  <a:pt x="16572" y="21600"/>
                </a:lnTo>
                <a:lnTo>
                  <a:pt x="0" y="21600"/>
                </a:lnTo>
                <a:lnTo>
                  <a:pt x="5028" y="1080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    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th-TH" sz="2000" spc="-1" strike="noStrike">
                <a:solidFill>
                  <a:srgbClr val="0000cc"/>
                </a:solidFill>
                <a:latin typeface="Tahoma"/>
              </a:rPr>
              <a:t>เกี่ยวข้อง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Involv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AutoShape 12"/>
          <p:cNvSpPr/>
          <p:nvPr/>
        </p:nvSpPr>
        <p:spPr>
          <a:xfrm>
            <a:off x="4930920" y="3068640"/>
            <a:ext cx="2212920" cy="1236600"/>
          </a:xfrm>
          <a:custGeom>
            <a:avLst/>
            <a:gdLst>
              <a:gd name="textAreaLeft" fmla="*/ 0 w 2212920"/>
              <a:gd name="textAreaRight" fmla="*/ 2213280 w 22129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1" y="0"/>
                </a:lnTo>
                <a:lnTo>
                  <a:pt x="21600" y="10800"/>
                </a:lnTo>
                <a:lnTo>
                  <a:pt x="16541" y="21600"/>
                </a:lnTo>
                <a:lnTo>
                  <a:pt x="0" y="21600"/>
                </a:lnTo>
                <a:lnTo>
                  <a:pt x="5059" y="108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1800" spc="-1" strike="noStrike">
                <a:solidFill>
                  <a:srgbClr val="0000cc"/>
                </a:solidFill>
                <a:latin typeface="Tahoma"/>
              </a:rPr>
              <a:t>     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th-TH" sz="1800" spc="-1" strike="noStrike">
                <a:solidFill>
                  <a:srgbClr val="0000cc"/>
                </a:solidFill>
                <a:latin typeface="Tahoma"/>
              </a:rPr>
              <a:t>ร่วมมือ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Collaborat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      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6630840" y="3078000"/>
            <a:ext cx="2059200" cy="123696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3816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1600" spc="-1" strike="noStrike">
                <a:solidFill>
                  <a:srgbClr val="0000cc"/>
                </a:solidFill>
                <a:latin typeface="Tahoma"/>
              </a:rPr>
              <a:t>     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th-TH" sz="1800" spc="-1" strike="noStrike">
                <a:solidFill>
                  <a:srgbClr val="0000cc"/>
                </a:solidFill>
                <a:latin typeface="Tahoma"/>
              </a:rPr>
              <a:t>เสริมอำนาจ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1" lang="th-TH" sz="1800" spc="-1" strike="noStrike">
                <a:solidFill>
                  <a:srgbClr val="0000cc"/>
                </a:solidFill>
                <a:latin typeface="Tahoma"/>
              </a:rPr>
              <a:t>ประชาชน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Empower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AutoShape 14"/>
          <p:cNvSpPr/>
          <p:nvPr/>
        </p:nvSpPr>
        <p:spPr>
          <a:xfrm>
            <a:off x="1403280" y="460224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AutoShape 15"/>
          <p:cNvSpPr/>
          <p:nvPr/>
        </p:nvSpPr>
        <p:spPr>
          <a:xfrm>
            <a:off x="2843280" y="460224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AutoShape 16"/>
          <p:cNvSpPr/>
          <p:nvPr/>
        </p:nvSpPr>
        <p:spPr>
          <a:xfrm>
            <a:off x="3936960" y="460224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5" name="AutoShape 17"/>
          <p:cNvSpPr/>
          <p:nvPr/>
        </p:nvSpPr>
        <p:spPr>
          <a:xfrm>
            <a:off x="5354640" y="460224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AutoShape 18"/>
          <p:cNvSpPr/>
          <p:nvPr/>
        </p:nvSpPr>
        <p:spPr>
          <a:xfrm>
            <a:off x="6515280" y="460224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 rot="5400000">
            <a:off x="780480" y="1908000"/>
            <a:ext cx="395280" cy="36036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 rot="5400000">
            <a:off x="2231640" y="1898640"/>
            <a:ext cx="610920" cy="360360"/>
          </a:xfrm>
          <a:prstGeom prst="pie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9" name="AutoShape 21"/>
          <p:cNvSpPr/>
          <p:nvPr/>
        </p:nvSpPr>
        <p:spPr>
          <a:xfrm rot="5400000">
            <a:off x="3616920" y="1854720"/>
            <a:ext cx="755640" cy="43344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AutoShape 22"/>
          <p:cNvSpPr/>
          <p:nvPr/>
        </p:nvSpPr>
        <p:spPr>
          <a:xfrm rot="5400000">
            <a:off x="5074920" y="1844640"/>
            <a:ext cx="1150920" cy="433440"/>
          </a:xfrm>
          <a:prstGeom prst="pi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AutoShape 23"/>
          <p:cNvSpPr/>
          <p:nvPr/>
        </p:nvSpPr>
        <p:spPr>
          <a:xfrm rot="13683600">
            <a:off x="7092360" y="1412280"/>
            <a:ext cx="1295640" cy="1152720"/>
          </a:xfrm>
          <a:prstGeom prst="rtTriangl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928800" y="1844640"/>
            <a:ext cx="7385040" cy="3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ff"/>
                </a:solidFill>
                <a:latin typeface="Tahoma"/>
              </a:rPr>
              <a:t>ระดับหรือบทบาทที่เพิ่มขึ้นตามการมีส่วนร่วมของประชาชน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Text Box 25"/>
          <p:cNvSpPr/>
          <p:nvPr/>
        </p:nvSpPr>
        <p:spPr>
          <a:xfrm>
            <a:off x="250920" y="5967360"/>
            <a:ext cx="79200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</a:rPr>
              <a:t>ที่มา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: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Rectangle 26"/>
          <p:cNvSpPr/>
          <p:nvPr/>
        </p:nvSpPr>
        <p:spPr>
          <a:xfrm>
            <a:off x="826920" y="5996160"/>
            <a:ext cx="8066160" cy="28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Public Participation Spectrum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 ,</a:t>
            </a:r>
            <a:r>
              <a:rPr b="1" lang="th-TH" sz="1200" spc="-1" strike="noStrike">
                <a:solidFill>
                  <a:srgbClr val="0000ff"/>
                </a:solidFill>
                <a:latin typeface="Tahoma"/>
              </a:rPr>
              <a:t>พัฒนาโดย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International Association for Public Participation (IAP2)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25" name="Picture 27" descr="iap2-en"/>
          <p:cNvPicPr/>
          <p:nvPr/>
        </p:nvPicPr>
        <p:blipFill>
          <a:blip r:embed="rId1"/>
          <a:stretch/>
        </p:blipFill>
        <p:spPr>
          <a:xfrm>
            <a:off x="466560" y="182520"/>
            <a:ext cx="865440" cy="7984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01960" y="9079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Angsana New"/>
              </a:rPr>
              <a:t>International Association</a:t>
            </a:r>
            <a:endParaRPr b="1" lang="en-US" sz="9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Angsana New"/>
              </a:rPr>
              <a:t>For Public Participation</a:t>
            </a:r>
            <a:endParaRPr b="1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900000" y="45086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Tahoma"/>
              </a:rPr>
              <a:t>รับรู้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ตัวยึดหมายเลขภาพนิ่ง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F13E-5D35-486A-9A7D-65962F84185D}" type="slidenum">
              <a:rPr b="1" lang="en-US" sz="1400" spc="-1" strike="noStrike">
                <a:solidFill>
                  <a:srgbClr val="ffffff"/>
                </a:solidFill>
                <a:latin typeface="Tahoma"/>
                <a:ea typeface="Angsana New"/>
              </a:rPr>
              <a:t>&lt;number&gt;</a:t>
            </a:fld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19600" y="1989000"/>
            <a:ext cx="699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th-TH" sz="4000" spc="-1" strike="noStrike">
                <a:solidFill>
                  <a:srgbClr val="66ffff"/>
                </a:solidFill>
                <a:latin typeface="Tahoma"/>
              </a:rPr>
              <a:t>การขับเคลื่อน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ffff"/>
                </a:solidFill>
                <a:latin typeface="Tahoma"/>
              </a:rPr>
              <a:t>การบริหารราชการแบบมีส่วนร่วม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Oval 4"/>
          <p:cNvSpPr/>
          <p:nvPr/>
        </p:nvSpPr>
        <p:spPr>
          <a:xfrm>
            <a:off x="2700360" y="2133720"/>
            <a:ext cx="57636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2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"/>
          <p:cNvSpPr/>
          <p:nvPr/>
        </p:nvSpPr>
        <p:spPr>
          <a:xfrm>
            <a:off x="468360" y="476280"/>
            <a:ext cx="86043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0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Arial"/>
              </a:rPr>
              <a:t>การขับเคลื่อนการบริหารราชการแบบมีส่วนร่วม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1006560" y="2286000"/>
            <a:ext cx="7994520" cy="416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พัฒนาหลักสูตรการบริหารราชการแบบมีส่วนร่วม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การบริหารงานในระบบเปิด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การแก้ไขข้อพิพาทและความขัดแย้งโดยสันติวิธี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การสื่อสารเพื่อการมีส่วนร่วมของประชาชน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อบรมวิทยากรกลาง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</a:rPr>
              <a:t>เผยแพร่ อบรมสร้างความรู้ความเข้าใจอย่างต่อเนื่อง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กำหนดตัวชี้วัดการมีส่วนร่วมของภาคประชาชนเป็น  ตัวชี้วัดภาคบังคับของส่วนราชการ จังหวัดตั้งแต่ปี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549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539640" y="1341360"/>
            <a:ext cx="8137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546-2549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สร้างความรู้ความเข้าใจแก่ข้าราชการ  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ในภาพรวมทั้งระบบ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ตัวยึดหมายเลขภาพนิ่ง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4D3-760E-492E-B24E-08ACE695513E}" type="slidenum">
              <a:rPr b="0" lang="en-US" sz="1400" spc="-1" strike="noStrike">
                <a:solidFill>
                  <a:srgbClr val="333333"/>
                </a:solidFill>
                <a:latin typeface="Arial"/>
                <a:ea typeface="Angsana New"/>
              </a:rPr>
              <a:t>&lt;number&gt;</a:t>
            </a:fld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e5ffff"/>
                </a:solidFill>
                <a:latin typeface="Tahoma"/>
                <a:cs typeface="Tahoma"/>
              </a:rPr>
              <a:t>การขับเคลื่อนบริหารราชการแบบมีส่วนร่วม</a:t>
            </a:r>
            <a:br>
              <a:rPr sz="2800"/>
            </a:br>
            <a:r>
              <a:rPr b="1" lang="th-TH" sz="2800" spc="-1" strike="noStrike">
                <a:solidFill>
                  <a:srgbClr val="e5ffff"/>
                </a:solidFill>
                <a:latin typeface="Tahoma"/>
                <a:cs typeface="Tahoma"/>
              </a:rPr>
              <a:t>ในปี 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ea typeface="Tahoma"/>
              </a:rPr>
              <a:t>2550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675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     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กำหนดตัวชี้วัดการมีส่วนร่วมของภาคประชาช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ไว้ในกรอบการประเมินฯ เช่นเดียวกับปี 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25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00"/>
                </a:solidFill>
                <a:latin typeface="Tahoma"/>
                <a:ea typeface="Tahoma"/>
              </a:rPr>
              <a:t>     </a:t>
            </a:r>
            <a:r>
              <a:rPr b="1" lang="th-TH" sz="2800" spc="-1" strike="noStrike">
                <a:solidFill>
                  <a:srgbClr val="00ff00"/>
                </a:solidFill>
                <a:latin typeface="Tahoma"/>
                <a:cs typeface="Tahoma"/>
              </a:rPr>
              <a:t>ส่งเสริมความตระหนักและเข้าใจในกระบวนการ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00"/>
                </a:solidFill>
                <a:latin typeface="Tahoma"/>
                <a:cs typeface="Tahoma"/>
              </a:rPr>
              <a:t>บริหารราชการแบบมีส่วนร่วมให้เป็นวัฒนธรรมขอ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00"/>
                </a:solidFill>
                <a:latin typeface="Tahoma"/>
                <a:cs typeface="Tahoma"/>
              </a:rPr>
              <a:t>ระบบราชการ เน้นการเรียนรู้จากการปฏิบัติจริ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ea typeface="Tahoma"/>
              </a:rPr>
              <a:t>1. 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cs typeface="Tahoma"/>
              </a:rPr>
              <a:t>ศึกษารูปแบบการพัฒนาระบบราชการแบ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e5ffff"/>
                </a:solidFill>
                <a:latin typeface="Tahoma"/>
                <a:cs typeface="Tahoma"/>
              </a:rPr>
              <a:t>มีส่วนร่วมระดับกระทรวง 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ea typeface="Tahoma"/>
              </a:rPr>
              <a:t>(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cs typeface="Tahoma"/>
              </a:rPr>
              <a:t>สธ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cs typeface="Tahoma"/>
              </a:rPr>
              <a:t>พม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cs typeface="Tahoma"/>
              </a:rPr>
              <a:t>และกปส</a:t>
            </a:r>
            <a:r>
              <a:rPr b="1" lang="th-TH" sz="2800" spc="-1" strike="noStrike">
                <a:solidFill>
                  <a:srgbClr val="e5ffff"/>
                </a:solidFill>
                <a:latin typeface="Tahoma"/>
                <a:ea typeface="Tahoma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</a:t>
            </a:r>
            <a:r>
              <a:rPr b="1" lang="th-TH" sz="2800" spc="-1" strike="noStrike">
                <a:solidFill>
                  <a:srgbClr val="00ccff"/>
                </a:solidFill>
                <a:latin typeface="Tahoma"/>
                <a:ea typeface="Tahoma"/>
              </a:rPr>
              <a:t>2. </a:t>
            </a:r>
            <a:r>
              <a:rPr b="1" lang="th-TH" sz="2800" spc="-1" strike="noStrike">
                <a:solidFill>
                  <a:srgbClr val="00ccff"/>
                </a:solidFill>
                <a:latin typeface="Tahoma"/>
                <a:cs typeface="Tahoma"/>
              </a:rPr>
              <a:t>ส่งเสริมการสร้างระบบการบริหารราชการ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ccff"/>
                </a:solidFill>
                <a:latin typeface="Tahoma"/>
                <a:cs typeface="Tahoma"/>
              </a:rPr>
              <a:t>แบบมีส่วนร่วมระดับจังหวัด </a:t>
            </a:r>
            <a:r>
              <a:rPr b="1" lang="th-TH" sz="2800" spc="-1" strike="noStrike">
                <a:solidFill>
                  <a:srgbClr val="00ccff"/>
                </a:solidFill>
                <a:latin typeface="Tahoma"/>
                <a:ea typeface="Tahoma"/>
              </a:rPr>
              <a:t>75 </a:t>
            </a:r>
            <a:r>
              <a:rPr b="1" lang="th-TH" sz="2800" spc="-1" strike="noStrike">
                <a:solidFill>
                  <a:srgbClr val="00ccff"/>
                </a:solidFill>
                <a:latin typeface="Tahoma"/>
                <a:cs typeface="Tahoma"/>
              </a:rPr>
              <a:t>จังหวัด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ส่งเสริมกลไก “คณะกรรมการธรรมาภิบาลจังหวัด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00"/>
                </a:solidFill>
                <a:latin typeface="Tahoma"/>
                <a:cs typeface="Tahoma"/>
              </a:rPr>
              <a:t>และ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เสริมสร้างเครือข่ายภาคประชาช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Oval 1028"/>
          <p:cNvSpPr/>
          <p:nvPr/>
        </p:nvSpPr>
        <p:spPr>
          <a:xfrm>
            <a:off x="539640" y="114300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Tahoma"/>
              </a:rPr>
              <a:t>1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Oval 1029"/>
          <p:cNvSpPr/>
          <p:nvPr/>
        </p:nvSpPr>
        <p:spPr>
          <a:xfrm>
            <a:off x="554040" y="228600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Tahoma"/>
              </a:rPr>
              <a:t>2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Oval 1030"/>
          <p:cNvSpPr/>
          <p:nvPr/>
        </p:nvSpPr>
        <p:spPr>
          <a:xfrm>
            <a:off x="539640" y="573408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Tahoma"/>
              </a:rPr>
              <a:t>3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5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1:35:07Z</dcterms:created>
  <dc:creator>OEM </dc:creator>
  <dc:description/>
  <dc:language>en-US</dc:language>
  <cp:lastModifiedBy>ACER</cp:lastModifiedBy>
  <dcterms:modified xsi:type="dcterms:W3CDTF">2008-08-26T23:06:53Z</dcterms:modified>
  <cp:revision>322</cp:revision>
  <dc:subject/>
  <dc:title>Slide 1</dc:title>
</cp:coreProperties>
</file>