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399960" y="496800"/>
            <a:ext cx="84582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ประเด็นแก้ไขเอกสารประกอ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การประชุมชี้แจง 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(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ร่าง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) 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กรอบการประเมินผลการปฏิบัติราชการของสถาบันอุดมศึกษ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ประจำปีงบประมาณ พ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.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ศ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. 25</a:t>
            </a:r>
            <a:r>
              <a:rPr b="1" lang="en-US" sz="4000" spc="-1" strike="noStrike">
                <a:solidFill>
                  <a:srgbClr val="ffffcc"/>
                </a:solidFill>
                <a:latin typeface="Angsana New"/>
              </a:rPr>
              <a:t>5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วันพุธที่ 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2</a:t>
            </a:r>
            <a:r>
              <a:rPr b="1" lang="en-US" sz="4000" spc="-1" strike="noStrike">
                <a:solidFill>
                  <a:srgbClr val="ffffcc"/>
                </a:solidFill>
                <a:latin typeface="Angsana New"/>
              </a:rPr>
              <a:t>7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สิงหาคม 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255</a:t>
            </a:r>
            <a:r>
              <a:rPr b="1" lang="en-US" sz="4000" spc="-1" strike="noStrike">
                <a:solidFill>
                  <a:srgbClr val="ffffcc"/>
                </a:solidFill>
                <a:latin typeface="Angsana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เวลา 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13.30 – 16.30 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น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ณ ห้องประชุมฟีนิกซ์ เมืองทองธาน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(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จำนวน </a:t>
            </a:r>
            <a:r>
              <a:rPr b="1" lang="en-US" sz="4000" spc="-1" strike="noStrike">
                <a:solidFill>
                  <a:srgbClr val="ffffcc"/>
                </a:solidFill>
                <a:latin typeface="Angsana New"/>
              </a:rPr>
              <a:t>8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สไลด์</a:t>
            </a:r>
            <a:r>
              <a:rPr b="1" lang="th-TH" sz="4000" spc="-1" strike="noStrike">
                <a:solidFill>
                  <a:srgbClr val="ffffcc"/>
                </a:solidFill>
                <a:latin typeface="Angsana New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ซึ่ง</a:t>
            </a:r>
            <a:r>
              <a:rPr b="1" lang="en-US" sz="4000" spc="-1" strike="noStrike">
                <a:solidFill>
                  <a:srgbClr val="ffff00"/>
                </a:solidFill>
                <a:latin typeface="Angsana New"/>
              </a:rPr>
              <a:t>file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เอกสารประกอบการประชุม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ที่ปรากฏในเว็บไซต์ได้แก้ไข</a:t>
            </a:r>
            <a:r>
              <a:rPr b="1" lang="en-US" sz="4000" spc="-1" strike="noStrike">
                <a:solidFill>
                  <a:srgbClr val="ffff00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ตามประเด็นดังกล่าวแล้ว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2BAA-8414-4F8C-959A-F0DA4108F9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0440" y="851040"/>
          <a:ext cx="8953560" cy="5873760"/>
        </p:xfrm>
        <a:graphic>
          <a:graphicData uri="http://schemas.openxmlformats.org/drawingml/2006/table">
            <a:tbl>
              <a:tblPr/>
              <a:tblGrid>
                <a:gridCol w="5391360"/>
                <a:gridCol w="1962000"/>
                <a:gridCol w="1600200"/>
              </a:tblGrid>
              <a:tr h="11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ประเด็นการประเมินผลการปฏิบัติราชการ</a:t>
                      </a:r>
                      <a:r>
                        <a:rPr b="1" lang="en-US" sz="36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ตัวชี้วัด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น้ำหนั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(</a:t>
                      </a:r>
                      <a:r>
                        <a:rPr b="1" lang="hi-IN" sz="28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ร้อยละ</a:t>
                      </a: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มิติที่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 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มิติด้านประสิทธิผ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มิติที่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มิติด้านคุณภาพ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มิติที่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มิติด้านประสิทธิภาพของการปฏิบัติราชการ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4  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0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 u="sng">
                          <a:solidFill>
                            <a:srgbClr val="000000"/>
                          </a:solidFill>
                          <a:uFillTx/>
                          <a:latin typeface="Angsana New"/>
                        </a:rPr>
                        <a:t>มิติที่ </a:t>
                      </a:r>
                      <a:r>
                        <a:rPr b="1" lang="th-TH" sz="2800" spc="-1" strike="noStrike" u="sng">
                          <a:solidFill>
                            <a:srgbClr val="000000"/>
                          </a:solidFill>
                          <a:uFillTx/>
                          <a:latin typeface="Angsana New"/>
                        </a:rPr>
                        <a:t>4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 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ิติด้านการพัฒนาสถาบัน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รณีที่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ถาบันฯ </a:t>
                      </a:r>
                      <a:r>
                        <a:rPr b="1" lang="th-TH" sz="32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ที่ไม่ดำเนินการ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PMQA</a:t>
                      </a:r>
                      <a:r>
                        <a:rPr b="1" lang="th-TH" sz="32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 </a:t>
                      </a:r>
                      <a:r>
                        <a:rPr b="1" lang="th-TH" sz="32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ต่อเนื่อง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7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 u="sng">
                          <a:solidFill>
                            <a:srgbClr val="000000"/>
                          </a:solidFill>
                          <a:uFillTx/>
                          <a:latin typeface="Angsana New"/>
                        </a:rPr>
                        <a:t>มิติที่ </a:t>
                      </a:r>
                      <a:r>
                        <a:rPr b="1" lang="th-TH" sz="2800" spc="-1" strike="noStrike" u="sng">
                          <a:solidFill>
                            <a:srgbClr val="000000"/>
                          </a:solidFill>
                          <a:uFillTx/>
                          <a:latin typeface="Angsana New"/>
                        </a:rPr>
                        <a:t>4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 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ิติด้านการพัฒนาสถาบัน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รณีที่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ถาบันฯ ที่ดำเนินการ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PMQA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่อเนื่อง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40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รวม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18</a:t>
                      </a:r>
                      <a:r>
                        <a:rPr b="1" lang="th-TH" sz="32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 / 12  </a:t>
                      </a:r>
                      <a:r>
                        <a:rPr b="1" lang="th-TH" sz="32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 txBox="1"/>
          <p:nvPr/>
        </p:nvSpPr>
        <p:spPr>
          <a:xfrm>
            <a:off x="303120" y="174600"/>
            <a:ext cx="27468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4.2.3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้อยละผลงานวิชาการที่ได้รับการจดลิขสิทธ์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และ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/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หรือ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ได้รับรองคุณภาพจากหน่วยงานที่เชื่อถือได้ต่ออาจารย์ประจำและ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หรือนักวิจัยประจำ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3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52600" y="3319560"/>
          <a:ext cx="8088120" cy="2647800"/>
        </p:xfrm>
        <a:graphic>
          <a:graphicData uri="http://schemas.openxmlformats.org/drawingml/2006/table">
            <a:tbl>
              <a:tblPr/>
              <a:tblGrid>
                <a:gridCol w="385560"/>
                <a:gridCol w="6045120"/>
                <a:gridCol w="1657440"/>
              </a:tblGrid>
              <a:tr h="2073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ผลงานวิชาการที่ได้รับการจดลิขสิทธิ์</a:t>
                      </a:r>
                      <a:r>
                        <a:rPr b="1" lang="th-TH" sz="3400" spc="-1" strike="noStrike" u="sng">
                          <a:solidFill>
                            <a:srgbClr val="ffff00"/>
                          </a:solidFill>
                          <a:uFillTx/>
                          <a:latin typeface="Angsana New"/>
                        </a:rPr>
                        <a:t>และ</a:t>
                      </a:r>
                      <a:r>
                        <a:rPr b="1" lang="th-TH" sz="3400" spc="-1" strike="noStrike" u="sng">
                          <a:solidFill>
                            <a:srgbClr val="ffff00"/>
                          </a:solidFill>
                          <a:uFillTx/>
                          <a:latin typeface="Angsana New"/>
                        </a:rPr>
                        <a:t>/</a:t>
                      </a:r>
                      <a:r>
                        <a:rPr b="1" lang="th-TH" sz="3400" spc="-1" strike="noStrike" u="sng">
                          <a:solidFill>
                            <a:srgbClr val="ffff00"/>
                          </a:solidFill>
                          <a:uFillTx/>
                          <a:latin typeface="Angsana New"/>
                        </a:rPr>
                        <a:t>หรือ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ได้รับรองคุณภาพจากหน่วยงานที่เชื่อถือได้ในปีงบประมาณ พ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ศ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25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X  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32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อาจารย์ประจำและ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หรือนักวิจัยประจำในปีงบประมาณ พ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ศ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25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Line 22"/>
          <p:cNvSpPr/>
          <p:nvPr/>
        </p:nvSpPr>
        <p:spPr>
          <a:xfrm>
            <a:off x="727200" y="4950000"/>
            <a:ext cx="5943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19040" y="236520"/>
            <a:ext cx="50292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WordArt 24"/>
          <p:cNvSpPr txBox="1"/>
          <p:nvPr/>
        </p:nvSpPr>
        <p:spPr>
          <a:xfrm>
            <a:off x="5967360" y="495360"/>
            <a:ext cx="204804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36600" y="260280"/>
            <a:ext cx="4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7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184320" y="1581120"/>
            <a:ext cx="8826480" cy="7893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หมายเหตุ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สถาบันอุดมศึกษาไม่สามารถแสดงทะเบียนหรือบันทึกระยะเวลาการให้บริการตามวันในปฏิทินที่สำนักงาน ก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กำหนดให้จัดเก็บข้อมูลได้ จะถูกปรับลดคะแนนลง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0.5000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คะแนนจากคะแนนที่ได้รับของตัวชี้วัดนี้ 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โดยให้สถาบันอุดมศึกษาจัดเก็บข้อมูล</a:t>
            </a:r>
            <a:r>
              <a:rPr b="1" lang="th-TH" sz="2800" spc="-1" strike="noStrike" u="sng">
                <a:solidFill>
                  <a:srgbClr val="ff0000"/>
                </a:solidFill>
                <a:uFillTx/>
                <a:latin typeface="Angsana New"/>
              </a:rPr>
              <a:t>ผู้ใช้บริการทุกราย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 ตามวันในปฏิทินที่สำนักงาน ก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พ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ร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. 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กำหนด คือสัปดาห์ละ 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1 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วัน เริ่มต้นจากสัปดาห์ที่ 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2 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จนถึงสัปดาห์ที่ 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40 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ตามปฏิทินของปี พ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ศ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. 2552 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รวมทั้งสิ้น 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39 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วัน กรณีวันที่กำหนดตรงกับวันหยุดราชการให้ส่วนราชการจัดเก็บข้อมูลในวันทำการถัดไ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หากผู้ประเมินสุ่มกระบวนงานเพื่อประเมินผล ณ สถานที่จริง และพบว่าทะเบียนหรือบันทึกระยะเวลาการให้บริการตามวันในปฏิทินที่สำนักงาน ก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ำหนดให้จัดเก็บข้อมูล ขาดความสมบูรณ์หรือขาดความน่าเชื่อถือ จะถูกปรับลดคะแนนลง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0.200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คะแนนจากคะแนนที่ได้รับของตัวชี้วัดนี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09480" y="1159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Angsan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355680" y="512640"/>
            <a:ext cx="82296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0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ร้อยละเฉลี่ยถ่วงน้ำหนักในการรักษามาตรฐานระยะเวลาการให้บริการ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0080" y="85680"/>
            <a:ext cx="476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6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76240" y="3371400"/>
            <a:ext cx="4408560" cy="1181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720960" y="3244320"/>
            <a:ext cx="4408560" cy="1181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7"/>
          <p:cNvSpPr/>
          <p:nvPr/>
        </p:nvSpPr>
        <p:spPr>
          <a:xfrm>
            <a:off x="609480" y="1159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Browallia New"/>
                <a:cs typeface="Browalli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403200" y="1819440"/>
            <a:ext cx="808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Browallia New"/>
              </a:rPr>
              <a:t>ตารางปฏิทินการจัดเก็บข้อมูล ตามวันที่สำนักงาน ก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Browallia New"/>
              </a:rPr>
              <a:t>พ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Browallia New"/>
              </a:rPr>
              <a:t>ร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Browallia New"/>
              </a:rPr>
              <a:t>.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Browallia New"/>
              </a:rPr>
              <a:t>กำหนด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7772400" cy="42638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455760" y="512640"/>
            <a:ext cx="82296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10. 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ระดับความสำเร็จของร้อยละเฉลี่ยถ่วงน้ำหนักในการรักษามาตรฐานระยะเวลาการให้บริการ 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1280" y="71280"/>
            <a:ext cx="476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8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0" y="1109160"/>
            <a:ext cx="8467560" cy="5456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"/>
          <p:cNvSpPr/>
          <p:nvPr/>
        </p:nvSpPr>
        <p:spPr>
          <a:xfrm>
            <a:off x="2281680" y="3159000"/>
            <a:ext cx="19152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Garamond"/>
              </a:rPr>
              <a:t>ตัดออก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แบ่งเป็น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รณ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.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สำหรับสถาบัน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</a:rPr>
              <a:t>ที่ไม่ดำเนินการ </a:t>
            </a:r>
            <a:r>
              <a:rPr b="1" lang="en-US" sz="4000" spc="-1" strike="noStrike">
                <a:solidFill>
                  <a:srgbClr val="ff0000"/>
                </a:solidFill>
                <a:latin typeface="Angsana New"/>
              </a:rPr>
              <a:t>PMQA 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</a:rPr>
              <a:t>ต่อเนื่อง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2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สำหรับสถาบันที่ดำเนินการ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PMQA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ต่อเนื่อง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1144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ด้านการพัฒนาสถาบัน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30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2371680" y="2933640"/>
            <a:ext cx="518004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มิติ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4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มี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7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(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น้ำหนัก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30 )</a:t>
            </a:r>
            <a:endParaRPr b="1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2382840" y="4946760"/>
            <a:ext cx="518004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มิติ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4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มี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1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(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น้ำหนัก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30 )</a:t>
            </a:r>
            <a:endParaRPr b="1" lang="en-US" sz="2800" spc="1" strike="noStrike">
              <a:ln w="0">
                <a:noFill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16000" y="227160"/>
            <a:ext cx="476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9</a:t>
            </a:r>
            <a:endParaRPr b="0" lang="en-US" sz="2800" spc="1" strike="noStrike">
              <a:ln w="0">
                <a:noFill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314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2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ุณภาพของการกำกับดูแลตามหน้าที่และบทบาทของสภามหาวิทยาลัยและการถ่ายทอดเป้าหมาย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</a:rPr>
              <a:t>ตามยุทธศาสตร์ของมหาวิทยาลัยสู่การปฏิบัติ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การพัฒนาสถาบัน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กรณีที่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0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ตัวยึดเนื้อหา 2"/>
          <p:cNvSpPr/>
          <p:nvPr/>
        </p:nvSpPr>
        <p:spPr>
          <a:xfrm>
            <a:off x="458640" y="3486240"/>
            <a:ext cx="82296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3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ในการเปิดโอกาสให้ประชาชนเข้ามามีส่วนร่วมในการแสดงความคิดเห็นและร่วมติดตามตรวจสอบผลการปฏิบัติราชการ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4138560" y="4765680"/>
            <a:ext cx="45529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(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14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ปี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551)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88" name="AutoShape 8"/>
          <p:cNvSpPr/>
          <p:nvPr/>
        </p:nvSpPr>
        <p:spPr>
          <a:xfrm rot="13780200">
            <a:off x="3180240" y="4626720"/>
            <a:ext cx="782640" cy="5079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WordArt 9"/>
          <p:cNvSpPr txBox="1"/>
          <p:nvPr/>
        </p:nvSpPr>
        <p:spPr>
          <a:xfrm>
            <a:off x="2911320" y="5589720"/>
            <a:ext cx="29368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กลาง</a:t>
            </a:r>
            <a:endParaRPr b="1" lang="en-US" sz="2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6000" y="184320"/>
            <a:ext cx="476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0</a:t>
            </a:r>
            <a:endParaRPr b="0" lang="en-US" sz="2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4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การพัฒนาระบบฐานข้อมูลอุดมศึกษาด้านนักศึกษา บุคลากร หลักสูตรและการเงินอุดมศึกษา และระบบ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</a:rPr>
              <a:t>ภาวะการ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มีงานทำของบัณฑิต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1936800" y="4765680"/>
            <a:ext cx="541800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กลาง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(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18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ปี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551)</a:t>
            </a:r>
            <a:endParaRPr b="1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93" name="AutoShape 7"/>
          <p:cNvSpPr/>
          <p:nvPr/>
        </p:nvSpPr>
        <p:spPr>
          <a:xfrm rot="16200000">
            <a:off x="3744000" y="3382200"/>
            <a:ext cx="944640" cy="7840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57200" y="1144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การพัฒนาสถาบัน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กรณีที่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190440" y="5734080"/>
            <a:ext cx="87249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สำนักงานคณะกรรมการการอุดมศึกษา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(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สกอ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.)</a:t>
            </a:r>
            <a:endParaRPr b="1" lang="en-US" sz="2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17520" y="241200"/>
            <a:ext cx="476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1</a:t>
            </a:r>
            <a:endParaRPr b="0" lang="en-US" sz="2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2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การพัฒนาคุณภาพการบริหารจัดการภาครัฐ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PMQA) 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สำหรับสถาบันอุดมศึกษาดำเนินการ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PMQA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ต่อเนื่อง 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12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แห่ง ได้แก่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ตัวยึดหมายเลขภาพนิ่ง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ECEF-1F72-428D-9D36-6FFAE36DE7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1000" y="114120"/>
            <a:ext cx="45910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การพัฒนาสถาบัน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กรณีที่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2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0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5619600" y="2138400"/>
            <a:ext cx="28544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1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ปี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551</a:t>
            </a:r>
            <a:endParaRPr b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01" name="AutoShape 7"/>
          <p:cNvSpPr/>
          <p:nvPr/>
        </p:nvSpPr>
        <p:spPr>
          <a:xfrm rot="13093800">
            <a:off x="4554000" y="2163600"/>
            <a:ext cx="928800" cy="5083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6397560" y="1217520"/>
            <a:ext cx="2460600" cy="4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กลาง</a:t>
            </a:r>
            <a:endParaRPr b="1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3700440"/>
          <a:ext cx="8801280" cy="29289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  <a:gridCol w="293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ขอนแก่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บุรีรัมย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อุดรธาน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นราธิวาสราชนครินทร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หาสารคา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ทร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ธัญบุร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พระนครศรีอยุธย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ร้อยเอ็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ทร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รัตน์โกสินทร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นครสวรรค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หมู่บ้านจอมบึ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2</a:t>
                      </a:r>
                      <a:r>
                        <a:rPr b="1" lang="th-TH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. </a:t>
                      </a:r>
                      <a:r>
                        <a:rPr b="1" lang="th-TH" sz="32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สถาบันการพลศึกษ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  <p:sp>
        <p:nvSpPr>
          <p:cNvPr id="104" name="WordArt 15"/>
          <p:cNvSpPr txBox="1"/>
          <p:nvPr/>
        </p:nvSpPr>
        <p:spPr>
          <a:xfrm>
            <a:off x="6462720" y="8892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9080" y="652320"/>
            <a:ext cx="47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7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1:35:07Z</dcterms:created>
  <dc:creator>OEM </dc:creator>
  <dc:description/>
  <dc:language>en-US</dc:language>
  <cp:lastModifiedBy>toshiba</cp:lastModifiedBy>
  <dcterms:modified xsi:type="dcterms:W3CDTF">2008-08-28T06:26:07Z</dcterms:modified>
  <cp:revision>344</cp:revision>
  <dc:subject/>
  <dc:title>Slide 1</dc:title>
</cp:coreProperties>
</file>