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666-CA54-4076-8332-F2F5DB45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DBF9-19EC-4DCA-93D3-A1E26192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112-C772-4071-B066-A49F43B2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3695-1016-4594-8EA6-42688757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9E5C-4AC8-4541-9B05-0061AB12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7EE2-AE9A-4808-876D-1A484D11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E1DD-C1D7-413C-805A-47AEFA0A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CE88-2F3E-407D-B238-E8D63BDB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E14B-BB68-4A9D-A60C-6AB27C23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5952-E45F-44D5-A93F-62B08198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AD65-593F-461D-A761-E9903C15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5E7-E989-4922-A88E-935F4B31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B379-799A-4C9E-AB61-A66CA3BB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6303-D238-4A94-91EF-B97B9EC6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C264-0626-48DB-AD91-4280FE37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C76C-36C0-4D5F-8610-9774D72F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DBA1-B541-40D8-B442-CE8067BB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1012B-D4B8-483A-9E5C-C21578DC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B659A-F60F-4FE4-A947-0A410306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74D86-A3CF-4F47-9F4D-74755AA7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F29EE-908A-4038-9227-3C56AAA1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A01D7-C689-4BA9-8C8A-9292D4EA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0765-B367-47F6-8319-22521F8C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AB4C3-ABB9-4998-B534-A48DFA41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759BF-E659-400D-B0FA-CE8CBB66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CE23A-9C5E-4DD9-B497-C7E43AC8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2BD62-BB0D-4547-A50B-15D80C7F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D910F-BE94-42FD-96FF-7AF54350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19679-D17F-4A47-9872-BBF77F6F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35BED-6B31-4341-AED2-4AC19738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4E486-8276-416A-9D7B-14EA24F1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2A896-2050-4F6A-AE52-3830EC62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B254D-13D1-46D6-BE74-094537D2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C98-033D-4FB1-B32E-01FD21E6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847D4-01EB-4610-9D51-A3A50164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994BC-F105-4CAA-AF4E-FD71EEB8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92F41-EB64-477B-90BC-956723D4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59AB8-FBE5-4E1C-B7E4-E0DB904A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BEB75-770B-4059-AD67-4C1AC5EC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B807B-4578-4D44-B7A1-E5CCB167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9219E-9F82-48A5-B450-E713BCBC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113E3-C290-40A3-8CCE-ECC63610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83128-9466-450E-BF02-F66F7B58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CF191-2021-4E54-AA56-244F0580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7D17-EA78-4D29-848B-59DB5D64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473B9-5E3F-4489-A0B0-13B651B2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FE21E-DF5D-460D-B141-D3B99513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2EFA4-9141-4C77-BE3F-67CBD40C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3C8BA-33A7-49FE-9BCA-924D5F3B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80A97-36C1-409A-8230-E8A5354C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159F4-EDD9-4D4D-ABC5-018F712E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95041-24AB-4502-9E51-91D96B9A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65899-2FAD-4739-97A8-FDAB6F4D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D6754-546F-431F-AA6E-4E61DF11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26441-83CF-4F49-BBA7-541F01D2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7F7-A285-4114-9078-D30AE58E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59FFF-B46E-42C0-BDB6-BA69D757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DD2E-7FF6-472C-8C8A-45FF3F63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CB28-835D-4AFF-B588-3D3A7D53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81B7-EBFE-4A45-88DC-39B1D1BB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C9B7-7670-4BFD-AE8D-F2D2D9D5F7FE}" type="slidenum"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1020-E78D-46FF-97D0-6119AE8E7721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67DE-29BC-4BFD-AB9C-FFE12F803D43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1A7D-5FF0-4DFD-85E4-1B7C824E0009}" type="slidenum"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A6D1-B47B-4543-9529-DBC485E734B6}" type="slidenum"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2"/>
          <a:stretch/>
        </p:blipFill>
        <p:spPr>
          <a:xfrm>
            <a:off x="628560" y="1573200"/>
            <a:ext cx="78138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457200" y="533520"/>
          <a:ext cx="8229600" cy="5806800"/>
        </p:xfrm>
        <a:graphic>
          <a:graphicData uri="http://schemas.openxmlformats.org/drawingml/2006/table">
            <a:tbl>
              <a:tblPr/>
              <a:tblGrid>
                <a:gridCol w="2438280"/>
                <a:gridCol w="579132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rial"/>
                          <a:cs typeface="Angsana New"/>
                        </a:rPr>
                        <a:t>ระดับคะแนน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rial"/>
                          <a:cs typeface="Angsana New"/>
                        </a:rPr>
                        <a:t>เกณฑ์การให้คะแนน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rial"/>
                          <a:cs typeface="Angsana New"/>
                        </a:rPr>
                        <a:t>ระดับ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จัดทำบัญชีต้นทุนต่อหน่วยตามหลักเกณฑ์ที่กรมบัญชีกลางกำหนด โดยในภาคการศึกษาแรกของปีงบประมาณ พ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ศ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 2552 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จัดทำต้นทุนผลผลิต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ด้านการจัดการเรียนการสอนของนักศึกษาระดับปริญญาตรีต่อหัวทุกกลุ่มสาขาวิชา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(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หน่วยนับเป็นจำนวนนักศึกษาเต็มเวลาเทียบเท่า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: Full Time Equivalent Student)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และรายงานผลการคำนวณต้นทุนรูปแบบที่กรมบัญชีกลางกำหนด โดยเสนอให้สำนักงบประมาณ กรมบัญชีกลาง และสำนักงาน ก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พ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ร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 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ทรา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457200" y="533520"/>
          <a:ext cx="8229600" cy="5224320"/>
        </p:xfrm>
        <a:graphic>
          <a:graphicData uri="http://schemas.openxmlformats.org/drawingml/2006/table">
            <a:tbl>
              <a:tblPr/>
              <a:tblGrid>
                <a:gridCol w="2438280"/>
                <a:gridCol w="579132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rial"/>
                          <a:cs typeface="Angsana New"/>
                        </a:rPr>
                        <a:t>ระดับคะแนน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rial"/>
                          <a:cs typeface="Angsana New"/>
                        </a:rPr>
                        <a:t>เกณฑ์การให้คะแนน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rial"/>
                          <a:cs typeface="Angsana New"/>
                        </a:rPr>
                        <a:t>ระดับ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rial"/>
                          <a:cs typeface="Angsana New"/>
                        </a:rPr>
                        <a:t>จัดทำบัญชีต้นทุนต่อหน่วยภาคการศึกษาแรกของปีงบประมาณ พ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.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rial"/>
                          <a:cs typeface="Angsana New"/>
                        </a:rPr>
                        <a:t>ศ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. 2552 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rial"/>
                          <a:cs typeface="Angsana New"/>
                        </a:rPr>
                        <a:t>จัดทำ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rial"/>
                          <a:cs typeface="Angsana New"/>
                        </a:rPr>
                        <a:t>ต้นทุนทุกผลผลิต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เช่น ผลผลิตด้านการจัดการเรียนการสอน ด้านวิจัย ด้านการให้บริการวิชาการแก่สังคม ด้านการทำนุบำรุงศิลปวัฒนธรรม เป็นต้น และรายงานผลการคำนวณต้นทุนตามรูปแบบที่กรมบัญชีกลางกำหนด โดยเสนอให้สำนักงบประมาณ กรมบัญชีกลาง และสำนักงาน ก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.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rial"/>
                          <a:cs typeface="Angsana New"/>
                        </a:rPr>
                        <a:t>พ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.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rial"/>
                          <a:cs typeface="Angsana New"/>
                        </a:rPr>
                        <a:t>ร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. 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rial"/>
                          <a:cs typeface="Angsana New"/>
                        </a:rPr>
                        <a:t>ทรา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457200" y="533520"/>
          <a:ext cx="8229600" cy="5638680"/>
        </p:xfrm>
        <a:graphic>
          <a:graphicData uri="http://schemas.openxmlformats.org/drawingml/2006/table">
            <a:tbl>
              <a:tblPr/>
              <a:tblGrid>
                <a:gridCol w="2438280"/>
                <a:gridCol w="579132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rial"/>
                          <a:cs typeface="Cordia New"/>
                        </a:rPr>
                        <a:t>ระดับคะแนน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rial"/>
                          <a:cs typeface="Cordia New"/>
                        </a:rPr>
                        <a:t>เกณฑ์การให้คะแนน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rial"/>
                          <a:cs typeface="Angsana New"/>
                        </a:rPr>
                        <a:t>ระดับ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มีการดำเนินงานตามแผนการเพิ่มประสิทธิภาพการดำเนินงานสำหรับปีงบประมาณ พ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.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ศ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. 255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rial"/>
                          <a:cs typeface="Angsana New"/>
                        </a:rPr>
                        <a:t>ระดับ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นำผลการคำนวณระดับที่ 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1 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และระดับที่ 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2 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ไปกำหนดแนวทางหรือแผนการเพิ่มประสิทธิภาพดำเนินงานสำหรับภาคการศึกษาที่สอ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rial"/>
                          <a:cs typeface="Angsana New"/>
                        </a:rPr>
                        <a:t>ระดับ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rial"/>
                          <a:cs typeface="Cordia New"/>
                        </a:rPr>
                        <a:t>มีการดำเนินงานตามแผนการเพิ่มประสิทธิภาพการดำเนินงานที่กำหนดใช้สำหรับภาคการศึกษาที่สอ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1:59:05Z</dcterms:created>
  <dc:creator>CGD</dc:creator>
  <dc:description/>
  <dc:language>en-US</dc:language>
  <cp:lastModifiedBy>iLLuSioN</cp:lastModifiedBy>
  <dcterms:modified xsi:type="dcterms:W3CDTF">2008-09-01T03:06:23Z</dcterms:modified>
  <cp:revision>6</cp:revision>
  <dc:subject/>
  <dc:title>ตัวชี้วัดที่ 11 ระดับความสำเร็จของการจัดทำ              ต้นทุนต่อหน่วยผลผลิต</dc:title>
</cp:coreProperties>
</file>