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9E7-80EE-47FF-B9A4-D2DAB44E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746-6623-490E-A9F2-105D540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443-F95F-4D1F-9053-98435CDB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973-9CE8-4FD6-AE6D-B682C528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8BD9-3A43-4A86-8F5D-11FB4237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3F7E-E698-41D5-9293-E3961D74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D552-6155-44B3-951E-B5DC8816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8EC3-1073-4D6A-903E-21A51FF8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9D35-1042-4CBB-A9EB-8EDE272B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F60A-A9F8-496B-838F-E175ACAE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2F56-3851-4C56-AFE9-8E64091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3F2-79CA-4502-A78F-00716FE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AF7-B4A1-47FA-AB9F-87EB7321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7AA9-A445-4437-AFD8-E75C633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5CA2-2E48-41C6-B62E-CB19E223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D495-95FD-42F0-8ECA-9DFBB0A1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68D3-18D5-4DE9-84C2-B63EB38B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BE6-E333-47E2-8FEC-612220B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D28-B8DD-4CBC-9A38-B60035E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5C9-0D96-4555-8DBB-97077ACA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37B-CD9E-47CC-81A4-1FA59AA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FD4-0A96-4136-A3EB-7CA32C8A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C6E-105F-4A0A-9C1B-C11931E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285-1396-49DD-8E21-1F7B5D8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3A8F-1E26-40C5-8EBD-3086EFCA34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0683-41F9-4CC9-95CE-BF3EDABA70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7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2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2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7.png"/><Relationship Id="rId13" Type="http://schemas.openxmlformats.org/officeDocument/2006/relationships/image" Target="../media/image37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82F-55E2-4764-ABD8-AA009CD187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14360" y="1701720"/>
            <a:ext cx="84582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การประชุมชี้แจง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ร่าง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)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กรอบการประเมินผลการปฏิบัติราชการของสถาบันอุดมศึกษาประจำปีงบประมาณ พ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.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ศ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. 25</a:t>
            </a:r>
            <a:r>
              <a:rPr b="1" lang="en-US" sz="5400" spc="-1" strike="noStrike">
                <a:solidFill>
                  <a:srgbClr val="ffffcc"/>
                </a:solidFill>
                <a:latin typeface="Angsana New"/>
              </a:rPr>
              <a:t>52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วันพุธที่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2</a:t>
            </a:r>
            <a:r>
              <a:rPr b="1" lang="en-US" sz="5400" spc="-1" strike="noStrike">
                <a:solidFill>
                  <a:srgbClr val="ffffcc"/>
                </a:solidFill>
                <a:latin typeface="Angsana New"/>
              </a:rPr>
              <a:t>7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สิงหาคม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255</a:t>
            </a:r>
            <a:r>
              <a:rPr b="1" lang="en-US" sz="5400" spc="-1" strike="noStrike">
                <a:solidFill>
                  <a:srgbClr val="ffffcc"/>
                </a:solidFill>
                <a:latin typeface="Angsana New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เวลา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13.30 – 16.30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น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ณ ห้องประชุมฟีนิกซ์ เมืองทองธาน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9" descr="OPDC_Thai"/>
          <p:cNvPicPr/>
          <p:nvPr/>
        </p:nvPicPr>
        <p:blipFill>
          <a:blip r:embed="rId2"/>
          <a:stretch/>
        </p:blipFill>
        <p:spPr>
          <a:xfrm>
            <a:off x="476280" y="758880"/>
            <a:ext cx="2363760" cy="87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logonew1"/>
          <p:cNvPicPr/>
          <p:nvPr/>
        </p:nvPicPr>
        <p:blipFill>
          <a:blip r:embed="rId3"/>
          <a:stretch/>
        </p:blipFill>
        <p:spPr>
          <a:xfrm>
            <a:off x="7628040" y="587520"/>
            <a:ext cx="10015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426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3.2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จำนวนผลงานวิจัยหรืองานสร้างสรรค์ที่ได้รับการจดทะเบียนสิทธิบัตรหรืออนุสิทธิบัตร</a:t>
            </a:r>
            <a:r>
              <a:rPr b="1" lang="en-US" sz="3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(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ตัวชี้วัดที่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4.2.5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ปี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2551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453960" y="2925720"/>
            <a:ext cx="824724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นวนผลงานวิจัยและงานสร้างสรรค์ของอาจารย์ที่ได้รับการจดทะเบียนทรัพย์สินทางปัญญาสิทธิบัตร หรืออนุสิทธิบัตร  ในปีงบประมาณ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552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โดยสามารถนับได้ทั้งการจดทะเบียนในประเทศและต่างประเทศ ทั้งนี้ไม่นับการจดลิขสิทธิ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WordArt 29"/>
          <p:cNvSpPr txBox="1"/>
          <p:nvPr/>
        </p:nvSpPr>
        <p:spPr>
          <a:xfrm>
            <a:off x="4276800" y="285840"/>
            <a:ext cx="4638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8"/>
          <p:cNvSpPr/>
          <p:nvPr/>
        </p:nvSpPr>
        <p:spPr>
          <a:xfrm>
            <a:off x="723960" y="3067200"/>
            <a:ext cx="3867120" cy="571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923-F050-4407-B5D1-E9B3668820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241200" y="1511280"/>
            <a:ext cx="8688600" cy="77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ารบรรลุเป้าหมายที่สะท้อนเอกลักษณ์และจุดเน้น รวมทั้งวัตถุประสงค์เฉพาะตามพระราชบัญญัติของสถาบันอุดมศึกษ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ัวชี้วัดผลผลิต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ระบวน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ัวชี้วัด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ถาบันอุดมศึกษากลุ่ม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2 - 4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หาวิทยาลัยราชภัฏ ต้องเป็นตัวชี้วัดเกี่ยวกับความเป็นมหาวิทยาลัยท้องถิ่น ความเป็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“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าชภัฏ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”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และการส่งเสริมวิทยฐานะครูและวิชาชีพคร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หาวิทยาลัยเทคโนโลยีราชมงคลต้องเป็นตัวชี้วัดเกี่ยวกับการผลิตบัณฑิตวิทยาศาสตร์และเทคโนโลยี และการถ่ายทอดเทคโนโลย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ถาบันบัณฑิตพัฒนศิลป์ เน้นการผลิตบัณฑิตผู้นำด้านพัฒนศิลป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ถาบันการพลศึกษา เน้นการผลิตบัณฑิตผู้นำด้านพลศึกษ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104-C028-4BEE-9E06-905B671239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44160" y="1536840"/>
            <a:ext cx="845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.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บรรลุมาตรฐานคุณภาพ สมศ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ของสถาบันอุดมศึกษ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.1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าตรฐานด้านคุณภาพบัณฑิต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ี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ัวชี้วัด  เจรจาทั้ง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ัวชี้วั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.2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าตรฐานด้านงานวิจัยและงานสร้างสรรค์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ี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ัวชี้วัด เจรจ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ัวชี้วั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3E7C-1E71-4F4F-AFE7-8F65EEBF51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498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.1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าตรฐานด้านคุณภาพบัณฑิต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ี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4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ัวชี้วัด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10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4.1.1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ร้อยละของบัณฑิตระดับปริญญาตรีที่ได้งานทำหรือประกอบอาชีพอิสระภายในระยะเวลา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ปี</a:t>
            </a:r>
            <a:r>
              <a:rPr b="0" lang="th-TH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AutoShape 6"/>
          <p:cNvSpPr/>
          <p:nvPr/>
        </p:nvSpPr>
        <p:spPr>
          <a:xfrm rot="12931800">
            <a:off x="6387840" y="269244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139160" y="2560680"/>
            <a:ext cx="172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47760" y="3435480"/>
          <a:ext cx="8489880" cy="2611440"/>
        </p:xfrm>
        <a:graphic>
          <a:graphicData uri="http://schemas.openxmlformats.org/drawingml/2006/table">
            <a:tbl>
              <a:tblPr/>
              <a:tblGrid>
                <a:gridCol w="261720"/>
                <a:gridCol w="7220160"/>
                <a:gridCol w="1008000"/>
              </a:tblGrid>
              <a:tr h="1889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ัณฑิตที่ได้งานทำหรือประกอบอาชีพอิสระภายใน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ี นับจากวันที่สำเร็จการศึกษา ในปีงบประมาณ 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2552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ม่รวมผู้ศึกษาต่อแล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ผู้ที่มีงานทำอยู่แล้ว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0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ัณฑิตที่สำเร็จการศึกษาทั้งหมดในปีงบประมาณ 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          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ม่รวมผู้ศึกษาต่อและผู้ที่มีงานทำอยู่แล้ว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)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Line 35"/>
          <p:cNvSpPr/>
          <p:nvPr/>
        </p:nvSpPr>
        <p:spPr>
          <a:xfrm>
            <a:off x="654120" y="4905360"/>
            <a:ext cx="7126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5A91-D473-4CB7-A83C-CF5F15F7C4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76040" y="-699840"/>
            <a:ext cx="8867880" cy="826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d2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ัวอย่างการคำนวณตามตัวชี้วัด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4.1.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ถาบันอุดมศึกษาแห่งหนึ่งมีผู้สำเร็จการศึกษาระดับปริญญาตรีทั้งหมดทั้งภาคปกติและภาคพิเศษหรือภาคนอกเวลาราชการ ในปีงบประมาณ พ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552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ปีการศึกษา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55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จำนวน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น  จากการติดตามผลการมีงานทำของบัณฑิตรุ่นนี้โดยส่งแบบสอบถามให้ผู้สำเร็จการศึกษาทุกคนตอบ  และมีการติดตามทวงถามแบบสอบถาม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รั้ง  ปรากฏว่ามีผู้สำเร็จการศึกษาที่ตอบแบบสอบถามจำนวน </a:t>
            </a: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น ผลการวิเคราะห์การตอบแบบสอบถามจากผู้สำเร็จการศึกษา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น พบว่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จำนวนผู้สำเร็จการศึกษาที่ศึกษาต่อ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จำนวนผู้สำเร็จการศึกษาซึ่งมีงานทำอยู่ก่อนแล้ว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จำนวนผู้สำเร็จการศึกษาที่มีงานทำหรือประกอบอาชีพอิสระหลังสำเร็จการศึกษา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จำนวนผู้สำเร็จการศึกษาที่ยังไม่มีงานประจำทำ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ในกรณีนี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</a:rPr>
              <a:t>n = a + b + c + 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8662-31A8-43CB-9F0F-1F9C29F5AF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9280" y="189360"/>
            <a:ext cx="8867880" cy="314208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ณี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ถ้า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ngsana New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x 10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≥ 8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้อยละของบัณฑิตระดับปริญญาตรีที่ได้งานทำหรือประกอบอาชีพอิสระภายในระยะเวลา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ป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=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c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59760" y="501480"/>
            <a:ext cx="55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336320" y="2592360"/>
            <a:ext cx="212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n - a - b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1784520" y="2670120"/>
            <a:ext cx="120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79280" y="3440160"/>
            <a:ext cx="8867880" cy="326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กรณีที่ 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ถ้า 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Angsana New"/>
              </a:rPr>
              <a:t>n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 x 100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&lt; 80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  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                      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              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1       </a:t>
            </a:r>
            <a:r>
              <a:rPr b="1" lang="en-US" sz="4400" spc="-1" strike="noStrike">
                <a:solidFill>
                  <a:srgbClr val="006600"/>
                </a:solidFill>
                <a:latin typeface="Angsana New"/>
              </a:rPr>
              <a:t>+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        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870920" y="3838680"/>
            <a:ext cx="55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2465280" y="4600440"/>
            <a:ext cx="88920" cy="928800"/>
          </a:xfrm>
          <a:custGeom>
            <a:avLst/>
            <a:gdLst>
              <a:gd name="textAreaLeft" fmla="*/ 56880 w 88920"/>
              <a:gd name="textAreaRight" fmla="*/ 89280 w 8892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810960" y="5011560"/>
            <a:ext cx="212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Cordia New"/>
                <a:ea typeface="Cordia New"/>
              </a:rPr>
              <a:t>(</a:t>
            </a:r>
            <a:r>
              <a:rPr b="1" lang="en-US" sz="3600" spc="-1" strike="noStrike">
                <a:solidFill>
                  <a:srgbClr val="006600"/>
                </a:solidFill>
                <a:latin typeface="Cordia New"/>
                <a:ea typeface="Cordia New"/>
              </a:rPr>
              <a:t>n - a - b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279880" y="5025960"/>
            <a:ext cx="219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Cordia New"/>
                <a:ea typeface="Cordia New"/>
              </a:rPr>
              <a:t>(</a:t>
            </a:r>
            <a:r>
              <a:rPr b="1" lang="en-US" sz="3600" spc="-1" strike="noStrike">
                <a:solidFill>
                  <a:srgbClr val="006600"/>
                </a:solidFill>
                <a:latin typeface="Cordia New"/>
                <a:ea typeface="Cordia New"/>
              </a:rPr>
              <a:t>N - a - b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681280" y="5135400"/>
            <a:ext cx="1206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4191120" y="5121360"/>
            <a:ext cx="1206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332000" y="4710240"/>
            <a:ext cx="132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rdia New"/>
                <a:ea typeface="Cordia New"/>
              </a:rPr>
              <a:t>= 50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5481720" y="4616280"/>
            <a:ext cx="166680" cy="914400"/>
          </a:xfrm>
          <a:custGeom>
            <a:avLst/>
            <a:gdLst>
              <a:gd name="textAreaLeft" fmla="*/ 0 w 166680"/>
              <a:gd name="textAreaRight" fmla="*/ 60120 w 1666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2835360" y="2327400"/>
            <a:ext cx="1390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X 10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8DFB-8705-4CCF-87E5-A17E79D297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07960" y="1333440"/>
            <a:ext cx="82296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.1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าตรฐานด้านคุณภาพบัณฑิต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ี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4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ัวชี้วัด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10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.1.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้อยละของบัณฑิตระดับปริญญาตรีที่ได้งานทำตรงสาขาที่สำเร็จการศึกษา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AutoShape 7"/>
          <p:cNvSpPr/>
          <p:nvPr/>
        </p:nvSpPr>
        <p:spPr>
          <a:xfrm rot="13717200">
            <a:off x="6174720" y="262044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WordArt 8"/>
          <p:cNvSpPr txBox="1"/>
          <p:nvPr/>
        </p:nvSpPr>
        <p:spPr>
          <a:xfrm>
            <a:off x="6986520" y="2560680"/>
            <a:ext cx="1724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06440" y="3257640"/>
          <a:ext cx="8229600" cy="2392200"/>
        </p:xfrm>
        <a:graphic>
          <a:graphicData uri="http://schemas.openxmlformats.org/drawingml/2006/table">
            <a:tbl>
              <a:tblPr/>
              <a:tblGrid>
                <a:gridCol w="412560"/>
                <a:gridCol w="6089760"/>
                <a:gridCol w="1727280"/>
              </a:tblGrid>
              <a:tr h="1556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ัณฑิตปริญญาตรีที่ได้งานทำตรงสาขาที่สำเร็จการศึกษา ปีงบประมาณ พ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ัณฑิตปริญญาตร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ในปีงบประมาณ พ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52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ที่ได้งานทำ</a:t>
                      </a:r>
                      <a:r>
                        <a:rPr b="0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1" name="Text Box 19"/>
          <p:cNvSpPr/>
          <p:nvPr/>
        </p:nvSpPr>
        <p:spPr>
          <a:xfrm>
            <a:off x="1239840" y="5950080"/>
            <a:ext cx="62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แจงนับเฉพาะผู้ที่ได้งานทำเท่านั้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Line 24"/>
          <p:cNvSpPr/>
          <p:nvPr/>
        </p:nvSpPr>
        <p:spPr>
          <a:xfrm>
            <a:off x="841320" y="4368960"/>
            <a:ext cx="615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2745-C74C-472B-ABA1-A664177CA2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-1964520" y="856800"/>
            <a:ext cx="1319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มื่อ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=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นวนผู้สำเร็จการศึกษาทั้งหมดในปีงบประมาณ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55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=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นวนผู้สำเร็จการศึกษาที่ตอบแบบสอบถาม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=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นวนผู้สำเร็จการศึกษาที่ศึกษาต่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=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นวนผู้สำเร็จการศึกษาที่มีงานทำอยู่ก่อนแล้ว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c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=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นวนผู้สำเร็จการศึกษาที่มีงานทำหรือประกอบอาชีพอิสร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=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นวนผู้สำเร็จการศึกษาที่ทำงานตรงสาขาที่สำเร็จการศึกษ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445D-8C8B-4D05-A859-704D6B12F8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79280" y="79920"/>
            <a:ext cx="8867880" cy="3355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ณี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ถ้า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ngsana New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x 10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≥ 8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ff"/>
                </a:solidFill>
                <a:latin typeface="Angsana New"/>
              </a:rPr>
              <a:t>ร้อยละของบัณฑิตระดับปริญญาตรีที่ได้งานทำตรงสาขาที่สำเร็จการศึกษา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=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d  x 10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859760" y="635040"/>
            <a:ext cx="55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512720" y="2282760"/>
            <a:ext cx="46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1590840" y="2527200"/>
            <a:ext cx="33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79280" y="3194640"/>
            <a:ext cx="886788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กรณีที่ 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ถ้า 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Angsana New"/>
              </a:rPr>
              <a:t>n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 x 100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&lt; 80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ร้อยละเฉลี่ยถ่วงน้ำหนักระหว่างข้อมูลจากผู้สำเร็จการศึกษาทั้งหมดกับข้อมูลจากการสำรวจ ผู้ที่ทำงานตรงสาขาที่สำเร็จการศึกษ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  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                       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869480" y="3790800"/>
            <a:ext cx="55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2419200" y="5472000"/>
            <a:ext cx="88920" cy="928800"/>
          </a:xfrm>
          <a:custGeom>
            <a:avLst/>
            <a:gdLst>
              <a:gd name="textAreaLeft" fmla="*/ 56880 w 88920"/>
              <a:gd name="textAreaRight" fmla="*/ 89280 w 8892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2742840" y="5416560"/>
            <a:ext cx="212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n - a - b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3090960" y="5894280"/>
            <a:ext cx="1439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N - a - b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3176640" y="6005520"/>
            <a:ext cx="1206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4552920" y="5472000"/>
            <a:ext cx="166680" cy="914400"/>
          </a:xfrm>
          <a:custGeom>
            <a:avLst/>
            <a:gdLst>
              <a:gd name="textAreaLeft" fmla="*/ 0 w 166680"/>
              <a:gd name="textAreaRight" fmla="*/ 60120 w 1666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984960" y="5522760"/>
            <a:ext cx="12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= 50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1777320" y="5364000"/>
            <a:ext cx="6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ngsana New"/>
              </a:rPr>
              <a:t>d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Line 17"/>
          <p:cNvSpPr/>
          <p:nvPr/>
        </p:nvSpPr>
        <p:spPr>
          <a:xfrm>
            <a:off x="1930320" y="5907240"/>
            <a:ext cx="2890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1784880" y="5622840"/>
            <a:ext cx="6530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ngsana New"/>
              </a:rPr>
              <a:t>c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2406240" y="5594400"/>
            <a:ext cx="942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gsana New"/>
              </a:rPr>
              <a:t>1 +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75FB-C0D8-43E4-852B-7A86087D49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44600" y="1422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.1.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้อยละเฉลี่ยของบัณฑิตระดับปริญญาตรีที่สอบผ่านได้ใบประกอบวิชาชีพในรอบ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ีที่ผ่านมา ต่อจำนวนผู้เข้าสอบทั้งหมด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65200" y="2970360"/>
            <a:ext cx="80690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ให้เปรียบเทียบจำนวนบัณฑิตที่ผ่านการสอบใบประกอบวิชาชีพ กับบัณฑิตที่สอบใบประกอบวิชาชีพ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ใน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รอบ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3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ปี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ที่ผ่านมา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(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ปี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งบประมาณ พ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ศ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.2549-2551)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โดยให้นำเสนอในรูปร้อยล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บัณฑิตที่สอบใบประกอบวิชาชีพ หมายถึง บัณฑิตที่สำเร็จการศึกษาในกลุ่มสาขาวิชาที่ต้องสอบใบประกอบวิชาชีพ เช่น แพทย์ พยาบาล         ทันตแพทย์ บัญชี กฎหมาย เป็นต้น  โดยให้นับได้ทั้งบัณฑิตภาคปกติ และภาคนอกเวลา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ใน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รอบ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3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ปี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ที่ผ่านมา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(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ปี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งบประมาณ พ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ศ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.2549-2551)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AutoShape 7"/>
          <p:cNvSpPr/>
          <p:nvPr/>
        </p:nvSpPr>
        <p:spPr>
          <a:xfrm rot="13326000">
            <a:off x="6220800" y="244908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WordArt 8"/>
          <p:cNvSpPr txBox="1"/>
          <p:nvPr/>
        </p:nvSpPr>
        <p:spPr>
          <a:xfrm>
            <a:off x="7018200" y="2549520"/>
            <a:ext cx="1724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881-3167-4604-BBBC-A5D987A267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5360" y="488880"/>
            <a:ext cx="8918640" cy="10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กำหนดการชี้แจงกรอบการประเมินผลฯ ปี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255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3.00 – 13.30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ลงทะเบีย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3.30 – 13.45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วัตถุประสงค์และทิศทางการประเมินผล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โดยรองเลขาธิการ ก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างสาวทัศนีย์  ดุสิตสุทธิรัตน์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3.45 – 14.4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ชี้แจงกรอบการประเมินผล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โดย ศ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ิตติคุณ ด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มหวัง  พิธิยานุวัฒน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4.45 – 15.0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พักรับประทานอาหารว่า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5.00 – 16.00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ชี้แจงรายละเอียดตัวชี้วัด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ัวกลาง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โดย หน่วยงานกลางผู้รับผิดชอบตัวชี้วัด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6.00 – 16.3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อบคำถาม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D88-B288-4B61-82EB-67808D83E9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44600" y="1460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.1.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้อยละเฉลี่ยของบัณฑิตระดับปริญญาตรีที่สอบผ่านได้ใบประกอบวิชาชีพในรอบ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ีที่ผ่านมา ต่อจำนวนผู้เข้าสอบทั้งหม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565200" y="3048120"/>
            <a:ext cx="83152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บัณฑิตที่ผ่านการสอบใบประกอบวิชาชีพ หมายถึง บัณฑิตที่สำเร็จการศึกษาในกลุ่มสาขาวิชาที่ต้องสอบใบประกอบวิชาชีพและสามารถสอบผ่านและได้รับใบประกอบวิชาชีพในสาขานั้น ๆ ตามเกณฑ์ที่สภา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สมาคมวิชาชีพที่ได้รับการยอมรับว่ามีมาตรฐานเป็นผู้กำหน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แจงนับเฉพาะบัณฑิตที่สำเร็จการศึกษาที่ต้องสอบใบประกอบวิชาชีพ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ใน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รอบ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3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ปี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ที่ผ่านมา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(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ปี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งบประมาณ พ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ศ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.2549-2551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AutoShape 9"/>
          <p:cNvSpPr/>
          <p:nvPr/>
        </p:nvSpPr>
        <p:spPr>
          <a:xfrm rot="13543200">
            <a:off x="6379920" y="249372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WordArt 10"/>
          <p:cNvSpPr txBox="1"/>
          <p:nvPr/>
        </p:nvSpPr>
        <p:spPr>
          <a:xfrm>
            <a:off x="6973920" y="2508120"/>
            <a:ext cx="1724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876-179D-4C01-AC32-C39BFEDD23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446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4.1.3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ร้อยละเฉลี่ยของบัณฑิตระดับปริญญาตรีที่สอบผ่านได้ใบประกอบวิชาชีพในรอบ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ปีที่ผ่านมา ต่อจำนวนผู้เข้าสอบทั้งหมด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44600" y="3382920"/>
          <a:ext cx="8221680" cy="2378160"/>
        </p:xfrm>
        <a:graphic>
          <a:graphicData uri="http://schemas.openxmlformats.org/drawingml/2006/table">
            <a:tbl>
              <a:tblPr/>
              <a:tblGrid>
                <a:gridCol w="6892920"/>
                <a:gridCol w="434880"/>
                <a:gridCol w="8938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ัณฑิตทั้งหมดที่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สอบผ่านได้ใบประกอบวิชาชีพในรอบ 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3 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ปีที่ผ่านมา 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(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พ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.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ศ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. 25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49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 – 255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1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)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ัณฑิตทั้งหมดที่เข้าสอบใบประกอบวิชาชีพ ใน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ในรอบ 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3 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ปีที่ผ่านมา 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(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พ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.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ศ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. 25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49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 – 255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1</a:t>
                      </a:r>
                      <a:r>
                        <a:rPr b="1" lang="th-TH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)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1" name="Line 40"/>
          <p:cNvSpPr/>
          <p:nvPr/>
        </p:nvSpPr>
        <p:spPr>
          <a:xfrm>
            <a:off x="584280" y="4584600"/>
            <a:ext cx="6718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AutoShape 47"/>
          <p:cNvSpPr/>
          <p:nvPr/>
        </p:nvSpPr>
        <p:spPr>
          <a:xfrm rot="13522200">
            <a:off x="6206760" y="2577960"/>
            <a:ext cx="546120" cy="3553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WordArt 48"/>
          <p:cNvSpPr txBox="1"/>
          <p:nvPr/>
        </p:nvSpPr>
        <p:spPr>
          <a:xfrm>
            <a:off x="6973920" y="2548080"/>
            <a:ext cx="1724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AD64-8ED0-4E3A-AF61-A732ECC596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.1.4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้อยละของบทความวิทยานิพนธ์ปริญญาโทหรือเอก ที่ตีพิมพ์เผยแพร่ทั้งในระดับชาติหรือระดับนานาชาติต่อจำนวนวิทยานิพนธ์ปริญญาโทหรือเอก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455760" y="3251160"/>
            <a:ext cx="844704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 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บทความจากวิทยานิพนธ์ปริญญาโท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อกที่สำเร็จการศึกษาในปีงบประมาณพ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552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ี่ได้ตีพิมพ์เผยแพร่ในระดับชาติหรือระดับนานาชาติต่อจำนวนวิทยานิพนธ์ปริญญาโท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อกทั้งหมดที่สำเร็จการศึกษาในปีงบประมาณ พ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55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ั้งนี้ไม่นับภาคนิพนธ์หรือสารนิพนธ์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AutoShape 9"/>
          <p:cNvSpPr/>
          <p:nvPr/>
        </p:nvSpPr>
        <p:spPr>
          <a:xfrm rot="13412400">
            <a:off x="6162480" y="2677680"/>
            <a:ext cx="54576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WordArt 10"/>
          <p:cNvSpPr txBox="1"/>
          <p:nvPr/>
        </p:nvSpPr>
        <p:spPr>
          <a:xfrm>
            <a:off x="6973920" y="2692440"/>
            <a:ext cx="1724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4B0-13A8-4D20-B7B2-A5533C80A8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673200" y="393840"/>
            <a:ext cx="822960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.1.4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้อยละของบทความวิทยานิพนธ์ปริญญาโทหรือเอก ที่ตีพิมพ์เผยแพร่ทั้งในระดับชาติหรือระดับนานาชาติต่อจำนวนวิทยานิพนธ์ปริญญาโทหรือเอก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AutoShape 5"/>
          <p:cNvSpPr/>
          <p:nvPr/>
        </p:nvSpPr>
        <p:spPr>
          <a:xfrm rot="13434600">
            <a:off x="5954040" y="149076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6707160" y="1606680"/>
            <a:ext cx="1724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725400" y="2616120"/>
          <a:ext cx="7678800" cy="2816280"/>
        </p:xfrm>
        <a:graphic>
          <a:graphicData uri="http://schemas.openxmlformats.org/drawingml/2006/table">
            <a:tbl>
              <a:tblPr/>
              <a:tblGrid>
                <a:gridCol w="262080"/>
                <a:gridCol w="6211800"/>
                <a:gridCol w="1204920"/>
              </a:tblGrid>
              <a:tr h="3221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ทความจากวิทยานิพนธ์ปริญญาโท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หรือเอก ของผู้สำเร็จการศึกษา ในปีงบประมา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 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ที่ได้ตีพิมพ์เผยแพร่ โดยไม่นับซ้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55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วิทยานิพนธ์ระดับปริญญาโทหรือเอก ของผู้สำเร็จการศึกษา ในปีงบประมาณ 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8" name="Line 25"/>
          <p:cNvSpPr/>
          <p:nvPr/>
        </p:nvSpPr>
        <p:spPr>
          <a:xfrm>
            <a:off x="1015920" y="4356000"/>
            <a:ext cx="6004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306F-4063-4F62-B317-E196ED8466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.2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มาตรฐานด้านงานวิจัยและงานสร้างสรรค์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.2.1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้อยละของงานวิจัย หรืองานสร้างสรรค์ที่ตีพิมพ์ เผยแพร่ ในระดับชาติหรือระดับนานาชาติ ต่ออาจารย์ประจำและ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หรือนักวิจัยประจำ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17520" y="3862440"/>
          <a:ext cx="8556480" cy="2144520"/>
        </p:xfrm>
        <a:graphic>
          <a:graphicData uri="http://schemas.openxmlformats.org/drawingml/2006/table">
            <a:tbl>
              <a:tblPr/>
              <a:tblGrid>
                <a:gridCol w="255600"/>
                <a:gridCol w="7101000"/>
                <a:gridCol w="1199880"/>
              </a:tblGrid>
              <a:tr h="180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งานวิจัยและงานสร้างสรรค์ของอาจารย์ประจำและ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หรือนักวิจัยประจำที่ได้รับการตีพิมพ์ เผยแพร่ ทั้งในระดับชาติและระดับนานาชาติในปีงบประมาณ พ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52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โดยไม่นับซ้ำ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07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อาจารย์ประจำ</a:t>
                      </a:r>
                      <a:r>
                        <a:rPr b="1" lang="th-TH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และ</a:t>
                      </a:r>
                      <a:r>
                        <a:rPr b="1" lang="th-TH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/</a:t>
                      </a:r>
                      <a:r>
                        <a:rPr b="1" lang="th-TH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หรือ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นักวิจัยประจำในปีงบประมาณ พ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52</a:t>
                      </a:r>
                      <a:r>
                        <a:rPr b="0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2" name="AutoShape 20"/>
          <p:cNvSpPr/>
          <p:nvPr/>
        </p:nvSpPr>
        <p:spPr>
          <a:xfrm rot="13344000">
            <a:off x="5852880" y="309672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WordArt 21"/>
          <p:cNvSpPr txBox="1"/>
          <p:nvPr/>
        </p:nvSpPr>
        <p:spPr>
          <a:xfrm>
            <a:off x="6707160" y="3081240"/>
            <a:ext cx="1724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54" name="Line 25"/>
          <p:cNvSpPr/>
          <p:nvPr/>
        </p:nvSpPr>
        <p:spPr>
          <a:xfrm>
            <a:off x="647640" y="5245200"/>
            <a:ext cx="7010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CD22-D43A-4602-B061-34A420BEFF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494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.2.2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้อยละของงานวิจัย </a:t>
            </a: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หรือ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งานสร้างสรรค์ที่นำมาใช้อันก่อให้เกิดประโยชน์อย่างเด่นชัดในระดับชาติหรือระดับนานาชาติ ต่ออาจารย์ประจำและ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หรือนักวิจัยประจำ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52600" y="3319560"/>
          <a:ext cx="7562880" cy="2674800"/>
        </p:xfrm>
        <a:graphic>
          <a:graphicData uri="http://schemas.openxmlformats.org/drawingml/2006/table">
            <a:tbl>
              <a:tblPr/>
              <a:tblGrid>
                <a:gridCol w="360360"/>
                <a:gridCol w="5653080"/>
                <a:gridCol w="1549440"/>
              </a:tblGrid>
              <a:tr h="25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งานวิจัย </a:t>
                      </a:r>
                      <a:r>
                        <a:rPr b="1" lang="hi-IN" sz="32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หรือ 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งานสร้างสรรค์ที่นำมาใช้อันก่อให้เกิดประโยชน์อย่างเด่นชัดในระดับชาติหรือระดับนานาชาต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ในปีงบประมาณ 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   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3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อาจารย์ประจำและ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หรือนักวิจัยประจำในปีงบประมาณ 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0" name="Line 22"/>
          <p:cNvSpPr/>
          <p:nvPr/>
        </p:nvSpPr>
        <p:spPr>
          <a:xfrm>
            <a:off x="698400" y="4863960"/>
            <a:ext cx="5943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CA0-3E3A-4AD3-A8E4-293165F373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.2.3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้อยละผลงานวิชาการที่ได้รับการจดลิขสิทธิ์</a:t>
            </a:r>
            <a:r>
              <a:rPr b="1" lang="th-TH" sz="4400" spc="-1" strike="noStrike" u="sng">
                <a:solidFill>
                  <a:srgbClr val="ffff00"/>
                </a:solidFill>
                <a:uFillTx/>
                <a:latin typeface="Angsana New"/>
              </a:rPr>
              <a:t>และ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/</a:t>
            </a:r>
            <a:r>
              <a:rPr b="1" lang="th-TH" sz="4400" spc="-1" strike="noStrike" u="sng">
                <a:solidFill>
                  <a:srgbClr val="ffff00"/>
                </a:solidFill>
                <a:uFillTx/>
                <a:latin typeface="Angsana New"/>
              </a:rPr>
              <a:t>หรือ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ได้รับรองคุณภาพจากหน่วยงานที่เชื่อถือได้ต่ออาจารย์ประจำและ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หรือนักวิจัยประจำ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3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ผลงานวิชาการ หมายถึง งานแต่ง เรียบเรียง แปลหนังสือ หรือบทความวิชาการรวมถึงงานสร้างสรรค์ ซึ่งได้รับการตีพิมพ์เผยแพร่ตามเกณฑ์ที่ ก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อ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ำหนด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19040" y="236520"/>
            <a:ext cx="50292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WordArt 15"/>
          <p:cNvSpPr txBox="1"/>
          <p:nvPr/>
        </p:nvSpPr>
        <p:spPr>
          <a:xfrm>
            <a:off x="5967360" y="495360"/>
            <a:ext cx="2048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BE2-273B-4857-842D-9F134C36BE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4.2.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้อยละผลงานวิชาการที่ได้รับการจดลิขสิทธ์</a:t>
            </a:r>
            <a:r>
              <a:rPr b="1" lang="th-TH" sz="4000" spc="-1" strike="noStrike" u="sng">
                <a:solidFill>
                  <a:srgbClr val="ffff00"/>
                </a:solidFill>
                <a:uFillTx/>
                <a:latin typeface="Angsana New"/>
              </a:rPr>
              <a:t>และ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</a:rPr>
              <a:t>/</a:t>
            </a:r>
            <a:r>
              <a:rPr b="1" lang="th-TH" sz="4000" spc="-1" strike="noStrike" u="sng">
                <a:solidFill>
                  <a:srgbClr val="ffff00"/>
                </a:solidFill>
                <a:uFillTx/>
                <a:latin typeface="Angsana New"/>
              </a:rPr>
              <a:t>หรือ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ด้รับรองคุณภาพจากหน่วยงานที่เชื่อถือได้ต่ออาจารย์ประจำและ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รือนักวิจัยประจำ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90400" y="3338640"/>
          <a:ext cx="7791480" cy="2679480"/>
        </p:xfrm>
        <a:graphic>
          <a:graphicData uri="http://schemas.openxmlformats.org/drawingml/2006/table">
            <a:tbl>
              <a:tblPr/>
              <a:tblGrid>
                <a:gridCol w="216000"/>
                <a:gridCol w="6032880"/>
                <a:gridCol w="1542600"/>
              </a:tblGrid>
              <a:tr h="210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ผลงานวิชาการที่ได้รับการจดลิขสิทธิ์</a:t>
                      </a:r>
                      <a:r>
                        <a:rPr b="1" lang="hi-IN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และ</a:t>
                      </a:r>
                      <a:r>
                        <a:rPr b="1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/</a:t>
                      </a:r>
                      <a:r>
                        <a:rPr b="1" lang="hi-IN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หรือ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ด้รับรองคุณภาพจากหน่วยงานที่เชื่อถือได้ในปีงบประมาณ 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 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32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อาจารย์ประจำและ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หรือนักวิจัยประจำในปีงบประมาณ 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0" name="Line 22"/>
          <p:cNvSpPr/>
          <p:nvPr/>
        </p:nvSpPr>
        <p:spPr>
          <a:xfrm>
            <a:off x="727200" y="4950000"/>
            <a:ext cx="5943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419040" y="236520"/>
            <a:ext cx="50292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WordArt 24"/>
          <p:cNvSpPr txBox="1"/>
          <p:nvPr/>
        </p:nvSpPr>
        <p:spPr>
          <a:xfrm>
            <a:off x="5967360" y="495360"/>
            <a:ext cx="2048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37"/>
          <p:cNvSpPr/>
          <p:nvPr/>
        </p:nvSpPr>
        <p:spPr>
          <a:xfrm>
            <a:off x="3714840" y="2933640"/>
            <a:ext cx="1447560" cy="590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648E-C7BA-4319-9C0B-BE0B10EF1F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345960" y="1317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.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ในการพัฒนาสถาบันสู่สากล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Garamond"/>
              </a:rPr>
              <a:t>การจัดอันดับคุณภาพและมาตรฐานทางวิชาการของสถาบันหรือสาขาวิชาไม่รวมการจัดอันดับเว็บไซต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Garamond"/>
              </a:rPr>
              <a:t>กลุ่มที่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74680" y="3778200"/>
          <a:ext cx="8697960" cy="2865600"/>
        </p:xfrm>
        <a:graphic>
          <a:graphicData uri="http://schemas.openxmlformats.org/drawingml/2006/table">
            <a:tbl>
              <a:tblPr/>
              <a:tblGrid>
                <a:gridCol w="1709640"/>
                <a:gridCol w="1709640"/>
                <a:gridCol w="1708200"/>
                <a:gridCol w="1710000"/>
                <a:gridCol w="1860480"/>
              </a:tblGrid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กณฑ์การให้คะแน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ไม่ได้รับการจัดอันดับ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ได้รับการจัดอันดับในระดับสถาบันหรือสาขาวิช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ได้รับการจัดอันดับในระดับสถาบันและอย่างน้อย ๑ สาขาวิช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ได้รับการจัดอันดับในระดับสถาบันและอย่างน้อย ๒ สาขาวิช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377" name="Rectangle 2"/>
          <p:cNvSpPr/>
          <p:nvPr/>
        </p:nvSpPr>
        <p:spPr>
          <a:xfrm>
            <a:off x="345960" y="2365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WordArt 10"/>
          <p:cNvSpPr txBox="1"/>
          <p:nvPr/>
        </p:nvSpPr>
        <p:spPr>
          <a:xfrm>
            <a:off x="7419960" y="657360"/>
            <a:ext cx="1724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79" name="AutoShape 9"/>
          <p:cNvSpPr/>
          <p:nvPr/>
        </p:nvSpPr>
        <p:spPr>
          <a:xfrm rot="9069000">
            <a:off x="7671600" y="122400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34"/>
          <p:cNvSpPr/>
          <p:nvPr/>
        </p:nvSpPr>
        <p:spPr>
          <a:xfrm>
            <a:off x="3467160" y="800280"/>
            <a:ext cx="1828800" cy="666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A495-44EA-4D1C-847C-5BF1A6A0FE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5520" y="285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.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ในการพัฒนาสถาบันสู่สากล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                                       </a:t>
            </a:r>
            <a:r>
              <a:rPr b="1" lang="hi-IN" sz="3200" spc="-1" strike="noStrike">
                <a:solidFill>
                  <a:srgbClr val="000000"/>
                </a:solidFill>
                <a:latin typeface="Garamond"/>
              </a:rPr>
              <a:t>กลุ่มที่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 -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43080" y="1760400"/>
          <a:ext cx="8546760" cy="4915080"/>
        </p:xfrm>
        <a:graphic>
          <a:graphicData uri="http://schemas.openxmlformats.org/drawingml/2006/table">
            <a:tbl>
              <a:tblPr/>
              <a:tblGrid>
                <a:gridCol w="1709640"/>
                <a:gridCol w="1709640"/>
                <a:gridCol w="1708200"/>
                <a:gridCol w="1709640"/>
                <a:gridCol w="1709640"/>
              </a:tblGrid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กณฑ์การให้คะแน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ไม่มีแผนพัฒนาวิชาการสู่สาก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ีแผนงานพัฒนาวิชาการสู่สากลระดับสาขาวิชาหรือสถาบ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ีแผนงานพัฒนาวิชาการสู่สาก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ะดับสาขาวิชาหรือสถาบันและได้รับอนุมัติจากสภาฯ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ถาบ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ีแผนงานพัฒนาวิชาการสู่สาก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ะดับสาขาวิชาอย่างน้อย ๒ สาขาและระดับสถาบันซึ่งได้รับอนุมัติจากสภาฯ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ถาบ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ีผลประเมินการดำเนินงานที่แสดงความก้าวหน้าอย่างเด่นชัดและนำผลประเมินมาปรับปรุงแผนพัฒนาวิชาการสู่สากล ทั้งระดับสาขาวิชาและสถาบ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384" name="AutoShape 9"/>
          <p:cNvSpPr/>
          <p:nvPr/>
        </p:nvSpPr>
        <p:spPr>
          <a:xfrm rot="12999600">
            <a:off x="6128640" y="86472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WordArt 10"/>
          <p:cNvSpPr txBox="1"/>
          <p:nvPr/>
        </p:nvSpPr>
        <p:spPr>
          <a:xfrm>
            <a:off x="6973920" y="795240"/>
            <a:ext cx="1724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503-1F8B-445B-8FB5-A8ADC55619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181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หลักการในการยกร่างกรอบการประเมินผล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ารปฏิบัติราชการของสถาบันอุดมศึกษา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ระจำปีงบประมาณ พ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255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36520" y="1156680"/>
            <a:ext cx="871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(1)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หลักการประเมินเพื่อเรียนรู้และพัฒนาคุณภาพสู่สากลของสถาบันอุดมศึกษ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(2)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หลักเอกภาพของการประเมินภายนอกสถาบันอุดมศึกษา เพื่อให้เกิด “ฉันทะ”ในการประกันคุณภาพการศึกษาทั้งการประเมินภายในและภายนอก การปรับปรุงพัฒนาคุณภาพและการติดตามคุณภา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(3)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หลักการประเมินตามเอกลักษณ์และจุดเน้นของสถาบันอุดมศึกษา เนื่องจากสถาบันอุดมศึกษาแต่ละแห่งมีปณิธาน จุดเน้นและเอกลักษณ์ที่  แตกต่างกัน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(4)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หลักความต่อเนื่องของการประเมินเพื่อให้สถาบันพัฒนาคุณภาพสู่งานประจำและเกิดความยั่งยื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F9EE-85D5-4DF9-8E02-56724E8590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6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พึงพอใจต่อบัณฑิตและบทบาทของสถาบันอุดมศึกษ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)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57240" y="75960"/>
            <a:ext cx="43243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คุณภาพ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5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9" name="Rectangle 1025"/>
          <p:cNvSpPr/>
          <p:nvPr/>
        </p:nvSpPr>
        <p:spPr>
          <a:xfrm>
            <a:off x="284040" y="2620800"/>
            <a:ext cx="8596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ความพึงพอใจต่อบัณฑิต หมายถึง ความพึงพอใจต่อบัณฑิตของนายจ้าง ผู้ประกอบการ และผู้ที่บัณฑิตทำงานเกี่ยวข้อง โดยพิจารณาคุณสมบัติที่ครอบคลุมคุณสมบัติหลัก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3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ด้านของบัณฑิตที่สอดคล้องกับพระราชบัญญัติการศึกษาแห่งชาติ พ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2542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ได้แก่ ด้านความรู้ความสามารถทางวิชาการตามลักษณะงานในสาขานั้นๆ ความรู้ความสามารถพื้นฐานที่ส่งผลต่อการทำงาน และคุณธรรม จริยธรรม จรรยาบรรณในวิชาชีพ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ความพึงพอใจต่อบทบาทสถาบันอุดมศึกษา หมายถึง  ความพึงพอใจของผู้รับบริการต่อบทบาทของสถาบันอุดมศึกษาที่มีต่อสังคมใน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3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ด้าน  ได้แก่ บทบาทด้านการเป็นผู้เตือนสติให้กับสังคม บทบาทด้านการชี้นำสังคม และบทบาทด้านการตอบสนองต่อความต้องการของสังค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AutoShape 9"/>
          <p:cNvSpPr/>
          <p:nvPr/>
        </p:nvSpPr>
        <p:spPr>
          <a:xfrm rot="12999600">
            <a:off x="6147720" y="2180880"/>
            <a:ext cx="546120" cy="355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WordArt 10"/>
          <p:cNvSpPr txBox="1"/>
          <p:nvPr/>
        </p:nvSpPr>
        <p:spPr>
          <a:xfrm>
            <a:off x="6973920" y="2092320"/>
            <a:ext cx="1724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5514840" y="47628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82760" y="157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7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ประกันคุณภาพที่ก่อให้เกิดการพัฒนาคุณภาพการศึกษาอย่างต่อเนื่อง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0)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โดยพิจารณาจากระดับคุณภาพของสถาบันจากผลการประเมินตนเองและผลการประเมินคุณภาพภายนอก การปฏิบัติตามข้อเสนอแนะจาก ผลประเมินทั้งภายในและภายนอก รวมทั้งประสิทธิผลของแผนพัฒนาคุณภาพสืบเนื่องจากการประเมินภายในและภายนอ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D519-0E72-4E2B-97AA-D57F4B619E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052880" y="2706840"/>
            <a:ext cx="48862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7 + 8 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396" name="AutoShape 7"/>
          <p:cNvSpPr/>
          <p:nvPr/>
        </p:nvSpPr>
        <p:spPr>
          <a:xfrm rot="12600000">
            <a:off x="3100320" y="2698920"/>
            <a:ext cx="812880" cy="406080"/>
          </a:xfrm>
          <a:prstGeom prst="pi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57240" y="76320"/>
            <a:ext cx="43243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คุณภาพ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WordArt 15"/>
          <p:cNvSpPr txBox="1"/>
          <p:nvPr/>
        </p:nvSpPr>
        <p:spPr>
          <a:xfrm>
            <a:off x="5514840" y="47628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8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ดำเนินงานตามมาตรการประหยัดพลังงานของสถาบันอุดมศึกษ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)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9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้อยละของอัตราการเบิกจ่ายเงินงบประมาณรายจ่ายลงทุ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ายจ่ายในภาพรวม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1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จัดทำต้นทุนต่อหน่วยผลผลิ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9C8C-F670-4A94-A838-72A2B142CA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626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ด้านประสิทธิภาพการปฏิบัติราชการ </a:t>
            </a:r>
            <a:br>
              <a:rPr sz="40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0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ลูกศรขวาท้ายขีด 5"/>
          <p:cNvSpPr/>
          <p:nvPr/>
        </p:nvSpPr>
        <p:spPr>
          <a:xfrm rot="8100000">
            <a:off x="1015920" y="1466640"/>
            <a:ext cx="355680" cy="266400"/>
          </a:xfrm>
          <a:prstGeom prst="pi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WordArt 8"/>
          <p:cNvSpPr txBox="1"/>
          <p:nvPr/>
        </p:nvSpPr>
        <p:spPr>
          <a:xfrm>
            <a:off x="1674720" y="1170000"/>
            <a:ext cx="25434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4910040" y="2476440"/>
            <a:ext cx="4100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สำนักงานนโยบายและแผนพลังงาน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405" name="WordArt 12"/>
          <p:cNvSpPr txBox="1"/>
          <p:nvPr/>
        </p:nvSpPr>
        <p:spPr>
          <a:xfrm>
            <a:off x="5486400" y="5886360"/>
            <a:ext cx="30481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กรมบัญชีกลาง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406" name="AutoShape 13"/>
          <p:cNvSpPr/>
          <p:nvPr/>
        </p:nvSpPr>
        <p:spPr>
          <a:xfrm rot="12801000">
            <a:off x="7029000" y="5391000"/>
            <a:ext cx="666720" cy="457200"/>
          </a:xfrm>
          <a:prstGeom prst="pie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WordArt 15"/>
          <p:cNvSpPr txBox="1"/>
          <p:nvPr/>
        </p:nvSpPr>
        <p:spPr>
          <a:xfrm>
            <a:off x="6505560" y="47628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465120" y="1573200"/>
            <a:ext cx="8286840" cy="21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9. 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ร้อยละของอัตราการเบิกจ่ายเงินงบประมาณรายจ่ายลงทุน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Garamond"/>
              </a:rPr>
              <a:t>รายจ่ายในภาพรวม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9" name="Picture 10" descr="button"/>
          <p:cNvPicPr/>
          <p:nvPr/>
        </p:nvPicPr>
        <p:blipFill>
          <a:blip r:embed="rId2"/>
          <a:stretch/>
        </p:blipFill>
        <p:spPr>
          <a:xfrm>
            <a:off x="4335480" y="3287880"/>
            <a:ext cx="619200" cy="43488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11"/>
          <p:cNvSpPr/>
          <p:nvPr/>
        </p:nvSpPr>
        <p:spPr>
          <a:xfrm>
            <a:off x="230040" y="4681440"/>
            <a:ext cx="3603600" cy="121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eeffe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281160" y="2859120"/>
            <a:ext cx="360360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ff"/>
              </a:gs>
              <a:gs pos="100000">
                <a:srgbClr val="f4f4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585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388800" y="2857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กรณีที่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rowallia New"/>
                <a:ea typeface="Browallia New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บันอุดมศึกษาที่มีงบประมาณรายจ่ายลงทุ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87280" y="46814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กรณีที่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rowallia New"/>
                <a:ea typeface="Browallia New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บันอุดมศึกษาที่ไม่มีงบประมาณรายจ่ายลงทุ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4" name="Picture 15" descr="button"/>
          <p:cNvPicPr/>
          <p:nvPr/>
        </p:nvPicPr>
        <p:blipFill>
          <a:blip r:embed="rId3"/>
          <a:stretch/>
        </p:blipFill>
        <p:spPr>
          <a:xfrm>
            <a:off x="4307040" y="5048280"/>
            <a:ext cx="618840" cy="4348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6"/>
          <p:cNvSpPr/>
          <p:nvPr/>
        </p:nvSpPr>
        <p:spPr>
          <a:xfrm>
            <a:off x="5402160" y="291132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พิจารณาผลสำเร็จของการเบิกจ่ายงบประมาณรายจ่ายลงทุน ของสถาบันอุดมศึกษ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5416560" y="463536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พิจารณาผลสำเร็จของการเบิกจ่ายงบประมาณในภาพรวม ของสถาบันอุดมศึกษ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WordArt 15"/>
          <p:cNvSpPr txBox="1"/>
          <p:nvPr/>
        </p:nvSpPr>
        <p:spPr>
          <a:xfrm>
            <a:off x="6189840" y="779400"/>
            <a:ext cx="2543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418" name="AutoShape 16"/>
          <p:cNvSpPr/>
          <p:nvPr/>
        </p:nvSpPr>
        <p:spPr>
          <a:xfrm rot="9096600">
            <a:off x="5486040" y="1190520"/>
            <a:ext cx="639720" cy="3477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0" y="0"/>
            <a:ext cx="63626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ด้านประสิทธิภาพการปฏิบัติราชการ </a:t>
            </a:r>
            <a:br>
              <a:rPr sz="40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0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WordArt 15"/>
          <p:cNvSpPr txBox="1"/>
          <p:nvPr/>
        </p:nvSpPr>
        <p:spPr>
          <a:xfrm>
            <a:off x="6505560" y="13320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52280" y="2509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AutoShape 3"/>
          <p:cNvSpPr/>
          <p:nvPr/>
        </p:nvSpPr>
        <p:spPr>
          <a:xfrm>
            <a:off x="120600" y="762120"/>
            <a:ext cx="3765600" cy="1120680"/>
          </a:xfrm>
          <a:prstGeom prst="roundRect">
            <a:avLst>
              <a:gd name="adj" fmla="val 6565"/>
            </a:avLst>
          </a:prstGeom>
          <a:noFill/>
          <a:ln w="0">
            <a:noFill/>
          </a:ln>
          <a:effectLst>
            <a:outerShdw dist="17819" dir="2700000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266760" y="841320"/>
            <a:ext cx="3454200" cy="898560"/>
          </a:xfrm>
          <a:prstGeom prst="roundRect">
            <a:avLst>
              <a:gd name="adj" fmla="val 8153"/>
            </a:avLst>
          </a:prstGeom>
          <a:gradFill rotWithShape="0">
            <a:gsLst>
              <a:gs pos="0">
                <a:srgbClr val="ddddff"/>
              </a:gs>
              <a:gs pos="100000">
                <a:srgbClr val="f4f4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585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54160" y="8301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กรณีที่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rowallia New"/>
                <a:ea typeface="Browallia New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บันอุดมศึกษาที่มีงบประมาณรายจ่ายลงทุ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614000" y="1892160"/>
            <a:ext cx="825480" cy="36828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x  1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Line 7"/>
          <p:cNvSpPr/>
          <p:nvPr/>
        </p:nvSpPr>
        <p:spPr>
          <a:xfrm>
            <a:off x="5594400" y="20955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4038480" y="1206360"/>
            <a:ext cx="4953240" cy="64260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i="1" lang="hi-IN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งินงบประมาณรายจ่ายลงทุนที่ส่วนราชการเบิกจ่าย</a:t>
            </a:r>
            <a:r>
              <a:rPr b="1" i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4633920" y="2611440"/>
            <a:ext cx="3951360" cy="368280"/>
          </a:xfrm>
          <a:prstGeom prst="rect">
            <a:avLst/>
          </a:pr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i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วงเงินงบประมาณรายจ่ายลงทุนที่ได้รับ</a:t>
            </a:r>
            <a:r>
              <a:rPr b="1" i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9" name="Picture 10" descr="gb_sparkle_033103"/>
          <p:cNvPicPr/>
          <p:nvPr/>
        </p:nvPicPr>
        <p:blipFill>
          <a:blip r:embed="rId2"/>
          <a:stretch/>
        </p:blipFill>
        <p:spPr>
          <a:xfrm>
            <a:off x="5594400" y="2151000"/>
            <a:ext cx="762120" cy="379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gb_sparkle_033103"/>
          <p:cNvPicPr/>
          <p:nvPr/>
        </p:nvPicPr>
        <p:blipFill>
          <a:blip r:embed="rId3"/>
          <a:stretch/>
        </p:blipFill>
        <p:spPr>
          <a:xfrm>
            <a:off x="6203880" y="2151000"/>
            <a:ext cx="762120" cy="379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gb_sparkle_033103"/>
          <p:cNvPicPr/>
          <p:nvPr/>
        </p:nvPicPr>
        <p:blipFill>
          <a:blip r:embed="rId4"/>
          <a:stretch/>
        </p:blipFill>
        <p:spPr>
          <a:xfrm>
            <a:off x="6813720" y="2151000"/>
            <a:ext cx="761760" cy="379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gb_sparkle_033103"/>
          <p:cNvPicPr/>
          <p:nvPr/>
        </p:nvPicPr>
        <p:blipFill>
          <a:blip r:embed="rId5"/>
          <a:stretch/>
        </p:blipFill>
        <p:spPr>
          <a:xfrm>
            <a:off x="5854680" y="1635120"/>
            <a:ext cx="762120" cy="379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4" descr="gb_sparkle_033103"/>
          <p:cNvPicPr/>
          <p:nvPr/>
        </p:nvPicPr>
        <p:blipFill>
          <a:blip r:embed="rId6"/>
          <a:stretch/>
        </p:blipFill>
        <p:spPr>
          <a:xfrm>
            <a:off x="6464160" y="163512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5"/>
          <p:cNvSpPr/>
          <p:nvPr/>
        </p:nvSpPr>
        <p:spPr>
          <a:xfrm>
            <a:off x="4343400" y="322200"/>
            <a:ext cx="479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สูตรการคำนวณ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้อยละของอัตราการเบิกจ่ายเงินงบประมาณรายจ่ายลงทุ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5" name="Picture 16" descr="button"/>
          <p:cNvPicPr/>
          <p:nvPr/>
        </p:nvPicPr>
        <p:blipFill>
          <a:blip r:embed="rId7"/>
          <a:stretch/>
        </p:blipFill>
        <p:spPr>
          <a:xfrm>
            <a:off x="4289400" y="2166840"/>
            <a:ext cx="61920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"/>
          <p:cNvGraphicFramePr/>
          <p:nvPr/>
        </p:nvGraphicFramePr>
        <p:xfrm>
          <a:off x="380880" y="1828800"/>
          <a:ext cx="3581640" cy="103680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เกณฑ์การให้คะแนน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-2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-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+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+2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7" name="AutoShape 39"/>
          <p:cNvSpPr/>
          <p:nvPr/>
        </p:nvSpPr>
        <p:spPr>
          <a:xfrm>
            <a:off x="304920" y="2938320"/>
            <a:ext cx="8672400" cy="3429000"/>
          </a:xfrm>
          <a:prstGeom prst="roundRect">
            <a:avLst>
              <a:gd name="adj" fmla="val 3148"/>
            </a:avLst>
          </a:prstGeom>
          <a:gradFill rotWithShape="0">
            <a:gsLst>
              <a:gs pos="0">
                <a:srgbClr val="9999ff">
                  <a:alpha val="12156"/>
                </a:srgbClr>
              </a:gs>
              <a:gs pos="100000">
                <a:srgbClr val="d8d8ff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40"/>
          <p:cNvSpPr/>
          <p:nvPr/>
        </p:nvSpPr>
        <p:spPr>
          <a:xfrm>
            <a:off x="339840" y="3174840"/>
            <a:ext cx="8502480" cy="4757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ngsana New"/>
              </a:rPr>
              <a:t>หมายเหตุ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กำหนดค่า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X 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เท่ากับ ระดับคะแนน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3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โดยที่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X 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หมายถึง ค่าเป้าหมายร้อยละของอัตราการเบิกจ่ายเงินงบประมาณรายจ่ายลงทุนตามที่คณะรัฐมนตรีกำหนด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กำหนดค่า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Y 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เท่ากับ ช่วงปรับเกณฑ์การให้คะแนน โดยสำนักงาน ก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จะประสานหน่วยงานที่เกี่ยวข้องเพื่อหารือความเหมาะสมของช่วงปรับเกณฑ์การให้คะแนน และจะแจ้งให้ส่วนราชการทราบต่อไ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การคำนวณวงเงินงบประมาณรายจ่ายลงทุนจะไม่รวมงบประมาณที่ส่วนราชการประหยัดได้และไม่ได้นำเงินดังกล่าวไปใช้จ่ายในภารกิจหรือโครงการอื่น ๆ ต่อ ทั้งนี้ ขอให้ส่วนราชการรายงานวงเงินงบประมาณที่ประหยัดได้ดังกล่าว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งบประมาณเหลือจ่าย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เพื่อใช้ประกอบการประเมินผล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ในกรณีส่วนราชการนำเงินงบประมาณที่ประหยัดได้จากโครงการเดิมไปใช้ในโครงการอื่น ๆ การเบิกจ่ายเงินงบประมาณของโครงการใหม่จะนำมาใช้คำนวณอัตราการเบิกจ่ายด้วย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สามารถตรวจสอบการเบิกจ่ายเงินงบประมาณรายจ่ายลงทุนที่ได้รับผ่านทางเว็บไซต์ของกรมบัญชีกลาง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www.cgd.go.t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แหล่งข้อมูลอ้างอิง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ใช้ข้อมูลในการติดตามประเมินผลจากกรมบัญชีกลาง กระทรวงการคลัง</a:t>
            </a:r>
            <a:r>
              <a:rPr b="1" lang="th-TH" sz="1800" spc="-1" strike="noStrike">
                <a:solidFill>
                  <a:srgbClr val="ffffff"/>
                </a:solidFill>
                <a:latin typeface="Angsana New"/>
              </a:rPr>
              <a:t> จากระบบ </a:t>
            </a: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GFM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WordArt 15"/>
          <p:cNvSpPr txBox="1"/>
          <p:nvPr/>
        </p:nvSpPr>
        <p:spPr>
          <a:xfrm>
            <a:off x="6505560" y="133200"/>
            <a:ext cx="18572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228600" y="3189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AutoShape 3"/>
          <p:cNvSpPr/>
          <p:nvPr/>
        </p:nvSpPr>
        <p:spPr>
          <a:xfrm>
            <a:off x="266760" y="1117440"/>
            <a:ext cx="3657600" cy="1087560"/>
          </a:xfrm>
          <a:prstGeom prst="roundRect">
            <a:avLst>
              <a:gd name="adj" fmla="val 8153"/>
            </a:avLst>
          </a:prstGeom>
          <a:gradFill rotWithShape="0">
            <a:gsLst>
              <a:gs pos="0">
                <a:srgbClr val="ccffcc"/>
              </a:gs>
              <a:gs pos="100000">
                <a:srgbClr val="eeffe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325440" y="11066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กรณีที่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สถาบันอุดมศึกษาที่</a:t>
            </a:r>
            <a:r>
              <a:rPr b="1" lang="th-TH" sz="2400" spc="-1" strike="noStrike" u="sng">
                <a:solidFill>
                  <a:srgbClr val="990000"/>
                </a:solidFill>
                <a:uFillTx/>
                <a:latin typeface="Angsana New"/>
              </a:rPr>
              <a:t>ไม่มี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งบประมาณรายจ่ายลงทุ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39680" y="3962520"/>
            <a:ext cx="8913960" cy="2438280"/>
          </a:xfrm>
          <a:prstGeom prst="roundRect">
            <a:avLst>
              <a:gd name="adj" fmla="val 3148"/>
            </a:avLst>
          </a:prstGeom>
          <a:gradFill rotWithShape="0">
            <a:gsLst>
              <a:gs pos="0">
                <a:srgbClr val="9999ff">
                  <a:alpha val="12156"/>
                </a:srgbClr>
              </a:gs>
              <a:gs pos="100000">
                <a:srgbClr val="d8d8ff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380880" y="2595600"/>
          <a:ext cx="3657600" cy="1096920"/>
        </p:xfrm>
        <a:graphic>
          <a:graphicData uri="http://schemas.openxmlformats.org/drawingml/2006/table">
            <a:tbl>
              <a:tblPr/>
              <a:tblGrid>
                <a:gridCol w="731880"/>
                <a:gridCol w="730440"/>
                <a:gridCol w="733320"/>
                <a:gridCol w="730080"/>
                <a:gridCol w="7318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เกณฑ์การให้คะแน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-2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-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+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+2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Text Box 28"/>
          <p:cNvSpPr/>
          <p:nvPr/>
        </p:nvSpPr>
        <p:spPr>
          <a:xfrm>
            <a:off x="7694640" y="27576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x  1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Line 29"/>
          <p:cNvSpPr/>
          <p:nvPr/>
        </p:nvSpPr>
        <p:spPr>
          <a:xfrm>
            <a:off x="5630760" y="2930400"/>
            <a:ext cx="209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3809880" y="198108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(</a:t>
            </a:r>
            <a:r>
              <a:rPr b="1" i="1" lang="hi-IN" sz="2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งินงบประมาณรายจ่ายในภาพรวมที่สถาบันอุดมศึกษาเบิกจ่าย</a:t>
            </a:r>
            <a:r>
              <a:rPr b="1" i="1" lang="en-US" sz="2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63280" y="3443400"/>
            <a:ext cx="44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(</a:t>
            </a:r>
            <a:r>
              <a:rPr b="1" i="1" lang="th-TH" sz="1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วงเงินงบประมาณรายจ่ายในภาพรวมที่ได้รับ</a:t>
            </a:r>
            <a:r>
              <a:rPr b="1" i="1" lang="en-US" sz="1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9" name="Picture 32" descr="gb_sparkle_033103"/>
          <p:cNvPicPr/>
          <p:nvPr/>
        </p:nvPicPr>
        <p:blipFill>
          <a:blip r:embed="rId2"/>
          <a:stretch/>
        </p:blipFill>
        <p:spPr>
          <a:xfrm>
            <a:off x="5630760" y="2978280"/>
            <a:ext cx="776520" cy="323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3" descr="gb_sparkle_033103"/>
          <p:cNvPicPr/>
          <p:nvPr/>
        </p:nvPicPr>
        <p:blipFill>
          <a:blip r:embed="rId3"/>
          <a:stretch/>
        </p:blipFill>
        <p:spPr>
          <a:xfrm>
            <a:off x="6251400" y="2978280"/>
            <a:ext cx="777960" cy="323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4" descr="gb_sparkle_033103"/>
          <p:cNvPicPr/>
          <p:nvPr/>
        </p:nvPicPr>
        <p:blipFill>
          <a:blip r:embed="rId4"/>
          <a:stretch/>
        </p:blipFill>
        <p:spPr>
          <a:xfrm>
            <a:off x="6873840" y="2978280"/>
            <a:ext cx="776160" cy="323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5" descr="gb_sparkle_033103"/>
          <p:cNvPicPr/>
          <p:nvPr/>
        </p:nvPicPr>
        <p:blipFill>
          <a:blip r:embed="rId5"/>
          <a:stretch/>
        </p:blipFill>
        <p:spPr>
          <a:xfrm>
            <a:off x="5896080" y="2538360"/>
            <a:ext cx="776160" cy="322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6" descr="gb_sparkle_033103"/>
          <p:cNvPicPr/>
          <p:nvPr/>
        </p:nvPicPr>
        <p:blipFill>
          <a:blip r:embed="rId6"/>
          <a:stretch/>
        </p:blipFill>
        <p:spPr>
          <a:xfrm>
            <a:off x="6516720" y="2538360"/>
            <a:ext cx="777960" cy="3222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37"/>
          <p:cNvSpPr/>
          <p:nvPr/>
        </p:nvSpPr>
        <p:spPr>
          <a:xfrm>
            <a:off x="4054320" y="1501920"/>
            <a:ext cx="184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สูตรการคำนวณ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55" name="Picture 38" descr="button"/>
          <p:cNvPicPr/>
          <p:nvPr/>
        </p:nvPicPr>
        <p:blipFill>
          <a:blip r:embed="rId7"/>
          <a:stretch/>
        </p:blipFill>
        <p:spPr>
          <a:xfrm>
            <a:off x="4267080" y="2666880"/>
            <a:ext cx="619200" cy="5716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39"/>
          <p:cNvSpPr/>
          <p:nvPr/>
        </p:nvSpPr>
        <p:spPr>
          <a:xfrm>
            <a:off x="63360" y="4022640"/>
            <a:ext cx="9055080" cy="3713400"/>
          </a:xfrm>
          <a:prstGeom prst="rect">
            <a:avLst/>
          </a:prstGeom>
          <a:solidFill>
            <a:srgbClr val="0066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ngsana New"/>
              </a:rPr>
              <a:t>คำอธิบาย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5360" indent="-225360" algn="ctr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การพิจารณาผลสำเร็จของการเบิกจ่ายเงินงบประมาณ จะใช้อัตราการเบิกจ่ายเงินงบประมาณรายจ่ายในภาพรวมของสถาบันอุดมศึกษาเป็นตัวชี้วัดความสามารถในการเบิกจ่ายเงินของสถาบันฯ ทั้งนี้ไม่รวมงบประมาณที่ได้รับการจัดสรรเพิ่มเติมระหว่างปีงบประมาณ โดยจะใช้ข้อมูลการเบิกจ่ายเงินงบประมาณจากระบบการบริหารการเงินการคลังภาครัฐแบบอิเล็กทรอนิกส์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GFMIS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5360" indent="-225360" algn="ctr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หากมีการโอนเปลี่ยนแปลงงบประมาณระหว่างปี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รายจ่ายประจำไปรายจ่ายลงทุน หรือรายจ่ายลงทุนไปรายจ่ายประจำ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จะนำยอดงบประมาณหลังโอนเปลี่ยนแปลงแล้วมาเป็นฐานในการคำนว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5360" indent="-225360" algn="ctr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WordArt 15"/>
          <p:cNvSpPr txBox="1"/>
          <p:nvPr/>
        </p:nvSpPr>
        <p:spPr>
          <a:xfrm>
            <a:off x="6505560" y="13320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5"/>
          <p:cNvSpPr/>
          <p:nvPr/>
        </p:nvSpPr>
        <p:spPr>
          <a:xfrm>
            <a:off x="139680" y="3025800"/>
            <a:ext cx="8913960" cy="2971800"/>
          </a:xfrm>
          <a:prstGeom prst="roundRect">
            <a:avLst>
              <a:gd name="adj" fmla="val 3148"/>
            </a:avLst>
          </a:prstGeom>
          <a:gradFill rotWithShape="0">
            <a:gsLst>
              <a:gs pos="0">
                <a:srgbClr val="9999ff">
                  <a:alpha val="12156"/>
                </a:srgbClr>
              </a:gs>
              <a:gs pos="100000">
                <a:srgbClr val="d8d8ff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514600" y="1854360"/>
          <a:ext cx="4267080" cy="1096920"/>
        </p:xfrm>
        <a:graphic>
          <a:graphicData uri="http://schemas.openxmlformats.org/drawingml/2006/table">
            <a:tbl>
              <a:tblPr/>
              <a:tblGrid>
                <a:gridCol w="853920"/>
                <a:gridCol w="852480"/>
                <a:gridCol w="854280"/>
                <a:gridCol w="852480"/>
                <a:gridCol w="85392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เกณฑ์การให้คะแน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4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-2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-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+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X+2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0" name="Rectangle 28"/>
          <p:cNvSpPr/>
          <p:nvPr/>
        </p:nvSpPr>
        <p:spPr>
          <a:xfrm>
            <a:off x="255600" y="3282840"/>
            <a:ext cx="8588520" cy="4362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ngsana New"/>
              </a:rPr>
              <a:t>หมายเหตุ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กำหนดค่า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X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เท่ากับ ระดับคะแนน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3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โดยที่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X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หมายถึง ค่าเป้าหมายร้อยละของอัตราการเบิกจ่ายเงินงบประมาณรายจ่ายในภาพรว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กำหนดค่า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Y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เท่ากับ ช่วงปรับเกณฑ์การให้คะแนน โดยสำนักงาน ก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จะประสานหน่วยงานที่เกี่ยวข้องเพื่อหารือความเหมาะสมของช่วงปรับเกณฑ์การให้คะแนน และจะแจ้งให้สถาบันอุดมศึกษาทราบต่อไ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การคำนวณวงเงินงบประมาณรายจ่ายในภาพรวมจะไม่รวมงบประมาณที่สถาบันอุดมศึกษาประหยัดได้และไม่ได้นำเงินดังกล่าวไปใช้จ่ายในภารกิจหรือโครงการอื่น ๆ ต่อ ทั้งนี้ ขอให้สถาบันอุดมศึกษาการรายงานวงเงินงบประมาณที่ประหยัดได้ดังกล่าว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งบประมาณเหลือจ่าย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เพื่อใช้ประกอบการประเมินผล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สามารถตรวจสอบการเบิกจ่ายเงินงบประมาณรายจ่ายลงทุนที่ได้รับผ่านทางเว็บไซต์ของกรมบัญชีกลาง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www.cgd.go.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แหล่งข้อมูลอ้างอิง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ใช้ข้อมูลในการติดตามประเมินผลจากกรมบัญชีกลาง กระทรวงการคลัง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 จากระบบ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GFM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228600" y="203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AutoShape 3"/>
          <p:cNvSpPr/>
          <p:nvPr/>
        </p:nvSpPr>
        <p:spPr>
          <a:xfrm>
            <a:off x="266760" y="689040"/>
            <a:ext cx="3657600" cy="1087200"/>
          </a:xfrm>
          <a:prstGeom prst="roundRect">
            <a:avLst>
              <a:gd name="adj" fmla="val 8153"/>
            </a:avLst>
          </a:prstGeom>
          <a:gradFill rotWithShape="0">
            <a:gsLst>
              <a:gs pos="0">
                <a:srgbClr val="ccffcc"/>
              </a:gs>
              <a:gs pos="100000">
                <a:srgbClr val="eeffe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325440" y="677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กรณีที่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สถาบันอุดมศึกษาที่</a:t>
            </a:r>
            <a:r>
              <a:rPr b="1" lang="th-TH" sz="2400" spc="-1" strike="noStrike" u="sng">
                <a:solidFill>
                  <a:srgbClr val="990000"/>
                </a:solidFill>
                <a:uFillTx/>
                <a:latin typeface="Angsana New"/>
              </a:rPr>
              <a:t>ไม่มี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งบประมาณรายจ่ายลงทุ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WordArt 15"/>
          <p:cNvSpPr txBox="1"/>
          <p:nvPr/>
        </p:nvSpPr>
        <p:spPr>
          <a:xfrm>
            <a:off x="6505560" y="13320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152280" y="63360"/>
            <a:ext cx="61722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ด้านประสิทธิภาพการปฏิบัติราชการ </a:t>
            </a:r>
            <a:br>
              <a:rPr sz="40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0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WordArt 5"/>
          <p:cNvSpPr txBox="1"/>
          <p:nvPr/>
        </p:nvSpPr>
        <p:spPr>
          <a:xfrm>
            <a:off x="6284880" y="855720"/>
            <a:ext cx="2543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468" name="AutoShape 6"/>
          <p:cNvSpPr/>
          <p:nvPr/>
        </p:nvSpPr>
        <p:spPr>
          <a:xfrm rot="9096600">
            <a:off x="5486040" y="1190520"/>
            <a:ext cx="639720" cy="3477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69" name="Group 12"/>
          <p:cNvGrpSpPr/>
          <p:nvPr/>
        </p:nvGrpSpPr>
        <p:grpSpPr>
          <a:xfrm>
            <a:off x="1511280" y="3040200"/>
            <a:ext cx="6240600" cy="2685960"/>
            <a:chOff x="1511280" y="3040200"/>
            <a:chExt cx="6240600" cy="2685960"/>
          </a:xfrm>
        </p:grpSpPr>
        <p:pic>
          <p:nvPicPr>
            <p:cNvPr id="470" name="Picture 13" descr="goldman"/>
            <p:cNvPicPr/>
            <p:nvPr/>
          </p:nvPicPr>
          <p:blipFill>
            <a:blip r:embed="rId4"/>
            <a:stretch/>
          </p:blipFill>
          <p:spPr>
            <a:xfrm>
              <a:off x="5087880" y="3451320"/>
              <a:ext cx="22248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4" descr="goldman"/>
            <p:cNvPicPr/>
            <p:nvPr/>
          </p:nvPicPr>
          <p:blipFill>
            <a:blip r:embed="rId5"/>
            <a:stretch/>
          </p:blipFill>
          <p:spPr>
            <a:xfrm>
              <a:off x="5376960" y="3451320"/>
              <a:ext cx="22212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15" descr="goldman"/>
            <p:cNvPicPr/>
            <p:nvPr/>
          </p:nvPicPr>
          <p:blipFill>
            <a:blip r:embed="rId6"/>
            <a:stretch/>
          </p:blipFill>
          <p:spPr>
            <a:xfrm>
              <a:off x="5697720" y="3452760"/>
              <a:ext cx="222120" cy="5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6" descr="goldman"/>
            <p:cNvPicPr/>
            <p:nvPr/>
          </p:nvPicPr>
          <p:blipFill>
            <a:blip r:embed="rId7"/>
            <a:stretch/>
          </p:blipFill>
          <p:spPr>
            <a:xfrm>
              <a:off x="2449440" y="4214880"/>
              <a:ext cx="22248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7" descr="goldman"/>
            <p:cNvPicPr/>
            <p:nvPr/>
          </p:nvPicPr>
          <p:blipFill>
            <a:blip r:embed="rId8"/>
            <a:stretch/>
          </p:blipFill>
          <p:spPr>
            <a:xfrm>
              <a:off x="2770200" y="4214880"/>
              <a:ext cx="22248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8" descr="goldman"/>
            <p:cNvPicPr/>
            <p:nvPr/>
          </p:nvPicPr>
          <p:blipFill>
            <a:blip r:embed="rId9"/>
            <a:stretch/>
          </p:blipFill>
          <p:spPr>
            <a:xfrm>
              <a:off x="3075120" y="4214880"/>
              <a:ext cx="22212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9" descr="goldman"/>
            <p:cNvPicPr/>
            <p:nvPr/>
          </p:nvPicPr>
          <p:blipFill>
            <a:blip r:embed="rId10"/>
            <a:stretch/>
          </p:blipFill>
          <p:spPr>
            <a:xfrm>
              <a:off x="3363840" y="4214880"/>
              <a:ext cx="22248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0" descr="goldman"/>
            <p:cNvPicPr/>
            <p:nvPr/>
          </p:nvPicPr>
          <p:blipFill>
            <a:blip r:embed="rId11"/>
            <a:stretch/>
          </p:blipFill>
          <p:spPr>
            <a:xfrm>
              <a:off x="3684600" y="4214880"/>
              <a:ext cx="22248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1" descr="customer_service_desk_sleeping_md_wht"/>
            <p:cNvPicPr/>
            <p:nvPr/>
          </p:nvPicPr>
          <p:blipFill>
            <a:blip r:embed="rId12"/>
            <a:stretch/>
          </p:blipFill>
          <p:spPr>
            <a:xfrm>
              <a:off x="4125960" y="3591000"/>
              <a:ext cx="468360" cy="3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Line 22"/>
            <p:cNvSpPr/>
            <p:nvPr/>
          </p:nvSpPr>
          <p:spPr>
            <a:xfrm>
              <a:off x="2405160" y="4106880"/>
              <a:ext cx="403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0" name="Text Box 23"/>
            <p:cNvSpPr/>
            <p:nvPr/>
          </p:nvSpPr>
          <p:spPr>
            <a:xfrm>
              <a:off x="6457680" y="3833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X 100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1" name="AutoShape 24"/>
            <p:cNvSpPr/>
            <p:nvPr/>
          </p:nvSpPr>
          <p:spPr>
            <a:xfrm>
              <a:off x="4583160" y="3533760"/>
              <a:ext cx="293760" cy="452160"/>
            </a:xfrm>
            <a:prstGeom prst="parallelogram">
              <a:avLst>
                <a:gd name="adj" fmla="val 62083"/>
              </a:avLst>
            </a:prstGeom>
            <a:noFill/>
            <a:ln w="3240">
              <a:solidFill>
                <a:srgbClr val="3e0000"/>
              </a:solidFill>
              <a:miter/>
            </a:ln>
            <a:effectLst>
              <a:outerShdw dist="17819" dir="2700000" blurRad="0" rotWithShape="0">
                <a:srgbClr val="2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482" name="Picture 25" descr="goldman"/>
            <p:cNvPicPr/>
            <p:nvPr/>
          </p:nvPicPr>
          <p:blipFill>
            <a:blip r:embed="rId13"/>
            <a:stretch/>
          </p:blipFill>
          <p:spPr>
            <a:xfrm>
              <a:off x="3319560" y="3556080"/>
              <a:ext cx="22212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26" descr="goldman"/>
            <p:cNvPicPr/>
            <p:nvPr/>
          </p:nvPicPr>
          <p:blipFill>
            <a:blip r:embed="rId14"/>
            <a:stretch/>
          </p:blipFill>
          <p:spPr>
            <a:xfrm>
              <a:off x="3640320" y="3556080"/>
              <a:ext cx="22212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27" descr="customer_service_desk_sleeping_md_wht"/>
            <p:cNvPicPr/>
            <p:nvPr/>
          </p:nvPicPr>
          <p:blipFill>
            <a:blip r:embed="rId15"/>
            <a:stretch/>
          </p:blipFill>
          <p:spPr>
            <a:xfrm>
              <a:off x="4157640" y="4351320"/>
              <a:ext cx="468360" cy="3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AutoShape 28"/>
            <p:cNvSpPr/>
            <p:nvPr/>
          </p:nvSpPr>
          <p:spPr>
            <a:xfrm>
              <a:off x="4614840" y="4294080"/>
              <a:ext cx="293760" cy="452160"/>
            </a:xfrm>
            <a:prstGeom prst="parallelogram">
              <a:avLst>
                <a:gd name="adj" fmla="val 62083"/>
              </a:avLst>
            </a:prstGeom>
            <a:noFill/>
            <a:ln w="3240">
              <a:solidFill>
                <a:srgbClr val="3e0000"/>
              </a:solidFill>
              <a:miter/>
            </a:ln>
            <a:effectLst>
              <a:outerShdw dist="17819" dir="2700000" blurRad="0" rotWithShape="0">
                <a:srgbClr val="2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6" name="Text Box 29"/>
            <p:cNvSpPr/>
            <p:nvPr/>
          </p:nvSpPr>
          <p:spPr>
            <a:xfrm>
              <a:off x="1511280" y="4900680"/>
              <a:ext cx="624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400" spc="-1" strike="noStrike">
                  <a:solidFill>
                    <a:srgbClr val="ffffff"/>
                  </a:solidFill>
                  <a:latin typeface="Browallia New"/>
                  <a:cs typeface="Browallia New"/>
                </a:rPr>
                <a:t>จำนวนผู้รับบริการที่ได้รับบริการ</a:t>
              </a:r>
              <a:r>
                <a:rPr b="1" i="1" lang="hi-IN" sz="2400" spc="-1" strike="noStrike" u="sng">
                  <a:solidFill>
                    <a:srgbClr val="ffffff"/>
                  </a:solidFill>
                  <a:uFillTx/>
                  <a:latin typeface="Browallia New"/>
                  <a:cs typeface="Browallia New"/>
                </a:rPr>
                <a:t>ทั้งหมด</a:t>
              </a:r>
              <a:r>
                <a:rPr b="1" i="1" lang="hi-IN" sz="2400" spc="-1" strike="noStrike">
                  <a:solidFill>
                    <a:srgbClr val="ffffff"/>
                  </a:solidFill>
                  <a:latin typeface="Browallia New"/>
                  <a:cs typeface="Browallia New"/>
                </a:rPr>
                <a:t>ในแต่ละกระบวนงาน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7" name="Text Box 30"/>
            <p:cNvSpPr/>
            <p:nvPr/>
          </p:nvSpPr>
          <p:spPr>
            <a:xfrm>
              <a:off x="1511280" y="3040200"/>
              <a:ext cx="624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400" spc="-1" strike="noStrike">
                  <a:solidFill>
                    <a:srgbClr val="ffffff"/>
                  </a:solidFill>
                  <a:latin typeface="Browallia New"/>
                  <a:cs typeface="Browallia New"/>
                </a:rPr>
                <a:t>จำนวนผู้รับบริการที่ได้รับบริการตามมาตรฐานเวลา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88" name="Text Box 31"/>
          <p:cNvSpPr/>
          <p:nvPr/>
        </p:nvSpPr>
        <p:spPr>
          <a:xfrm>
            <a:off x="527040" y="2523960"/>
            <a:ext cx="44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สูตรการคำนวณระดับคะแนนที่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rowallia New"/>
                <a:ea typeface="Browallia New"/>
              </a:rPr>
              <a:t>1 </a:t>
            </a:r>
            <a:r>
              <a:rPr b="1" lang="hi-IN" sz="28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ถึง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rowallia New"/>
                <a:ea typeface="Browallia New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3240" y="5286240"/>
            <a:ext cx="9055080" cy="2203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คำอธิบาย</a:t>
            </a:r>
            <a:r>
              <a:rPr b="1" lang="en-US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 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พิจารณาจากระดับความสำเร็จของร้อยละเฉลี่ยถ่วงน้ำหนักของผู้รับบริการที่ได้รับบริการตามรอบระยะเวลามาตรฐาน โดยเปรียบเทียบกับผู้รับบริการทั้งหมดในแต่ละกระบวนงาน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	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อบระยะเวลามาตรฐาน หมายถึง ระยะเวลาให้บริการที่สถาบันอุดมศึกษาสามารถดำเนินการลดได้จริง และได้แจ้งระยะเวลาให้บริการดังกล่าวเป็นผลการปฏิบัติราชการ ณ สิ้นปีงบประมาณ พ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ศ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2547 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ีงบประมาณ พ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ศ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2548 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ีงบประมาณ พ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ศ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2549 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ละปีงบประมาณ พ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ศ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2550 </a:t>
            </a:r>
            <a:r>
              <a:rPr b="1" lang="th-TH" sz="2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ล้วแต่กรณ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WordArt 15"/>
          <p:cNvSpPr txBox="1"/>
          <p:nvPr/>
        </p:nvSpPr>
        <p:spPr>
          <a:xfrm>
            <a:off x="6505560" y="13320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7"/>
          <p:cNvSpPr/>
          <p:nvPr/>
        </p:nvSpPr>
        <p:spPr>
          <a:xfrm>
            <a:off x="609480" y="115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355680" y="1771560"/>
            <a:ext cx="8508960" cy="7346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คำอธิบาย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(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ต่อ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ระบวนงานที่นำมาประเมินผลการปฏิบัติราชการ หมายถึงกระบวนงานที่ส่วนราชการได้ดำเนินการลดรอบระยะเวลาได้ตั้งแต่ร้อยละ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3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ขึ้นไป ในช่วงปีงบประมาณ พ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 2547-255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ทั้งนี้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สำนักงาน ก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.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พ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.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ร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.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จะเป็นผู้วิเคราะห์ และคัดเลือกกระบวนงาน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หลักของสถาบันอุดมศึกษาอย่างน้อย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ระบวนงา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หรือน้อยกว่า กรณีบางกรมมีกระบวนงานน้อยกว่า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5)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จากกระบวนงานหลักที่สำคัญและ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หรือสอดคล้องกับงานบริการในตัวชี้วัดร้อยละของระดับความพึงพอใจของผู้รับบริการ ในปีงบประมาณ พ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 2552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และแจ้งให้สถาบันอุดมศึกษาทราบ โดยสถาบันอุดมศึกษาต้องแจ้งยืนยันกลับสำนักงาน ก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เพื่อให้มีความเข้าใจถูกต้องตรงกั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จำนวนผู้รับบริการที่ได้รับบริการทั้งหมดในแต่ละกระบวนงาน หมายถึง</a:t>
            </a:r>
            <a:r>
              <a:rPr b="1" i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ผู้รับบริการทุกรายที่สถาบันอุดมศึกษาจัดเก็บข้อมูลตามวันในปฏิทินที่สำนักงาน ก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ำหนด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380880" y="671400"/>
            <a:ext cx="82296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WordArt 15"/>
          <p:cNvSpPr txBox="1"/>
          <p:nvPr/>
        </p:nvSpPr>
        <p:spPr>
          <a:xfrm>
            <a:off x="6505560" y="13320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Object 8"/>
          <p:cNvGraphicFramePr/>
          <p:nvPr/>
        </p:nvGraphicFramePr>
        <p:xfrm>
          <a:off x="398520" y="1773360"/>
          <a:ext cx="8475480" cy="46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8520" y="1773360"/>
                    <a:ext cx="84754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"/>
          <p:cNvSpPr/>
          <p:nvPr/>
        </p:nvSpPr>
        <p:spPr>
          <a:xfrm>
            <a:off x="0" y="5734080"/>
            <a:ext cx="8964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มายเหตุ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: 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ประเมินผลที่ระดับคะแนน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5 (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O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Browallia New"/>
                <a:ea typeface="Browallia New"/>
              </a:rPr>
              <a:t>i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ะประเมิน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เฉพาะกระบวนงาน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่มีร้อยละของผู้รับบริการที่ได้รับบริการตาม  เวลามาตรฐาน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rowallia New"/>
                <a:ea typeface="Browallia New"/>
              </a:rPr>
              <a:t>i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ป็นร้อยละ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00 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ได้ระดับคะแนน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 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ะแนนเท่านั้น  หากต่ำกว่า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  </a:t>
            </a: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ช้บัญญัติไตรยางศ์ตามจริ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762120" y="115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Rectangle 11"/>
          <p:cNvSpPr/>
          <p:nvPr/>
        </p:nvSpPr>
        <p:spPr>
          <a:xfrm>
            <a:off x="393840" y="588960"/>
            <a:ext cx="8229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WordArt 15"/>
          <p:cNvSpPr txBox="1"/>
          <p:nvPr/>
        </p:nvSpPr>
        <p:spPr>
          <a:xfrm>
            <a:off x="6505560" y="13320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2C35-CC3F-48D0-8A04-9A431DFB93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Garamond"/>
              </a:rPr>
              <a:t>กรอบการประเมินผลการปฏิบัติราชการ</a:t>
            </a:r>
            <a:br>
              <a:rPr sz="4000"/>
            </a:br>
            <a:r>
              <a:rPr b="0" lang="hi-IN" sz="4000" spc="-1" strike="noStrike">
                <a:solidFill>
                  <a:srgbClr val="ffffcc"/>
                </a:solidFill>
                <a:latin typeface="Garamond"/>
              </a:rPr>
              <a:t>ของสถาบันอุดมศึกษ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293040" y="1328760"/>
            <a:ext cx="8008560" cy="5503320"/>
            <a:chOff x="293040" y="1328760"/>
            <a:chExt cx="8008560" cy="5503320"/>
          </a:xfrm>
        </p:grpSpPr>
        <p:sp>
          <p:nvSpPr>
            <p:cNvPr id="126" name="Text Box 4"/>
            <p:cNvSpPr/>
            <p:nvPr/>
          </p:nvSpPr>
          <p:spPr>
            <a:xfrm>
              <a:off x="1549440" y="1420920"/>
              <a:ext cx="576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น้ำหนัก 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(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ร้อยละ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)  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๕๕                         น้ำหนัก 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(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ร้อยละ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)  </a:t>
              </a:r>
              <a:r>
                <a:rPr b="1" lang="th-TH" sz="2800" spc="-1" strike="noStrike">
                  <a:solidFill>
                    <a:srgbClr val="ffffff"/>
                  </a:solidFill>
                  <a:latin typeface="Angsana New"/>
                </a:rPr>
                <a:t>๑๕</a:t>
              </a:r>
              <a:r>
                <a:rPr b="1" lang="en-US" sz="2400" spc="-1" strike="noStrike">
                  <a:solidFill>
                    <a:srgbClr val="663300"/>
                  </a:solidFill>
                  <a:latin typeface="Angsana New"/>
                </a:rPr>
                <a:t> </a:t>
              </a:r>
              <a:r>
                <a:rPr b="1" lang="th-TH" sz="2400" spc="-1" strike="noStrike">
                  <a:solidFill>
                    <a:srgbClr val="663300"/>
                  </a:solidFill>
                  <a:latin typeface="Angsana New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1477800" y="5884920"/>
              <a:ext cx="59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ngsana New"/>
                </a:rPr>
                <a:t>น้ำหนัก </a:t>
              </a:r>
              <a:r>
                <a:rPr b="1" lang="en-US" sz="2800" spc="-1" strike="noStrike">
                  <a:solidFill>
                    <a:srgbClr val="ffffff"/>
                  </a:solidFill>
                  <a:latin typeface="Angsana New"/>
                </a:rPr>
                <a:t>(</a:t>
              </a:r>
              <a:r>
                <a:rPr b="1" lang="hi-IN" sz="2800" spc="-1" strike="noStrike">
                  <a:solidFill>
                    <a:srgbClr val="ffffff"/>
                  </a:solidFill>
                  <a:latin typeface="Angsana New"/>
                </a:rPr>
                <a:t>ร้อยละ</a:t>
              </a:r>
              <a:r>
                <a:rPr b="1" lang="en-US" sz="2800" spc="-1" strike="noStrike">
                  <a:solidFill>
                    <a:srgbClr val="ffffff"/>
                  </a:solidFill>
                  <a:latin typeface="Angsana New"/>
                </a:rPr>
                <a:t>)  </a:t>
              </a:r>
              <a:r>
                <a:rPr b="1" lang="hi-IN" sz="2800" spc="-1" strike="noStrike">
                  <a:solidFill>
                    <a:srgbClr val="ffffff"/>
                  </a:solidFill>
                  <a:latin typeface="Angsana New"/>
                </a:rPr>
                <a:t>๑๐                      น้ำหนัก </a:t>
              </a:r>
              <a:r>
                <a:rPr b="1" lang="en-US" sz="2800" spc="-1" strike="noStrike">
                  <a:solidFill>
                    <a:srgbClr val="ffffff"/>
                  </a:solidFill>
                  <a:latin typeface="Angsana New"/>
                </a:rPr>
                <a:t>(</a:t>
              </a:r>
              <a:r>
                <a:rPr b="1" lang="hi-IN" sz="2800" spc="-1" strike="noStrike">
                  <a:solidFill>
                    <a:srgbClr val="ffffff"/>
                  </a:solidFill>
                  <a:latin typeface="Angsana New"/>
                </a:rPr>
                <a:t>ร้อยละ</a:t>
              </a:r>
              <a:r>
                <a:rPr b="1" lang="en-US" sz="2800" spc="-1" strike="noStrike">
                  <a:solidFill>
                    <a:srgbClr val="ffffff"/>
                  </a:solidFill>
                  <a:latin typeface="Angsana New"/>
                </a:rPr>
                <a:t>)  </a:t>
              </a:r>
              <a:r>
                <a:rPr b="1" lang="hi-IN" sz="2800" spc="-1" strike="noStrike">
                  <a:solidFill>
                    <a:srgbClr val="ffffff"/>
                  </a:solidFill>
                  <a:latin typeface="Angsana New"/>
                </a:rPr>
                <a:t>๒๐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28" name="Group 6"/>
            <p:cNvGrpSpPr/>
            <p:nvPr/>
          </p:nvGrpSpPr>
          <p:grpSpPr>
            <a:xfrm>
              <a:off x="1038240" y="1328760"/>
              <a:ext cx="6734160" cy="4962600"/>
              <a:chOff x="1038240" y="1328760"/>
              <a:chExt cx="6734160" cy="4962600"/>
            </a:xfrm>
          </p:grpSpPr>
          <p:grpSp>
            <p:nvGrpSpPr>
              <p:cNvPr id="129" name="Group 7"/>
              <p:cNvGrpSpPr/>
              <p:nvPr/>
            </p:nvGrpSpPr>
            <p:grpSpPr>
              <a:xfrm>
                <a:off x="1652760" y="1957320"/>
                <a:ext cx="5130720" cy="3807000"/>
                <a:chOff x="1652760" y="1957320"/>
                <a:chExt cx="5130720" cy="3807000"/>
              </a:xfrm>
            </p:grpSpPr>
            <p:pic>
              <p:nvPicPr>
                <p:cNvPr id="130" name="Picture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52760" y="1957320"/>
                  <a:ext cx="5130720" cy="38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Freeform 9"/>
                <p:cNvSpPr/>
                <p:nvPr/>
              </p:nvSpPr>
              <p:spPr>
                <a:xfrm>
                  <a:off x="1652760" y="1959120"/>
                  <a:ext cx="5129280" cy="3805200"/>
                </a:xfrm>
                <a:prstGeom prst="pie">
                  <a:avLst/>
                </a:prstGeom>
                <a:noFill/>
                <a:ln cap="rnd"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2" name="Group 10"/>
              <p:cNvGrpSpPr/>
              <p:nvPr/>
            </p:nvGrpSpPr>
            <p:grpSpPr>
              <a:xfrm>
                <a:off x="4235760" y="1328760"/>
                <a:ext cx="3536640" cy="3035520"/>
                <a:chOff x="4235760" y="1328760"/>
                <a:chExt cx="3536640" cy="3035520"/>
              </a:xfrm>
            </p:grpSpPr>
            <p:pic>
              <p:nvPicPr>
                <p:cNvPr id="133" name="Picture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35760" y="1328760"/>
                  <a:ext cx="3535200" cy="303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Freeform 12"/>
                <p:cNvSpPr/>
                <p:nvPr/>
              </p:nvSpPr>
              <p:spPr>
                <a:xfrm>
                  <a:off x="4237200" y="1330560"/>
                  <a:ext cx="3535200" cy="3033720"/>
                </a:xfrm>
                <a:prstGeom prst="pie">
                  <a:avLst/>
                </a:prstGeom>
                <a:noFill/>
                <a:ln cap="rnd"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5" name="Group 13"/>
              <p:cNvGrpSpPr/>
              <p:nvPr/>
            </p:nvGrpSpPr>
            <p:grpSpPr>
              <a:xfrm>
                <a:off x="4216680" y="3749760"/>
                <a:ext cx="3552840" cy="2541600"/>
                <a:chOff x="4216680" y="3749760"/>
                <a:chExt cx="3552840" cy="2541600"/>
              </a:xfrm>
            </p:grpSpPr>
            <p:pic>
              <p:nvPicPr>
                <p:cNvPr id="136" name="Picture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16680" y="3749760"/>
                  <a:ext cx="3552840" cy="254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Freeform 15"/>
                <p:cNvSpPr/>
                <p:nvPr/>
              </p:nvSpPr>
              <p:spPr>
                <a:xfrm>
                  <a:off x="4218120" y="3751200"/>
                  <a:ext cx="3549600" cy="2540160"/>
                </a:xfrm>
                <a:prstGeom prst="pie">
                  <a:avLst/>
                </a:prstGeom>
                <a:noFill/>
                <a:ln cap="rnd"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8" name="Group 16"/>
              <p:cNvGrpSpPr/>
              <p:nvPr/>
            </p:nvGrpSpPr>
            <p:grpSpPr>
              <a:xfrm>
                <a:off x="1038240" y="3257640"/>
                <a:ext cx="3181680" cy="3033720"/>
                <a:chOff x="1038240" y="3257640"/>
                <a:chExt cx="3181680" cy="3033720"/>
              </a:xfrm>
            </p:grpSpPr>
            <p:pic>
              <p:nvPicPr>
                <p:cNvPr id="139" name="Picture 1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38240" y="3257640"/>
                  <a:ext cx="3181680" cy="303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Freeform 18"/>
                <p:cNvSpPr/>
                <p:nvPr/>
              </p:nvSpPr>
              <p:spPr>
                <a:xfrm>
                  <a:off x="1038240" y="3257640"/>
                  <a:ext cx="3179880" cy="3033720"/>
                </a:xfrm>
                <a:prstGeom prst="pie">
                  <a:avLst/>
                </a:prstGeom>
                <a:noFill/>
                <a:ln cap="rnd"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1" name="Group 19"/>
              <p:cNvGrpSpPr/>
              <p:nvPr/>
            </p:nvGrpSpPr>
            <p:grpSpPr>
              <a:xfrm>
                <a:off x="1044720" y="1328760"/>
                <a:ext cx="3192480" cy="2541600"/>
                <a:chOff x="1044720" y="1328760"/>
                <a:chExt cx="3192480" cy="2541600"/>
              </a:xfrm>
            </p:grpSpPr>
            <p:pic>
              <p:nvPicPr>
                <p:cNvPr id="142" name="Picture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44720" y="1328760"/>
                  <a:ext cx="3192480" cy="254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Freeform 21"/>
                <p:cNvSpPr/>
                <p:nvPr/>
              </p:nvSpPr>
              <p:spPr>
                <a:xfrm>
                  <a:off x="1044720" y="1330560"/>
                  <a:ext cx="3192480" cy="2539800"/>
                </a:xfrm>
                <a:prstGeom prst="pie">
                  <a:avLst/>
                </a:prstGeom>
                <a:noFill/>
                <a:ln cap="rnd"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144" name="Rectangle 22"/>
            <p:cNvSpPr/>
            <p:nvPr/>
          </p:nvSpPr>
          <p:spPr>
            <a:xfrm>
              <a:off x="3141000" y="3248280"/>
              <a:ext cx="2684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3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กรอบการประเมิน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3498120" y="3597480"/>
              <a:ext cx="1500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3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ตามมติ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4290840" y="3579840"/>
              <a:ext cx="686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Dillen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DilleniaDSE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4282200" y="3597480"/>
              <a:ext cx="11390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3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ครม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4731480" y="3597480"/>
              <a:ext cx="69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.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Rectangle 27"/>
            <p:cNvSpPr/>
            <p:nvPr/>
          </p:nvSpPr>
          <p:spPr>
            <a:xfrm>
              <a:off x="2964960" y="3948120"/>
              <a:ext cx="30286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3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และแผนยุทธศาสตร์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5105160" y="3930840"/>
              <a:ext cx="915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Dillen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DilleniaDSE"/>
                  <a:ea typeface="EucrosiaUPC"/>
                </a:rPr>
                <a:t>    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3474720" y="4303800"/>
              <a:ext cx="2042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3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ส่วนราชการ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5886360" y="1873440"/>
              <a:ext cx="1253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มิติที่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6448320" y="1851120"/>
              <a:ext cx="695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Eucros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EucrosiaDSE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6505920" y="1873440"/>
              <a:ext cx="799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Line 33"/>
            <p:cNvSpPr/>
            <p:nvPr/>
          </p:nvSpPr>
          <p:spPr>
            <a:xfrm>
              <a:off x="5983200" y="2157480"/>
              <a:ext cx="698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4824360" y="2260800"/>
              <a:ext cx="22942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ด้านคุณภาพ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5781240" y="4734000"/>
              <a:ext cx="1253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มิติที่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36"/>
            <p:cNvSpPr/>
            <p:nvPr/>
          </p:nvSpPr>
          <p:spPr>
            <a:xfrm>
              <a:off x="6343560" y="4711680"/>
              <a:ext cx="695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Eucros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EucrosiaDSE"/>
                  <a:ea typeface="EucrosiaUPC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37"/>
            <p:cNvSpPr/>
            <p:nvPr/>
          </p:nvSpPr>
          <p:spPr>
            <a:xfrm>
              <a:off x="6401160" y="4734000"/>
              <a:ext cx="799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4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5878440" y="5018040"/>
              <a:ext cx="698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39"/>
            <p:cNvSpPr/>
            <p:nvPr/>
          </p:nvSpPr>
          <p:spPr>
            <a:xfrm>
              <a:off x="2008080" y="1860480"/>
              <a:ext cx="1253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มิติที่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40"/>
            <p:cNvSpPr/>
            <p:nvPr/>
          </p:nvSpPr>
          <p:spPr>
            <a:xfrm>
              <a:off x="2570040" y="1838520"/>
              <a:ext cx="695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Eucros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EucrosiaDSE"/>
                  <a:ea typeface="EucrosiaUPC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41"/>
            <p:cNvSpPr/>
            <p:nvPr/>
          </p:nvSpPr>
          <p:spPr>
            <a:xfrm>
              <a:off x="2627640" y="1860480"/>
              <a:ext cx="799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1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2104920" y="2144880"/>
              <a:ext cx="698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43"/>
            <p:cNvSpPr/>
            <p:nvPr/>
          </p:nvSpPr>
          <p:spPr>
            <a:xfrm>
              <a:off x="1382040" y="2249640"/>
              <a:ext cx="2698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ด้านประสิทธิผล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365840" y="2637000"/>
              <a:ext cx="27345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ตามยุทธศาสตร์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45"/>
            <p:cNvSpPr/>
            <p:nvPr/>
          </p:nvSpPr>
          <p:spPr>
            <a:xfrm>
              <a:off x="1983960" y="4757760"/>
              <a:ext cx="1253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มิติที่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46"/>
            <p:cNvSpPr/>
            <p:nvPr/>
          </p:nvSpPr>
          <p:spPr>
            <a:xfrm>
              <a:off x="2546280" y="4735440"/>
              <a:ext cx="695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Eucros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EucrosiaDSE"/>
                  <a:ea typeface="EucrosiaUPC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47"/>
            <p:cNvSpPr/>
            <p:nvPr/>
          </p:nvSpPr>
          <p:spPr>
            <a:xfrm>
              <a:off x="2603880" y="4757760"/>
              <a:ext cx="799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Line 48"/>
            <p:cNvSpPr/>
            <p:nvPr/>
          </p:nvSpPr>
          <p:spPr>
            <a:xfrm>
              <a:off x="2081160" y="5042160"/>
              <a:ext cx="698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49"/>
            <p:cNvSpPr/>
            <p:nvPr/>
          </p:nvSpPr>
          <p:spPr>
            <a:xfrm>
              <a:off x="1270800" y="5145120"/>
              <a:ext cx="2868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ด้านประสิทธิภาพ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50"/>
            <p:cNvSpPr/>
            <p:nvPr/>
          </p:nvSpPr>
          <p:spPr>
            <a:xfrm>
              <a:off x="902520" y="5540400"/>
              <a:ext cx="35895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buClr>
                  <a:srgbClr val="000000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ของการปฏิบัติราชการ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73" name="Group 51"/>
            <p:cNvGrpSpPr/>
            <p:nvPr/>
          </p:nvGrpSpPr>
          <p:grpSpPr>
            <a:xfrm>
              <a:off x="1652760" y="1957320"/>
              <a:ext cx="5130720" cy="3807000"/>
              <a:chOff x="1652760" y="1957320"/>
              <a:chExt cx="5130720" cy="3807000"/>
            </a:xfrm>
          </p:grpSpPr>
          <p:pic>
            <p:nvPicPr>
              <p:cNvPr id="174" name="Picture 52" descr=""/>
              <p:cNvPicPr/>
              <p:nvPr/>
            </p:nvPicPr>
            <p:blipFill>
              <a:blip r:embed="rId7"/>
              <a:stretch/>
            </p:blipFill>
            <p:spPr>
              <a:xfrm>
                <a:off x="1652760" y="1957320"/>
                <a:ext cx="5130720" cy="38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Freeform 53"/>
              <p:cNvSpPr/>
              <p:nvPr/>
            </p:nvSpPr>
            <p:spPr>
              <a:xfrm>
                <a:off x="1652760" y="1959120"/>
                <a:ext cx="5129280" cy="380520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76" name="Group 54"/>
            <p:cNvGrpSpPr/>
            <p:nvPr/>
          </p:nvGrpSpPr>
          <p:grpSpPr>
            <a:xfrm>
              <a:off x="4235400" y="1328760"/>
              <a:ext cx="3536640" cy="3035520"/>
              <a:chOff x="4235400" y="1328760"/>
              <a:chExt cx="3536640" cy="3035520"/>
            </a:xfrm>
          </p:grpSpPr>
          <p:pic>
            <p:nvPicPr>
              <p:cNvPr id="177" name="Picture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5400" y="1328760"/>
                <a:ext cx="3535200" cy="30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Freeform 56"/>
              <p:cNvSpPr/>
              <p:nvPr/>
            </p:nvSpPr>
            <p:spPr>
              <a:xfrm>
                <a:off x="4236840" y="1330560"/>
                <a:ext cx="3535200" cy="303372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79" name="Group 57"/>
            <p:cNvGrpSpPr/>
            <p:nvPr/>
          </p:nvGrpSpPr>
          <p:grpSpPr>
            <a:xfrm>
              <a:off x="4216320" y="3749760"/>
              <a:ext cx="3552840" cy="2541600"/>
              <a:chOff x="4216320" y="3749760"/>
              <a:chExt cx="3552840" cy="2541600"/>
            </a:xfrm>
          </p:grpSpPr>
          <p:pic>
            <p:nvPicPr>
              <p:cNvPr id="180" name="Picture 58" descr=""/>
              <p:cNvPicPr/>
              <p:nvPr/>
            </p:nvPicPr>
            <p:blipFill>
              <a:blip r:embed="rId9"/>
              <a:stretch/>
            </p:blipFill>
            <p:spPr>
              <a:xfrm>
                <a:off x="4216320" y="3749760"/>
                <a:ext cx="3552840" cy="25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Freeform 59"/>
              <p:cNvSpPr/>
              <p:nvPr/>
            </p:nvSpPr>
            <p:spPr>
              <a:xfrm>
                <a:off x="4217760" y="3751200"/>
                <a:ext cx="3549600" cy="254016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82" name="Group 60"/>
            <p:cNvGrpSpPr/>
            <p:nvPr/>
          </p:nvGrpSpPr>
          <p:grpSpPr>
            <a:xfrm>
              <a:off x="1038240" y="3257640"/>
              <a:ext cx="3181320" cy="3033720"/>
              <a:chOff x="1038240" y="3257640"/>
              <a:chExt cx="3181320" cy="3033720"/>
            </a:xfrm>
          </p:grpSpPr>
          <p:pic>
            <p:nvPicPr>
              <p:cNvPr id="183" name="Picture 6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38240" y="3257640"/>
                <a:ext cx="3181320" cy="30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Freeform 62"/>
              <p:cNvSpPr/>
              <p:nvPr/>
            </p:nvSpPr>
            <p:spPr>
              <a:xfrm>
                <a:off x="1038240" y="3257640"/>
                <a:ext cx="3179520" cy="303372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85" name="Group 63"/>
            <p:cNvGrpSpPr/>
            <p:nvPr/>
          </p:nvGrpSpPr>
          <p:grpSpPr>
            <a:xfrm>
              <a:off x="1044720" y="1328760"/>
              <a:ext cx="3192480" cy="2541600"/>
              <a:chOff x="1044720" y="1328760"/>
              <a:chExt cx="3192480" cy="2541600"/>
            </a:xfrm>
          </p:grpSpPr>
          <p:pic>
            <p:nvPicPr>
              <p:cNvPr id="186" name="Picture 6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44720" y="1328760"/>
                <a:ext cx="3192480" cy="25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Freeform 65"/>
              <p:cNvSpPr/>
              <p:nvPr/>
            </p:nvSpPr>
            <p:spPr>
              <a:xfrm>
                <a:off x="1044720" y="1330560"/>
                <a:ext cx="3192480" cy="253980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88" name="Group 66"/>
            <p:cNvGrpSpPr/>
            <p:nvPr/>
          </p:nvGrpSpPr>
          <p:grpSpPr>
            <a:xfrm>
              <a:off x="1652760" y="1957320"/>
              <a:ext cx="5130720" cy="3807000"/>
              <a:chOff x="1652760" y="1957320"/>
              <a:chExt cx="5130720" cy="3807000"/>
            </a:xfrm>
          </p:grpSpPr>
          <p:pic>
            <p:nvPicPr>
              <p:cNvPr id="189" name="Picture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52760" y="1957320"/>
                <a:ext cx="5130720" cy="38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68"/>
              <p:cNvSpPr/>
              <p:nvPr/>
            </p:nvSpPr>
            <p:spPr>
              <a:xfrm>
                <a:off x="1652760" y="1959120"/>
                <a:ext cx="5129280" cy="380520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91" name="Group 69"/>
            <p:cNvGrpSpPr/>
            <p:nvPr/>
          </p:nvGrpSpPr>
          <p:grpSpPr>
            <a:xfrm>
              <a:off x="4235400" y="1328760"/>
              <a:ext cx="3536640" cy="3035520"/>
              <a:chOff x="4235400" y="1328760"/>
              <a:chExt cx="3536640" cy="3035520"/>
            </a:xfrm>
          </p:grpSpPr>
          <p:pic>
            <p:nvPicPr>
              <p:cNvPr id="192" name="Picture 70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35400" y="1328760"/>
                <a:ext cx="3535200" cy="30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Freeform 71"/>
              <p:cNvSpPr/>
              <p:nvPr/>
            </p:nvSpPr>
            <p:spPr>
              <a:xfrm>
                <a:off x="4236840" y="1330560"/>
                <a:ext cx="3535200" cy="303372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94" name="Group 72"/>
            <p:cNvGrpSpPr/>
            <p:nvPr/>
          </p:nvGrpSpPr>
          <p:grpSpPr>
            <a:xfrm>
              <a:off x="4219560" y="3764160"/>
              <a:ext cx="3552840" cy="2541600"/>
              <a:chOff x="4219560" y="3764160"/>
              <a:chExt cx="3552840" cy="2541600"/>
            </a:xfrm>
          </p:grpSpPr>
          <p:pic>
            <p:nvPicPr>
              <p:cNvPr id="195" name="Picture 7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19560" y="3764160"/>
                <a:ext cx="3552840" cy="25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Freeform 74"/>
              <p:cNvSpPr/>
              <p:nvPr/>
            </p:nvSpPr>
            <p:spPr>
              <a:xfrm>
                <a:off x="4221000" y="3765600"/>
                <a:ext cx="3549600" cy="254016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97" name="Group 75"/>
            <p:cNvGrpSpPr/>
            <p:nvPr/>
          </p:nvGrpSpPr>
          <p:grpSpPr>
            <a:xfrm>
              <a:off x="1038240" y="3257640"/>
              <a:ext cx="3181320" cy="3033720"/>
              <a:chOff x="1038240" y="3257640"/>
              <a:chExt cx="3181320" cy="3033720"/>
            </a:xfrm>
          </p:grpSpPr>
          <p:pic>
            <p:nvPicPr>
              <p:cNvPr id="198" name="Picture 76" descr=""/>
              <p:cNvPicPr/>
              <p:nvPr/>
            </p:nvPicPr>
            <p:blipFill>
              <a:blip r:embed="rId15"/>
              <a:stretch/>
            </p:blipFill>
            <p:spPr>
              <a:xfrm>
                <a:off x="1038240" y="3257640"/>
                <a:ext cx="3181320" cy="30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Freeform 77"/>
              <p:cNvSpPr/>
              <p:nvPr/>
            </p:nvSpPr>
            <p:spPr>
              <a:xfrm>
                <a:off x="1038240" y="3257640"/>
                <a:ext cx="3179520" cy="303372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0" name="Group 78"/>
            <p:cNvGrpSpPr/>
            <p:nvPr/>
          </p:nvGrpSpPr>
          <p:grpSpPr>
            <a:xfrm>
              <a:off x="1044720" y="1328760"/>
              <a:ext cx="3192480" cy="2541600"/>
              <a:chOff x="1044720" y="1328760"/>
              <a:chExt cx="3192480" cy="2541600"/>
            </a:xfrm>
          </p:grpSpPr>
          <p:pic>
            <p:nvPicPr>
              <p:cNvPr id="201" name="Picture 79" descr=""/>
              <p:cNvPicPr/>
              <p:nvPr/>
            </p:nvPicPr>
            <p:blipFill>
              <a:blip r:embed="rId16"/>
              <a:stretch/>
            </p:blipFill>
            <p:spPr>
              <a:xfrm>
                <a:off x="1044720" y="1328760"/>
                <a:ext cx="3192480" cy="25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Freeform 80"/>
              <p:cNvSpPr/>
              <p:nvPr/>
            </p:nvSpPr>
            <p:spPr>
              <a:xfrm>
                <a:off x="1044720" y="1330560"/>
                <a:ext cx="3192480" cy="2539800"/>
              </a:xfrm>
              <a:prstGeom prst="pie">
                <a:avLst/>
              </a:pr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03" name="Rectangle 81"/>
            <p:cNvSpPr/>
            <p:nvPr/>
          </p:nvSpPr>
          <p:spPr>
            <a:xfrm>
              <a:off x="2895840" y="3248280"/>
              <a:ext cx="30272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0000"/>
                  </a:solidFill>
                  <a:latin typeface="Cordia News"/>
                  <a:cs typeface="Cordia News"/>
                </a:rPr>
                <a:t>กรอบการประเมิน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Rectangle 82"/>
            <p:cNvSpPr/>
            <p:nvPr/>
          </p:nvSpPr>
          <p:spPr>
            <a:xfrm>
              <a:off x="3058920" y="3597480"/>
              <a:ext cx="25927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0000"/>
                  </a:solidFill>
                  <a:latin typeface="Cordia News"/>
                  <a:cs typeface="Cordia News"/>
                </a:rPr>
                <a:t>ตามมติ ครม</a:t>
              </a:r>
              <a:r>
                <a:rPr b="1" lang="en-US" sz="2000" spc="-1" strike="noStrike">
                  <a:solidFill>
                    <a:srgbClr val="cc0000"/>
                  </a:solidFill>
                  <a:latin typeface="Cordia News"/>
                  <a:ea typeface="Cordia News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Rectangle 83"/>
            <p:cNvSpPr/>
            <p:nvPr/>
          </p:nvSpPr>
          <p:spPr>
            <a:xfrm>
              <a:off x="4290840" y="3579840"/>
              <a:ext cx="686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Dillen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DilleniaDSE"/>
                  <a:ea typeface="EucrosiaUPC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Rectangle 84"/>
            <p:cNvSpPr/>
            <p:nvPr/>
          </p:nvSpPr>
          <p:spPr>
            <a:xfrm>
              <a:off x="2813760" y="3948120"/>
              <a:ext cx="35773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0000"/>
                  </a:solidFill>
                  <a:latin typeface="Cordia News"/>
                  <a:cs typeface="Cordia News"/>
                </a:rPr>
                <a:t>และแผนปฏิบัติราชการ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Rectangle 85"/>
            <p:cNvSpPr/>
            <p:nvPr/>
          </p:nvSpPr>
          <p:spPr>
            <a:xfrm>
              <a:off x="5105160" y="3930840"/>
              <a:ext cx="915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575"/>
                </a:spcBef>
                <a:buClr>
                  <a:srgbClr val="000000"/>
                </a:buClr>
                <a:buFont typeface="DilleniaDS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DilleniaDSE"/>
                  <a:ea typeface="EucrosiaUPC"/>
                </a:rPr>
                <a:t>    </a:t>
              </a:r>
              <a:endParaRPr b="0" lang="en-US" sz="23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Rectangle 86"/>
            <p:cNvSpPr/>
            <p:nvPr/>
          </p:nvSpPr>
          <p:spPr>
            <a:xfrm>
              <a:off x="3143880" y="4303800"/>
              <a:ext cx="24678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0000"/>
                  </a:solidFill>
                  <a:latin typeface="Cordia News"/>
                  <a:cs typeface="Cordia News"/>
                </a:rPr>
                <a:t>ส่วนราชการ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09" name="Group 87"/>
            <p:cNvGrpSpPr/>
            <p:nvPr/>
          </p:nvGrpSpPr>
          <p:grpSpPr>
            <a:xfrm>
              <a:off x="5276520" y="1873440"/>
              <a:ext cx="2028600" cy="317160"/>
              <a:chOff x="5276520" y="1873440"/>
              <a:chExt cx="2028600" cy="317160"/>
            </a:xfrm>
          </p:grpSpPr>
          <p:sp>
            <p:nvSpPr>
              <p:cNvPr id="210" name="Rectangle 88"/>
              <p:cNvSpPr/>
              <p:nvPr/>
            </p:nvSpPr>
            <p:spPr>
              <a:xfrm>
                <a:off x="5276520" y="1873440"/>
                <a:ext cx="18626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600" spc="-1" strike="noStrike">
                    <a:solidFill>
                      <a:srgbClr val="cc3300"/>
                    </a:solidFill>
                    <a:latin typeface="Angsana New"/>
                    <a:cs typeface="EucrosiaUPC"/>
                  </a:rPr>
                  <a:t>มิติที่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1" name="Rectangle 89"/>
              <p:cNvSpPr/>
              <p:nvPr/>
            </p:nvSpPr>
            <p:spPr>
              <a:xfrm>
                <a:off x="5896440" y="1873440"/>
                <a:ext cx="14086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3300"/>
                    </a:solidFill>
                    <a:latin typeface="Angsana New"/>
                    <a:ea typeface="EucrosiaUPC"/>
                  </a:rPr>
                  <a:t>2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12" name="Line 90"/>
            <p:cNvSpPr/>
            <p:nvPr/>
          </p:nvSpPr>
          <p:spPr>
            <a:xfrm>
              <a:off x="5983200" y="2157480"/>
              <a:ext cx="698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91"/>
            <p:cNvSpPr/>
            <p:nvPr/>
          </p:nvSpPr>
          <p:spPr>
            <a:xfrm>
              <a:off x="4897440" y="2260800"/>
              <a:ext cx="29037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cc3300"/>
                  </a:solidFill>
                  <a:latin typeface="Angsana New"/>
                  <a:cs typeface="EucrosiaUPC"/>
                </a:rPr>
                <a:t>ด้านคุณภาพ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14" name="Group 92"/>
            <p:cNvGrpSpPr/>
            <p:nvPr/>
          </p:nvGrpSpPr>
          <p:grpSpPr>
            <a:xfrm>
              <a:off x="5171760" y="4768920"/>
              <a:ext cx="2028600" cy="317160"/>
              <a:chOff x="5171760" y="4768920"/>
              <a:chExt cx="2028600" cy="317160"/>
            </a:xfrm>
          </p:grpSpPr>
          <p:sp>
            <p:nvSpPr>
              <p:cNvPr id="215" name="Rectangle 93"/>
              <p:cNvSpPr/>
              <p:nvPr/>
            </p:nvSpPr>
            <p:spPr>
              <a:xfrm>
                <a:off x="5171760" y="4768920"/>
                <a:ext cx="18626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600" spc="-1" strike="noStrike">
                    <a:solidFill>
                      <a:srgbClr val="000099"/>
                    </a:solidFill>
                    <a:latin typeface="Angsana New"/>
                    <a:cs typeface="EucrosiaUPC"/>
                  </a:rPr>
                  <a:t>มิติที่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6" name="Rectangle 94"/>
              <p:cNvSpPr/>
              <p:nvPr/>
            </p:nvSpPr>
            <p:spPr>
              <a:xfrm>
                <a:off x="5791680" y="4768920"/>
                <a:ext cx="14086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99"/>
                    </a:solidFill>
                    <a:latin typeface="Angsana New"/>
                    <a:ea typeface="EucrosiaUPC"/>
                  </a:rPr>
                  <a:t>4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17" name="Line 95"/>
            <p:cNvSpPr/>
            <p:nvPr/>
          </p:nvSpPr>
          <p:spPr>
            <a:xfrm>
              <a:off x="5878440" y="5018040"/>
              <a:ext cx="698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Rectangle 96"/>
            <p:cNvSpPr/>
            <p:nvPr/>
          </p:nvSpPr>
          <p:spPr>
            <a:xfrm>
              <a:off x="4113000" y="5122800"/>
              <a:ext cx="41886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99"/>
                  </a:solidFill>
                  <a:latin typeface="Angsana New"/>
                  <a:cs typeface="EucrosiaUPC"/>
                </a:rPr>
                <a:t>ด้านการพัฒนาสถาบัน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19" name="Group 97"/>
            <p:cNvGrpSpPr/>
            <p:nvPr/>
          </p:nvGrpSpPr>
          <p:grpSpPr>
            <a:xfrm>
              <a:off x="1398240" y="1873440"/>
              <a:ext cx="2028600" cy="317160"/>
              <a:chOff x="1398240" y="1873440"/>
              <a:chExt cx="2028600" cy="317160"/>
            </a:xfrm>
          </p:grpSpPr>
          <p:sp>
            <p:nvSpPr>
              <p:cNvPr id="220" name="Rectangle 98"/>
              <p:cNvSpPr/>
              <p:nvPr/>
            </p:nvSpPr>
            <p:spPr>
              <a:xfrm>
                <a:off x="1398240" y="1873440"/>
                <a:ext cx="18626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600" spc="-1" strike="noStrike">
                    <a:solidFill>
                      <a:srgbClr val="000099"/>
                    </a:solidFill>
                    <a:latin typeface="Angsana New"/>
                    <a:cs typeface="EucrosiaUPC"/>
                  </a:rPr>
                  <a:t>มิติที่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Rectangle 99"/>
              <p:cNvSpPr/>
              <p:nvPr/>
            </p:nvSpPr>
            <p:spPr>
              <a:xfrm>
                <a:off x="2018160" y="1873440"/>
                <a:ext cx="14086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99"/>
                    </a:solidFill>
                    <a:latin typeface="Angsana New"/>
                    <a:ea typeface="EucrosiaUPC"/>
                  </a:rPr>
                  <a:t>1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2" name="Line 100"/>
            <p:cNvSpPr/>
            <p:nvPr/>
          </p:nvSpPr>
          <p:spPr>
            <a:xfrm>
              <a:off x="2104920" y="2144880"/>
              <a:ext cx="698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Rectangle 101"/>
            <p:cNvSpPr/>
            <p:nvPr/>
          </p:nvSpPr>
          <p:spPr>
            <a:xfrm>
              <a:off x="772560" y="2249640"/>
              <a:ext cx="3307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000099"/>
                  </a:solidFill>
                  <a:latin typeface="Angsana New"/>
                  <a:cs typeface="EucrosiaUPC"/>
                </a:rPr>
                <a:t>ด้านประสิทธิผล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24" name="Group 102"/>
            <p:cNvGrpSpPr/>
            <p:nvPr/>
          </p:nvGrpSpPr>
          <p:grpSpPr>
            <a:xfrm>
              <a:off x="1374480" y="4781520"/>
              <a:ext cx="2028600" cy="317160"/>
              <a:chOff x="1374480" y="4781520"/>
              <a:chExt cx="2028600" cy="317160"/>
            </a:xfrm>
          </p:grpSpPr>
          <p:sp>
            <p:nvSpPr>
              <p:cNvPr id="225" name="Rectangle 103"/>
              <p:cNvSpPr/>
              <p:nvPr/>
            </p:nvSpPr>
            <p:spPr>
              <a:xfrm>
                <a:off x="1374480" y="4781520"/>
                <a:ext cx="18626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600" spc="-1" strike="noStrike">
                    <a:solidFill>
                      <a:srgbClr val="cc3300"/>
                    </a:solidFill>
                    <a:latin typeface="Angsana New"/>
                    <a:cs typeface="EucrosiaUPC"/>
                  </a:rPr>
                  <a:t>มิติที่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6" name="Rectangle 104"/>
              <p:cNvSpPr/>
              <p:nvPr/>
            </p:nvSpPr>
            <p:spPr>
              <a:xfrm>
                <a:off x="1994400" y="4781520"/>
                <a:ext cx="14086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609480" indent="-609480">
                  <a:lnSpc>
                    <a:spcPct val="8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3300"/>
                    </a:solidFill>
                    <a:latin typeface="Angsana New"/>
                    <a:ea typeface="EucrosiaUPC"/>
                  </a:rPr>
                  <a:t>3</a:t>
                </a:r>
                <a:endParaRPr b="0" lang="en-US" sz="2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7" name="Line 105"/>
            <p:cNvSpPr/>
            <p:nvPr/>
          </p:nvSpPr>
          <p:spPr>
            <a:xfrm>
              <a:off x="2081160" y="5042160"/>
              <a:ext cx="698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8" name="Rectangle 106"/>
            <p:cNvSpPr/>
            <p:nvPr/>
          </p:nvSpPr>
          <p:spPr>
            <a:xfrm>
              <a:off x="661320" y="5145120"/>
              <a:ext cx="34783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cc3300"/>
                  </a:solidFill>
                  <a:latin typeface="Angsana New"/>
                  <a:cs typeface="EucrosiaUPC"/>
                </a:rPr>
                <a:t>ด้านประสิทธิภาพ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9" name="Rectangle 107"/>
            <p:cNvSpPr/>
            <p:nvPr/>
          </p:nvSpPr>
          <p:spPr>
            <a:xfrm>
              <a:off x="293040" y="5540400"/>
              <a:ext cx="4199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cc3300"/>
                  </a:solidFill>
                  <a:latin typeface="Angsana New"/>
                  <a:cs typeface="EucrosiaUPC"/>
                </a:rPr>
                <a:t>ของการปฏิบัติราชการ</a:t>
              </a:r>
              <a:endParaRPr b="0" lang="en-US" sz="2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7"/>
          <p:cNvSpPr/>
          <p:nvPr/>
        </p:nvSpPr>
        <p:spPr>
          <a:xfrm>
            <a:off x="762120" y="115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393840" y="1527120"/>
            <a:ext cx="51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เกณฑ์การให้คะแนนระดับ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ngsana New"/>
              </a:rPr>
              <a:t>5 (1 </a:t>
            </a: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แต้ม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ngsana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24000" y="1973160"/>
            <a:ext cx="88200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คำอธิบาย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ผลการปฏิบัติราชการโดดเด่นด้านการปรับปรุงกระบวนงา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พิจารณาจากร้อยละที่ลดลงของ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ระยะเวลาเฉลี่ย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ที่ส่วนราชการสามารถให้บริการได้   เมื่อเทียบกับระยะเวลามาตรฐาน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หน่วย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ร้อยละ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696960" y="3254400"/>
          <a:ext cx="7921440" cy="1859040"/>
        </p:xfrm>
        <a:graphic>
          <a:graphicData uri="http://schemas.openxmlformats.org/drawingml/2006/table">
            <a:tbl>
              <a:tblPr/>
              <a:tblGrid>
                <a:gridCol w="1584360"/>
                <a:gridCol w="1582560"/>
                <a:gridCol w="1587600"/>
                <a:gridCol w="1582560"/>
                <a:gridCol w="1584360"/>
              </a:tblGrid>
              <a:tr h="1281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6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เกณฑ์การให้คะแนนเทียบกับร้อยละที่ลดลงของระยะเวลาเฉลี่ยที่ส่วนราชการสามารถให้บริการได้เมื่อเทียบกับระยะเวลามาตรฐาน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คะแนนที่ได้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0.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0.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0.7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1.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ร้อยละที่ลดลง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1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1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505" name="Text Box 32"/>
          <p:cNvSpPr/>
          <p:nvPr/>
        </p:nvSpPr>
        <p:spPr>
          <a:xfrm>
            <a:off x="0" y="5294160"/>
            <a:ext cx="9252000" cy="23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6600"/>
                </a:solidFill>
                <a:uFillTx/>
                <a:latin typeface="Angsana New"/>
              </a:rPr>
              <a:t>สรุป</a:t>
            </a:r>
            <a:r>
              <a:rPr b="1" lang="th-TH" sz="2800" spc="-1" strike="noStrike">
                <a:solidFill>
                  <a:srgbClr val="006600"/>
                </a:solidFill>
                <a:latin typeface="Angsana New"/>
              </a:rPr>
              <a:t> ต้องคำนวณ </a:t>
            </a:r>
            <a:r>
              <a:rPr b="1" lang="th-TH" sz="2800" spc="-1" strike="noStrike">
                <a:solidFill>
                  <a:srgbClr val="006600"/>
                </a:solidFill>
                <a:latin typeface="Angsana New"/>
              </a:rPr>
              <a:t>2 </a:t>
            </a:r>
            <a:r>
              <a:rPr b="1" lang="th-TH" sz="2800" spc="-1" strike="noStrike">
                <a:solidFill>
                  <a:srgbClr val="006600"/>
                </a:solidFill>
                <a:latin typeface="Angsana New"/>
              </a:rPr>
              <a:t>ค่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1.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ระยะเวลาเฉลี่ยที่สถาบันฯ สามารถให้บริการได้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หน่วย</a:t>
            </a:r>
            <a:r>
              <a:rPr b="1" lang="en-US" sz="2400" spc="-1" strike="noStrike">
                <a:solidFill>
                  <a:srgbClr val="006600"/>
                </a:solidFill>
                <a:latin typeface="Angsana New"/>
              </a:rPr>
              <a:t>: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วัน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/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ชั่วโมง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/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นาที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หากงานบริการใด สามารถให้บริการได้เสร็จสิ้นภายใน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1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วัน ต้องระบุเวลาเป็นชั่วโมง หรือนาที โดยกำหนดให้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1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วัน เท่ากับ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7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ชั่วโมง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2.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ร้อยละที่ลดลงของระยะเวลาเฉลี่ยที่ให้บริการได้เมื่อเทียบกับระยะเวลามาตรฐาน 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หน่วย</a:t>
            </a:r>
            <a:r>
              <a:rPr b="1" lang="en-US" sz="2400" spc="-1" strike="noStrike">
                <a:solidFill>
                  <a:srgbClr val="006600"/>
                </a:solidFill>
                <a:latin typeface="Angsana New"/>
              </a:rPr>
              <a:t>: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ร้อยละ</a:t>
            </a:r>
            <a:r>
              <a:rPr b="1" lang="th-TH" sz="2400" spc="-1" strike="noStrike">
                <a:solidFill>
                  <a:srgbClr val="006600"/>
                </a:solidFill>
                <a:latin typeface="Angsana New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Rectangle 34"/>
          <p:cNvSpPr/>
          <p:nvPr/>
        </p:nvSpPr>
        <p:spPr>
          <a:xfrm>
            <a:off x="355680" y="512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WordArt 15"/>
          <p:cNvSpPr txBox="1"/>
          <p:nvPr/>
        </p:nvSpPr>
        <p:spPr>
          <a:xfrm>
            <a:off x="6505560" y="133200"/>
            <a:ext cx="20480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250920" y="163044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สูตรการคำนวณเกณฑ์การให้คะแนนระดับ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ngsana New"/>
              </a:rPr>
              <a:t>5 (1 </a:t>
            </a: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แต้ม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ngsana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169920" y="2144880"/>
            <a:ext cx="914544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ร้อยละที่ลดลงของ</a:t>
            </a:r>
            <a:r>
              <a:rPr b="1" lang="th-TH" sz="3000" spc="-1" strike="noStrike" u="sng">
                <a:solidFill>
                  <a:srgbClr val="ffffff"/>
                </a:solidFill>
                <a:uFillTx/>
                <a:latin typeface="Angsana New"/>
              </a:rPr>
              <a:t>ระยะเวลาเฉลี่ย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ที่สถาบันอุดมศึกษาสามารถให้บริการได้เมื่อเทียบกับระยะเวลามาตรฐาน 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หน่วย</a:t>
            </a:r>
            <a:r>
              <a:rPr b="1" lang="en-US" sz="30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ร้อยละ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11" name="Group 10"/>
          <p:cNvGrpSpPr/>
          <p:nvPr/>
        </p:nvGrpSpPr>
        <p:grpSpPr>
          <a:xfrm>
            <a:off x="395280" y="3176640"/>
            <a:ext cx="8631720" cy="2277720"/>
            <a:chOff x="395280" y="3176640"/>
            <a:chExt cx="8631720" cy="2277720"/>
          </a:xfrm>
        </p:grpSpPr>
        <p:pic>
          <p:nvPicPr>
            <p:cNvPr id="512" name="Picture 11" descr="goldman"/>
            <p:cNvPicPr/>
            <p:nvPr/>
          </p:nvPicPr>
          <p:blipFill>
            <a:blip r:embed="rId2"/>
            <a:stretch/>
          </p:blipFill>
          <p:spPr>
            <a:xfrm>
              <a:off x="3767040" y="3674880"/>
              <a:ext cx="236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goldman"/>
            <p:cNvPicPr/>
            <p:nvPr/>
          </p:nvPicPr>
          <p:blipFill>
            <a:blip r:embed="rId3"/>
            <a:stretch/>
          </p:blipFill>
          <p:spPr>
            <a:xfrm>
              <a:off x="4075200" y="3674880"/>
              <a:ext cx="236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3" descr="goldman"/>
            <p:cNvPicPr/>
            <p:nvPr/>
          </p:nvPicPr>
          <p:blipFill>
            <a:blip r:embed="rId4"/>
            <a:stretch/>
          </p:blipFill>
          <p:spPr>
            <a:xfrm>
              <a:off x="4416480" y="3676320"/>
              <a:ext cx="2365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4" descr="goldman"/>
            <p:cNvPicPr/>
            <p:nvPr/>
          </p:nvPicPr>
          <p:blipFill>
            <a:blip r:embed="rId5"/>
            <a:stretch/>
          </p:blipFill>
          <p:spPr>
            <a:xfrm>
              <a:off x="961920" y="4363920"/>
              <a:ext cx="235080" cy="4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5" descr="goldman"/>
            <p:cNvPicPr/>
            <p:nvPr/>
          </p:nvPicPr>
          <p:blipFill>
            <a:blip r:embed="rId6"/>
            <a:stretch/>
          </p:blipFill>
          <p:spPr>
            <a:xfrm>
              <a:off x="1301760" y="4363920"/>
              <a:ext cx="236520" cy="4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16" descr="goldman"/>
            <p:cNvPicPr/>
            <p:nvPr/>
          </p:nvPicPr>
          <p:blipFill>
            <a:blip r:embed="rId7"/>
            <a:stretch/>
          </p:blipFill>
          <p:spPr>
            <a:xfrm>
              <a:off x="1627200" y="4363920"/>
              <a:ext cx="236520" cy="4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7" descr="goldman"/>
            <p:cNvPicPr/>
            <p:nvPr/>
          </p:nvPicPr>
          <p:blipFill>
            <a:blip r:embed="rId8"/>
            <a:stretch/>
          </p:blipFill>
          <p:spPr>
            <a:xfrm>
              <a:off x="1933560" y="4363920"/>
              <a:ext cx="236520" cy="4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8" descr="goldman"/>
            <p:cNvPicPr/>
            <p:nvPr/>
          </p:nvPicPr>
          <p:blipFill>
            <a:blip r:embed="rId9"/>
            <a:stretch/>
          </p:blipFill>
          <p:spPr>
            <a:xfrm>
              <a:off x="2274840" y="4363920"/>
              <a:ext cx="236520" cy="4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9" descr="customer_service_desk_sleeping_md_wht"/>
            <p:cNvPicPr/>
            <p:nvPr/>
          </p:nvPicPr>
          <p:blipFill>
            <a:blip r:embed="rId10"/>
            <a:stretch/>
          </p:blipFill>
          <p:spPr>
            <a:xfrm>
              <a:off x="2744640" y="3800160"/>
              <a:ext cx="498600" cy="3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Line 20"/>
            <p:cNvSpPr/>
            <p:nvPr/>
          </p:nvSpPr>
          <p:spPr>
            <a:xfrm>
              <a:off x="914400" y="4265280"/>
              <a:ext cx="682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2" name="Text Box 21"/>
            <p:cNvSpPr/>
            <p:nvPr/>
          </p:nvSpPr>
          <p:spPr>
            <a:xfrm>
              <a:off x="7770240" y="4019400"/>
              <a:ext cx="125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ngsana New"/>
                </a:rPr>
                <a:t>X 100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3" name="AutoShape 22"/>
            <p:cNvSpPr/>
            <p:nvPr/>
          </p:nvSpPr>
          <p:spPr>
            <a:xfrm>
              <a:off x="3230640" y="3749400"/>
              <a:ext cx="312840" cy="407520"/>
            </a:xfrm>
            <a:prstGeom prst="parallelogram">
              <a:avLst>
                <a:gd name="adj" fmla="val 62083"/>
              </a:avLst>
            </a:prstGeom>
            <a:noFill/>
            <a:ln w="3240">
              <a:solidFill>
                <a:srgbClr val="3e0000"/>
              </a:solidFill>
              <a:miter/>
            </a:ln>
            <a:effectLst>
              <a:outerShdw dist="17819" dir="2700000" blurRad="0" rotWithShape="0">
                <a:srgbClr val="2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524" name="Picture 23" descr="goldman"/>
            <p:cNvPicPr/>
            <p:nvPr/>
          </p:nvPicPr>
          <p:blipFill>
            <a:blip r:embed="rId11"/>
            <a:stretch/>
          </p:blipFill>
          <p:spPr>
            <a:xfrm>
              <a:off x="1886040" y="3768480"/>
              <a:ext cx="2365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24" descr="goldman"/>
            <p:cNvPicPr/>
            <p:nvPr/>
          </p:nvPicPr>
          <p:blipFill>
            <a:blip r:embed="rId12"/>
            <a:stretch/>
          </p:blipFill>
          <p:spPr>
            <a:xfrm>
              <a:off x="2227320" y="3768480"/>
              <a:ext cx="2365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25" descr="customer_service_desk_sleeping_md_wht"/>
            <p:cNvPicPr/>
            <p:nvPr/>
          </p:nvPicPr>
          <p:blipFill>
            <a:blip r:embed="rId13"/>
            <a:stretch/>
          </p:blipFill>
          <p:spPr>
            <a:xfrm>
              <a:off x="2778120" y="4485960"/>
              <a:ext cx="498600" cy="3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AutoShape 26"/>
            <p:cNvSpPr/>
            <p:nvPr/>
          </p:nvSpPr>
          <p:spPr>
            <a:xfrm>
              <a:off x="3263760" y="4435200"/>
              <a:ext cx="312840" cy="407520"/>
            </a:xfrm>
            <a:prstGeom prst="parallelogram">
              <a:avLst>
                <a:gd name="adj" fmla="val 62083"/>
              </a:avLst>
            </a:prstGeom>
            <a:noFill/>
            <a:ln w="3240">
              <a:solidFill>
                <a:srgbClr val="3e0000"/>
              </a:solidFill>
              <a:miter/>
            </a:ln>
            <a:effectLst>
              <a:outerShdw dist="17819" dir="2700000" blurRad="0" rotWithShape="0">
                <a:srgbClr val="2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8" name="Text Box 27"/>
            <p:cNvSpPr/>
            <p:nvPr/>
          </p:nvSpPr>
          <p:spPr>
            <a:xfrm>
              <a:off x="1187280" y="4903560"/>
              <a:ext cx="6637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3000" spc="-1" strike="noStrike">
                  <a:solidFill>
                    <a:srgbClr val="ffffff"/>
                  </a:solidFill>
                  <a:latin typeface="Angsana New"/>
                </a:rPr>
                <a:t>ระยะเวลามาตรฐานในแต่ละกระบวนงาน</a:t>
              </a:r>
              <a:endParaRPr b="0" lang="en-US" sz="3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9" name="Text Box 28"/>
            <p:cNvSpPr/>
            <p:nvPr/>
          </p:nvSpPr>
          <p:spPr>
            <a:xfrm>
              <a:off x="395280" y="3176640"/>
              <a:ext cx="82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6e6b"/>
                  </a:solidFill>
                  <a:latin typeface="Browallia New"/>
                  <a:ea typeface="Browallia New"/>
                </a:rPr>
                <a:t>(</a:t>
              </a:r>
              <a:r>
                <a:rPr b="1" i="1" lang="hi-IN" sz="2200" spc="-1" strike="noStrike">
                  <a:solidFill>
                    <a:srgbClr val="006e6b"/>
                  </a:solidFill>
                  <a:latin typeface="Browallia New"/>
                  <a:cs typeface="Browallia New"/>
                </a:rPr>
                <a:t>ระยะเวลามาตรฐานในแต่ละกระบวนงาน – ระยะเวลาเฉลี่ยที่ให้บริการได้ในแต่ละกระบวนงาน</a:t>
              </a:r>
              <a:r>
                <a:rPr b="1" i="1" lang="en-US" sz="2200" spc="-1" strike="noStrike">
                  <a:solidFill>
                    <a:srgbClr val="006e6b"/>
                  </a:solidFill>
                  <a:latin typeface="Browallia New"/>
                  <a:ea typeface="Browallia New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530" name="Picture 29" descr="goldman"/>
            <p:cNvPicPr/>
            <p:nvPr/>
          </p:nvPicPr>
          <p:blipFill>
            <a:blip r:embed="rId14"/>
            <a:stretch/>
          </p:blipFill>
          <p:spPr>
            <a:xfrm>
              <a:off x="4716360" y="3679560"/>
              <a:ext cx="236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30" descr="goldman"/>
            <p:cNvPicPr/>
            <p:nvPr/>
          </p:nvPicPr>
          <p:blipFill>
            <a:blip r:embed="rId15"/>
            <a:stretch/>
          </p:blipFill>
          <p:spPr>
            <a:xfrm>
              <a:off x="4932360" y="3679560"/>
              <a:ext cx="236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31" descr="goldman"/>
            <p:cNvPicPr/>
            <p:nvPr/>
          </p:nvPicPr>
          <p:blipFill>
            <a:blip r:embed="rId16"/>
            <a:stretch/>
          </p:blipFill>
          <p:spPr>
            <a:xfrm>
              <a:off x="5240160" y="3679560"/>
              <a:ext cx="23688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2" descr="goldman"/>
            <p:cNvPicPr/>
            <p:nvPr/>
          </p:nvPicPr>
          <p:blipFill>
            <a:blip r:embed="rId17"/>
            <a:stretch/>
          </p:blipFill>
          <p:spPr>
            <a:xfrm>
              <a:off x="5581800" y="3681360"/>
              <a:ext cx="23652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3" descr="goldman"/>
            <p:cNvPicPr/>
            <p:nvPr/>
          </p:nvPicPr>
          <p:blipFill>
            <a:blip r:embed="rId18"/>
            <a:stretch/>
          </p:blipFill>
          <p:spPr>
            <a:xfrm>
              <a:off x="5881680" y="3684240"/>
              <a:ext cx="236520" cy="45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Rectangle 34"/>
          <p:cNvSpPr/>
          <p:nvPr/>
        </p:nvSpPr>
        <p:spPr>
          <a:xfrm>
            <a:off x="355680" y="512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WordArt 15"/>
          <p:cNvSpPr txBox="1"/>
          <p:nvPr/>
        </p:nvSpPr>
        <p:spPr>
          <a:xfrm>
            <a:off x="6505560" y="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8"/>
          <p:cNvSpPr/>
          <p:nvPr/>
        </p:nvSpPr>
        <p:spPr>
          <a:xfrm>
            <a:off x="250920" y="1692360"/>
            <a:ext cx="51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เกณฑ์การให้คะแนนระดับ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ngsana New"/>
              </a:rPr>
              <a:t>5 (1 </a:t>
            </a: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แต้ม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ngsana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179280" y="235728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ระยะเวลาเฉลี่ยที่สถาบันอุดมศึกษาสามารถให้บริการได้ในแต่ละกระบวนงาน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ffffff"/>
                </a:solidFill>
                <a:uFillTx/>
                <a:latin typeface="Angsana New"/>
              </a:rPr>
              <a:t>คำอธิบาย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ผลรวมของระยะเวลาให้บริการของผู้รับบริการทุกรายที่สถาบันอุดมศึกษาจัดเก็บข้อมูลตามปฏิทินที่สำนักงาน ก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ำหนด หารด้วยจำนวนผู้รับบริการทั้งหมดใน    แต่ละกระบวนงา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39" name="Group 10"/>
          <p:cNvGrpSpPr/>
          <p:nvPr/>
        </p:nvGrpSpPr>
        <p:grpSpPr>
          <a:xfrm>
            <a:off x="1332000" y="4113360"/>
            <a:ext cx="6240240" cy="2807640"/>
            <a:chOff x="1332000" y="4113360"/>
            <a:chExt cx="6240240" cy="2807640"/>
          </a:xfrm>
        </p:grpSpPr>
        <p:pic>
          <p:nvPicPr>
            <p:cNvPr id="540" name="Picture 11" descr="goldman"/>
            <p:cNvPicPr/>
            <p:nvPr/>
          </p:nvPicPr>
          <p:blipFill>
            <a:blip r:embed="rId2"/>
            <a:stretch/>
          </p:blipFill>
          <p:spPr>
            <a:xfrm>
              <a:off x="4908600" y="4524480"/>
              <a:ext cx="22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12" descr="goldman"/>
            <p:cNvPicPr/>
            <p:nvPr/>
          </p:nvPicPr>
          <p:blipFill>
            <a:blip r:embed="rId3"/>
            <a:stretch/>
          </p:blipFill>
          <p:spPr>
            <a:xfrm>
              <a:off x="5197320" y="4524480"/>
              <a:ext cx="2224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13" descr="goldman"/>
            <p:cNvPicPr/>
            <p:nvPr/>
          </p:nvPicPr>
          <p:blipFill>
            <a:blip r:embed="rId4"/>
            <a:stretch/>
          </p:blipFill>
          <p:spPr>
            <a:xfrm>
              <a:off x="5518080" y="4526280"/>
              <a:ext cx="22248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14" descr="goldman"/>
            <p:cNvPicPr/>
            <p:nvPr/>
          </p:nvPicPr>
          <p:blipFill>
            <a:blip r:embed="rId5"/>
            <a:stretch/>
          </p:blipFill>
          <p:spPr>
            <a:xfrm>
              <a:off x="2270160" y="5288040"/>
              <a:ext cx="22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15" descr="goldman"/>
            <p:cNvPicPr/>
            <p:nvPr/>
          </p:nvPicPr>
          <p:blipFill>
            <a:blip r:embed="rId6"/>
            <a:stretch/>
          </p:blipFill>
          <p:spPr>
            <a:xfrm>
              <a:off x="2590920" y="5288040"/>
              <a:ext cx="22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16" descr="goldman"/>
            <p:cNvPicPr/>
            <p:nvPr/>
          </p:nvPicPr>
          <p:blipFill>
            <a:blip r:embed="rId7"/>
            <a:stretch/>
          </p:blipFill>
          <p:spPr>
            <a:xfrm>
              <a:off x="2895480" y="5288040"/>
              <a:ext cx="2224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7" descr="goldman"/>
            <p:cNvPicPr/>
            <p:nvPr/>
          </p:nvPicPr>
          <p:blipFill>
            <a:blip r:embed="rId8"/>
            <a:stretch/>
          </p:blipFill>
          <p:spPr>
            <a:xfrm>
              <a:off x="3184560" y="5288040"/>
              <a:ext cx="22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18" descr="goldman"/>
            <p:cNvPicPr/>
            <p:nvPr/>
          </p:nvPicPr>
          <p:blipFill>
            <a:blip r:embed="rId9"/>
            <a:stretch/>
          </p:blipFill>
          <p:spPr>
            <a:xfrm>
              <a:off x="3505320" y="5288040"/>
              <a:ext cx="22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9" descr="customer_service_desk_sleeping_md_wht"/>
            <p:cNvPicPr/>
            <p:nvPr/>
          </p:nvPicPr>
          <p:blipFill>
            <a:blip r:embed="rId10"/>
            <a:stretch/>
          </p:blipFill>
          <p:spPr>
            <a:xfrm>
              <a:off x="3946680" y="4664160"/>
              <a:ext cx="4680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Line 20"/>
            <p:cNvSpPr/>
            <p:nvPr/>
          </p:nvSpPr>
          <p:spPr>
            <a:xfrm>
              <a:off x="2225520" y="5180040"/>
              <a:ext cx="403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0" name="AutoShape 21"/>
            <p:cNvSpPr/>
            <p:nvPr/>
          </p:nvSpPr>
          <p:spPr>
            <a:xfrm>
              <a:off x="4403880" y="4606920"/>
              <a:ext cx="293400" cy="452520"/>
            </a:xfrm>
            <a:prstGeom prst="parallelogram">
              <a:avLst>
                <a:gd name="adj" fmla="val 62083"/>
              </a:avLst>
            </a:prstGeom>
            <a:noFill/>
            <a:ln w="3240">
              <a:solidFill>
                <a:srgbClr val="3e0000"/>
              </a:solidFill>
              <a:miter/>
            </a:ln>
            <a:effectLst>
              <a:outerShdw dist="17819" dir="2700000" blurRad="0" rotWithShape="0">
                <a:srgbClr val="2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551" name="Picture 22" descr="goldman"/>
            <p:cNvPicPr/>
            <p:nvPr/>
          </p:nvPicPr>
          <p:blipFill>
            <a:blip r:embed="rId11"/>
            <a:stretch/>
          </p:blipFill>
          <p:spPr>
            <a:xfrm>
              <a:off x="3139920" y="4629240"/>
              <a:ext cx="2224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23" descr="goldman"/>
            <p:cNvPicPr/>
            <p:nvPr/>
          </p:nvPicPr>
          <p:blipFill>
            <a:blip r:embed="rId12"/>
            <a:stretch/>
          </p:blipFill>
          <p:spPr>
            <a:xfrm>
              <a:off x="3460680" y="4629240"/>
              <a:ext cx="2224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24" descr="customer_service_desk_sleeping_md_wht"/>
            <p:cNvPicPr/>
            <p:nvPr/>
          </p:nvPicPr>
          <p:blipFill>
            <a:blip r:embed="rId13"/>
            <a:stretch/>
          </p:blipFill>
          <p:spPr>
            <a:xfrm>
              <a:off x="3978360" y="5424480"/>
              <a:ext cx="468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AutoShape 25"/>
            <p:cNvSpPr/>
            <p:nvPr/>
          </p:nvSpPr>
          <p:spPr>
            <a:xfrm>
              <a:off x="4435560" y="5367600"/>
              <a:ext cx="293760" cy="452160"/>
            </a:xfrm>
            <a:prstGeom prst="parallelogram">
              <a:avLst>
                <a:gd name="adj" fmla="val 62083"/>
              </a:avLst>
            </a:prstGeom>
            <a:noFill/>
            <a:ln w="3240">
              <a:solidFill>
                <a:srgbClr val="3e0000"/>
              </a:solidFill>
              <a:miter/>
            </a:ln>
            <a:effectLst>
              <a:outerShdw dist="17819" dir="2700000" blurRad="0" rotWithShape="0">
                <a:srgbClr val="2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5" name="Text Box 26"/>
            <p:cNvSpPr/>
            <p:nvPr/>
          </p:nvSpPr>
          <p:spPr>
            <a:xfrm>
              <a:off x="1332000" y="5973840"/>
              <a:ext cx="624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800" spc="-1" strike="noStrike">
                  <a:solidFill>
                    <a:srgbClr val="ffffff"/>
                  </a:solidFill>
                  <a:latin typeface="Angsana New"/>
                </a:rPr>
                <a:t>จำนวนผู้รับบริการทั้งหมดในแต่ละกระบวนงาน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6" name="Text Box 27"/>
            <p:cNvSpPr/>
            <p:nvPr/>
          </p:nvSpPr>
          <p:spPr>
            <a:xfrm>
              <a:off x="1332000" y="4113360"/>
              <a:ext cx="624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800" spc="-1" strike="noStrike">
                  <a:solidFill>
                    <a:srgbClr val="ffffff"/>
                  </a:solidFill>
                  <a:latin typeface="Angsana New"/>
                </a:rPr>
                <a:t>ผลรวมของระยะเวลาให้บริการของผู้รับบริการทุกราย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57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Rectangle 29"/>
          <p:cNvSpPr/>
          <p:nvPr/>
        </p:nvSpPr>
        <p:spPr>
          <a:xfrm>
            <a:off x="355680" y="512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WordArt 15"/>
          <p:cNvSpPr txBox="1"/>
          <p:nvPr/>
        </p:nvSpPr>
        <p:spPr>
          <a:xfrm>
            <a:off x="6505560" y="133200"/>
            <a:ext cx="2048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8"/>
          <p:cNvSpPr/>
          <p:nvPr/>
        </p:nvSpPr>
        <p:spPr>
          <a:xfrm>
            <a:off x="326880" y="1839960"/>
            <a:ext cx="65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ตัวอย่างการคำนวณเกณฑ์การให้คะแนนระดับ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5 (1 </a:t>
            </a: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แต้ม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395280" y="2511360"/>
            <a:ext cx="9145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ะยะเวลามาตรฐานในกระบวนงานที่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คือ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60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าท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ะยะเวลาเฉลี่ยที่ให้บริการได้ในกระบวนงานที่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คือ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1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าท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62080" y="4737240"/>
            <a:ext cx="85928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ดังนั้น  ร้อยละที่ลดลงของ</a:t>
            </a: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ระยะเวลาเฉลี่ย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ที่สถาบันอุดมศึกษาสามารถให้บริการได้เมื่อเทียบกับระยะเวลามาตรฐาน คือ 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5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เทียบเท่ากับ ระดับคะแน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0.75 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จาก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แต้ม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63" name="Group 11"/>
          <p:cNvGrpSpPr/>
          <p:nvPr/>
        </p:nvGrpSpPr>
        <p:grpSpPr>
          <a:xfrm>
            <a:off x="1187280" y="3586320"/>
            <a:ext cx="6548760" cy="1053720"/>
            <a:chOff x="1187280" y="3586320"/>
            <a:chExt cx="6548760" cy="1053720"/>
          </a:xfrm>
        </p:grpSpPr>
        <p:sp>
          <p:nvSpPr>
            <p:cNvPr id="564" name="Line 12"/>
            <p:cNvSpPr/>
            <p:nvPr/>
          </p:nvSpPr>
          <p:spPr>
            <a:xfrm>
              <a:off x="1619280" y="4017960"/>
              <a:ext cx="115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Text Box 13"/>
            <p:cNvSpPr/>
            <p:nvPr/>
          </p:nvSpPr>
          <p:spPr>
            <a:xfrm>
              <a:off x="2785680" y="3776760"/>
              <a:ext cx="125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X 100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Text Box 14"/>
            <p:cNvSpPr/>
            <p:nvPr/>
          </p:nvSpPr>
          <p:spPr>
            <a:xfrm>
              <a:off x="1690560" y="4089240"/>
              <a:ext cx="107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60</a:t>
              </a:r>
              <a:endParaRPr b="0" lang="en-US" sz="3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Text Box 15"/>
            <p:cNvSpPr/>
            <p:nvPr/>
          </p:nvSpPr>
          <p:spPr>
            <a:xfrm>
              <a:off x="1187280" y="3586320"/>
              <a:ext cx="216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(60 – 51)</a:t>
              </a:r>
              <a:endParaRPr b="0" lang="en-US" sz="3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Text Box 16"/>
            <p:cNvSpPr/>
            <p:nvPr/>
          </p:nvSpPr>
          <p:spPr>
            <a:xfrm>
              <a:off x="5466960" y="3768840"/>
              <a:ext cx="125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X 100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Text Box 17"/>
            <p:cNvSpPr/>
            <p:nvPr/>
          </p:nvSpPr>
          <p:spPr>
            <a:xfrm>
              <a:off x="4371840" y="4081320"/>
              <a:ext cx="107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60</a:t>
              </a:r>
              <a:endParaRPr b="0" lang="en-US" sz="3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3868560" y="3591000"/>
              <a:ext cx="216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9</a:t>
              </a:r>
              <a:endParaRPr b="0" lang="en-US" sz="3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3841200" y="37767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= 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Text Box 20"/>
            <p:cNvSpPr/>
            <p:nvPr/>
          </p:nvSpPr>
          <p:spPr>
            <a:xfrm>
              <a:off x="6655680" y="37767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= 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Text Box 21"/>
            <p:cNvSpPr/>
            <p:nvPr/>
          </p:nvSpPr>
          <p:spPr>
            <a:xfrm>
              <a:off x="6948360" y="3776760"/>
              <a:ext cx="78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Browallia New"/>
                  <a:ea typeface="Browallia New"/>
                </a:rPr>
                <a:t>15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Line 22"/>
            <p:cNvSpPr/>
            <p:nvPr/>
          </p:nvSpPr>
          <p:spPr>
            <a:xfrm>
              <a:off x="4356000" y="4017960"/>
              <a:ext cx="11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75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Rectangle 24"/>
          <p:cNvSpPr/>
          <p:nvPr/>
        </p:nvSpPr>
        <p:spPr>
          <a:xfrm>
            <a:off x="355680" y="512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WordArt 15"/>
          <p:cNvSpPr txBox="1"/>
          <p:nvPr/>
        </p:nvSpPr>
        <p:spPr>
          <a:xfrm>
            <a:off x="6505560" y="95400"/>
            <a:ext cx="2048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8"/>
          <p:cNvSpPr/>
          <p:nvPr/>
        </p:nvSpPr>
        <p:spPr>
          <a:xfrm>
            <a:off x="289080" y="1935000"/>
            <a:ext cx="660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ตัวอย่างการคำนวณเกณฑ์การให้คะแนนระดับ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5 (1 </a:t>
            </a:r>
            <a:r>
              <a:rPr b="1" lang="hi-IN" sz="3200" spc="-1" strike="noStrike" u="sng">
                <a:solidFill>
                  <a:srgbClr val="ffffff"/>
                </a:solidFill>
                <a:uFillTx/>
                <a:latin typeface="Angsana New"/>
              </a:rPr>
              <a:t>แต้ม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ngsana Ne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174600" y="2421000"/>
            <a:ext cx="9145440" cy="186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ผลรวมของระยะเวลาให้บริการของผู้รับบริการทุกรายที่สถาบันอุดมศึกษาจัดเก็บข้อมูลตามปฏิทินที่สำนักงาน ก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ำหนด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ในกระบวนงานที่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ค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0,20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นาท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จำนวนผู้รับบริการทั้งหมดในกระบวนงานที่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ค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20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ค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281160" y="4941720"/>
            <a:ext cx="9145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ngsana New"/>
              </a:rPr>
              <a:t>ดังนั้น ระยะเวลาเฉลี่ยที่ส่วนราชการสามารถให้บริการได้ในแต่ละกระบวนงาน  คือ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51 </a:t>
            </a:r>
            <a:r>
              <a:rPr b="1" lang="hi-IN" sz="2800" spc="-1" strike="noStrike">
                <a:solidFill>
                  <a:srgbClr val="ffffff"/>
                </a:solidFill>
                <a:latin typeface="Angsana New"/>
              </a:rPr>
              <a:t>นาท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3355920" y="4224240"/>
            <a:ext cx="115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3427560" y="4219560"/>
            <a:ext cx="107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00 </a:t>
            </a:r>
            <a:r>
              <a:rPr b="1" i="1" lang="hi-IN" sz="2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คน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24280" y="3849840"/>
            <a:ext cx="21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0,200 </a:t>
            </a:r>
            <a:r>
              <a:rPr b="1" i="1" lang="hi-IN" sz="2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นาท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4974480" y="39020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5224320" y="390204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51 </a:t>
            </a:r>
            <a:r>
              <a:rPr b="1" lang="hi-IN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นาที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/</a:t>
            </a:r>
            <a:r>
              <a:rPr b="1" lang="hi-IN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ค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355680" y="512640"/>
            <a:ext cx="8229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WordArt 15"/>
          <p:cNvSpPr txBox="1"/>
          <p:nvPr/>
        </p:nvSpPr>
        <p:spPr>
          <a:xfrm>
            <a:off x="6505560" y="57240"/>
            <a:ext cx="2048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8"/>
          <p:cNvSpPr/>
          <p:nvPr/>
        </p:nvSpPr>
        <p:spPr>
          <a:xfrm>
            <a:off x="3581280" y="2209680"/>
            <a:ext cx="53722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เงื่อนไข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ให้ส่วนราชการระบุน้ำหนักที่จัดสรรให้แต่ละกระบวนงานที่สำนักงาน ก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เสนอ เพื่อนำไปประเมินผลในปีงบประมาณ พ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. 2552 </a:t>
            </a: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โดยกำหนดให้มีการถ่วงน้ำหนักตามลำดับความสำคัญของกระบวนงาน หากไม่ระบุน้ำหนัก  ให้ถือว่าทุกกระบวนงานมีน้ำหนักเท่ากัน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 New"/>
              </a:rPr>
              <a:t>ให้สถาบันอุดมศึกษาประกาศขั้นตอนและระยะเวลาการให้บริการในแต่ละกระบวนงานที่เป็นรอบระยะเวลามาตรฐานให้ประชาชนทราบอย่างชัดเจน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41200" y="2463840"/>
          <a:ext cx="3187800" cy="2895480"/>
        </p:xfrm>
        <a:graphic>
          <a:graphicData uri="http://schemas.openxmlformats.org/drawingml/2006/table">
            <a:tbl>
              <a:tblPr/>
              <a:tblGrid>
                <a:gridCol w="1148040"/>
                <a:gridCol w="203976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ดับคะแนน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เกณฑ์การให้คะแนน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</a:rPr>
                        <a:t>∑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Wi x Ci) = 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</a:rPr>
                        <a:t>∑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Wi x Ci) = </a:t>
                      </a: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</a:rPr>
                        <a:t>∑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Wi x Ci) = </a:t>
                      </a: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</a:rPr>
                        <a:t>∑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Wi x Ci) = </a:t>
                      </a: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</a:rPr>
                        <a:t>∑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Wi x Ci) = </a:t>
                      </a:r>
                      <a:r>
                        <a:rPr b="0" lang="th-TH" sz="2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1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Rectangle 33"/>
          <p:cNvSpPr/>
          <p:nvPr/>
        </p:nvSpPr>
        <p:spPr>
          <a:xfrm>
            <a:off x="355680" y="512640"/>
            <a:ext cx="8229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WordArt 15"/>
          <p:cNvSpPr txBox="1"/>
          <p:nvPr/>
        </p:nvSpPr>
        <p:spPr>
          <a:xfrm>
            <a:off x="6505560" y="133200"/>
            <a:ext cx="2048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3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8"/>
          <p:cNvSpPr/>
          <p:nvPr/>
        </p:nvSpPr>
        <p:spPr>
          <a:xfrm>
            <a:off x="-38160" y="1695600"/>
            <a:ext cx="9144000" cy="5119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หมายเหตุ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ในปีงบประมาณ พ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 2552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กำหนดให้สถาบันอุดมศึกษาจัดเก็บข้อมูลผลการดำเนินงานจริง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9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เดือน คือตั้งแต่เดือนมกราคม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552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ถึง เดือนกันยายน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552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เพื่อใช้เป็นข้อมูลผลการปฏิบัติราชการตามคำรับรองการปฏิบัติราชการ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หากสถาบันอุดมศึกษาไม่มีการประกาศขั้นตอนและระยะเวลาการให้บริการในแต่ละกระบวนงานที่เป็นรอบระยะเวลามาตรฐาน ให้ประชาชนทราบอย่างชัดเจน จะถูกปรับลดคะแนนลง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0.5000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คะแนนจากคะแนนที่ได้รับของตัวชี้วัดนี้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114480" y="5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355680" y="398520"/>
            <a:ext cx="8229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WordArt 15"/>
          <p:cNvSpPr txBox="1"/>
          <p:nvPr/>
        </p:nvSpPr>
        <p:spPr>
          <a:xfrm>
            <a:off x="6505560" y="133200"/>
            <a:ext cx="2048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8"/>
          <p:cNvSpPr/>
          <p:nvPr/>
        </p:nvSpPr>
        <p:spPr>
          <a:xfrm>
            <a:off x="355680" y="1962000"/>
            <a:ext cx="8508960" cy="5790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มายเหตุ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สถาบันอุดมศึกษาไม่สามารถแสดงทะเบียนหรือบันทึกระยะเวลาการให้บริการตามวันในปฏิทินที่สำนักงาน ก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กำหนดให้จัดเก็บข้อมูลได้ จะถูกปรับลดคะแนนลง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0.5000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คะแนนจากคะแนนที่ได้รับของตัวชี้วัดนี้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ากผู้ประเมินสุ่มกระบวนงานเพื่อประเมินผล ณ สถานที่จริง และพบว่าทะเบียนหรือบันทึกระยะเวลาการให้บริการตามวันในปฏิทินที่สำนักงาน 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ำหนดให้จัดเก็บข้อมูล ขาดความสมบูรณ์หรือขาดความน่าเชื่อถือ จะถูกปรับลดคะแนนลง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0.200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ะแนนจากคะแนนที่ได้รับของตัวชี้วัดนี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609480" y="115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Angsan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355680" y="512640"/>
            <a:ext cx="8229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0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รักษามาตรฐานระยะเวลาการให้บริก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WordArt 15"/>
          <p:cNvSpPr txBox="1"/>
          <p:nvPr/>
        </p:nvSpPr>
        <p:spPr>
          <a:xfrm>
            <a:off x="6505560" y="133200"/>
            <a:ext cx="2048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บ่งเป็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ณ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.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ำหรับสถาบันที่ไม่ดำเนิน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PMQA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่อเนื่อง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ำหรับสถาบันที่ดำเนิน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PMQA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่อเนื่อ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WordArt 5"/>
          <p:cNvSpPr txBox="1"/>
          <p:nvPr/>
        </p:nvSpPr>
        <p:spPr>
          <a:xfrm>
            <a:off x="2371680" y="2933640"/>
            <a:ext cx="518004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ิติ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4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7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น้ำหนัก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30 )</a:t>
            </a:r>
            <a:endParaRPr b="1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05" name="WordArt 6"/>
          <p:cNvSpPr txBox="1"/>
          <p:nvPr/>
        </p:nvSpPr>
        <p:spPr>
          <a:xfrm>
            <a:off x="2382840" y="4946760"/>
            <a:ext cx="518004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ิติ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4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ม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น้ำหนัก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30 )</a:t>
            </a:r>
            <a:endParaRPr b="1" lang="en-US" sz="28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06" name="WordArt 15"/>
          <p:cNvSpPr txBox="1"/>
          <p:nvPr/>
        </p:nvSpPr>
        <p:spPr>
          <a:xfrm>
            <a:off x="6791400" y="1333440"/>
            <a:ext cx="20476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314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2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ุณภาพของการกำกับดูแลตามหน้าที่และบทบาทของสภามหาวิทยาลัยและการถ่ายทอดเป้าหมายตามยุทธศาสตร์ของมหาวิทยาลัยสู่การปฏิบัต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4835-0212-4D99-81A9-2B9E192611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ตัวยึดเนื้อหา 2"/>
          <p:cNvSpPr/>
          <p:nvPr/>
        </p:nvSpPr>
        <p:spPr>
          <a:xfrm>
            <a:off x="458640" y="3486240"/>
            <a:ext cx="82296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3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ในการเปิดโอกาสให้ประชาชนเข้ามามีส่วนร่วมในการแสดงความคิดเห็นและร่วมติดตามตรวจสอบผลการปฏิบัติราชการ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WordArt 7"/>
          <p:cNvSpPr txBox="1"/>
          <p:nvPr/>
        </p:nvSpPr>
        <p:spPr>
          <a:xfrm>
            <a:off x="4138560" y="4765680"/>
            <a:ext cx="45529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4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12" name="AutoShape 8"/>
          <p:cNvSpPr/>
          <p:nvPr/>
        </p:nvSpPr>
        <p:spPr>
          <a:xfrm rot="13780200">
            <a:off x="3180240" y="4626720"/>
            <a:ext cx="782640" cy="5079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WordArt 9"/>
          <p:cNvSpPr txBox="1"/>
          <p:nvPr/>
        </p:nvSpPr>
        <p:spPr>
          <a:xfrm>
            <a:off x="2911320" y="5589720"/>
            <a:ext cx="29368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14" name="WordArt 15"/>
          <p:cNvSpPr txBox="1"/>
          <p:nvPr/>
        </p:nvSpPr>
        <p:spPr>
          <a:xfrm>
            <a:off x="6467400" y="324000"/>
            <a:ext cx="2048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292D-2DF5-41DB-92AC-269A8AC62D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cc"/>
                </a:solidFill>
                <a:latin typeface="Angsana New"/>
              </a:rPr>
              <a:t>เปรียบเทียบน้ำหนักของมิติในภาพรวม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64960" y="1052640"/>
          <a:ext cx="8649000" cy="4984560"/>
        </p:xfrm>
        <a:graphic>
          <a:graphicData uri="http://schemas.openxmlformats.org/drawingml/2006/table">
            <a:tbl>
              <a:tblPr/>
              <a:tblGrid>
                <a:gridCol w="1359000"/>
                <a:gridCol w="1727280"/>
                <a:gridCol w="1930320"/>
                <a:gridCol w="1854360"/>
                <a:gridCol w="177804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ิติที่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5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5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5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5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รณีสถาบันอุดมศึกษาที่ดำเนินการ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PMQA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เนื่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4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พัฒนาระบบฐานข้อมูลอุดมศึกษาด้านนักศึกษา บุคลากร หลักสูตรและการเงินอุดมศึกษา และระบบภาวะ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ารมีงานทำของบัณฑิต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71BB-1669-4F15-8076-AC52EE8083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WordArt 6"/>
          <p:cNvSpPr txBox="1"/>
          <p:nvPr/>
        </p:nvSpPr>
        <p:spPr>
          <a:xfrm>
            <a:off x="1936800" y="4765680"/>
            <a:ext cx="541800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8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18" name="AutoShape 7"/>
          <p:cNvSpPr/>
          <p:nvPr/>
        </p:nvSpPr>
        <p:spPr>
          <a:xfrm rot="16200000">
            <a:off x="3744000" y="3382200"/>
            <a:ext cx="944640" cy="7840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WordArt 9"/>
          <p:cNvSpPr txBox="1"/>
          <p:nvPr/>
        </p:nvSpPr>
        <p:spPr>
          <a:xfrm>
            <a:off x="190440" y="5734080"/>
            <a:ext cx="87249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สำนักงานคณะกรรมการการอุดมศึกษา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สกอ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.)</a:t>
            </a:r>
            <a:endParaRPr b="1" lang="en-US" sz="2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457200" y="11448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WordArt 15"/>
          <p:cNvSpPr txBox="1"/>
          <p:nvPr/>
        </p:nvSpPr>
        <p:spPr>
          <a:xfrm>
            <a:off x="6467400" y="324000"/>
            <a:ext cx="2048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แผนพัฒนาบุคลากรและการจัดการความรู้เพื่อพัฒนาบุคลากรของสถาบันอุดมศึกษ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B850-2D70-42A6-BE22-D5C2B10F80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WordArt 6"/>
          <p:cNvSpPr txBox="1"/>
          <p:nvPr/>
        </p:nvSpPr>
        <p:spPr>
          <a:xfrm>
            <a:off x="2506680" y="4506840"/>
            <a:ext cx="4392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5+20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25" name="AutoShape 7"/>
          <p:cNvSpPr/>
          <p:nvPr/>
        </p:nvSpPr>
        <p:spPr>
          <a:xfrm rot="15928200">
            <a:off x="3980520" y="3569400"/>
            <a:ext cx="782640" cy="5079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457200" y="11448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WordArt 15"/>
          <p:cNvSpPr txBox="1"/>
          <p:nvPr/>
        </p:nvSpPr>
        <p:spPr>
          <a:xfrm>
            <a:off x="6467400" y="324000"/>
            <a:ext cx="2048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3"/>
          <p:cNvSpPr/>
          <p:nvPr/>
        </p:nvSpPr>
        <p:spPr>
          <a:xfrm>
            <a:off x="0" y="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43080" y="10854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6.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ปฏิบัติตามจรรยาบรรณวิชาชีพคณาจารย์ของสถาบันอุดมศึกษา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371D-3D7F-4DCF-9044-C3F34E3395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190440" y="1974960"/>
          <a:ext cx="8920080" cy="4913280"/>
        </p:xfrm>
        <a:graphic>
          <a:graphicData uri="http://schemas.openxmlformats.org/drawingml/2006/table">
            <a:tbl>
              <a:tblPr/>
              <a:tblGrid>
                <a:gridCol w="552240"/>
                <a:gridCol w="8367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ขั้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ตอ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รายละเอียดการดำเนิน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มีการแต่งตั้งกรรมการดำเนินงานตามจรรยาบรรณวิชาชีพคณาจารย์ประจำของสถาบันอุดมศึกษ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สถาบันอุดมศึกษาได้ดำเนินการส่งเสริมและกำกับดูแลให้อาจารย์ปฏิบัติตามจรรยาบรรณวิชาชีพคณาจารย์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 ตามประกาศ ก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พ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อ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วันที่ 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8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พ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ค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. 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สถาบันอุดมศึกษามีระบบและกลไกในการกำกับดูแลการปฏิบัติตามจรรยาบรรณวิชาชีพคณาจารย์ในด้านความสำเร็จและมาตรการดำเนินการกับผู้ไม่ปฏิบัติตามจรรยาบรรณวิชาชีพคณาจาร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มีการประเมินการดำเนินงานตามจรรยาบรรณวิชาชีพคณาจารย์ว่าสามารถนำไปใช้ได้อย่างมีประสิทธิผ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  <a:ea typeface="Cordia Ne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Angsana New"/>
                          <a:cs typeface="Cordia New"/>
                        </a:rPr>
                        <a:t>มีการนำผลการกำกับติดตามประเมินผลไปใช้ในการส่งเสริมการปฏิบัติตามจรรยาบรรณและการวางแผนป้องกันการกระทำผิดจรรยาบรรณ รวมทั้ง การทบทวนจรรยาบรรณวิชาชีพให้เหมาะสมทันสมัยยิ่งขึ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632" name="WordArt 30"/>
          <p:cNvSpPr txBox="1"/>
          <p:nvPr/>
        </p:nvSpPr>
        <p:spPr>
          <a:xfrm>
            <a:off x="6751800" y="1747800"/>
            <a:ext cx="21063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เดิม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33" name="AutoShape 31"/>
          <p:cNvSpPr/>
          <p:nvPr/>
        </p:nvSpPr>
        <p:spPr>
          <a:xfrm rot="12367200">
            <a:off x="7655040" y="1507320"/>
            <a:ext cx="598320" cy="252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WordArt 15"/>
          <p:cNvSpPr txBox="1"/>
          <p:nvPr/>
        </p:nvSpPr>
        <p:spPr>
          <a:xfrm>
            <a:off x="6462720" y="8892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7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ระสิทธิภาพของการสอนที่เน้นผู้เรียนเป็นสำคัญ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7AE8-C905-421B-8911-32D96F30A0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63600" y="2033640"/>
            <a:ext cx="8694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</a:rPr>
              <a:t>ประเด็นย่อยในการพิจารณา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</a:rPr>
              <a:t>7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</a:rPr>
              <a:t>ข้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1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าจารย์มีความรู้ความเข้าใจรู้เป้าหมายของการจัดการศึกษา และหลักสูตรการศึกษาอุดมศึกษ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าจารย์มีการวิเคราะห์ศักยภาพของผู้เรียนและเข้าใจผู้เรียนเป็นรายบุคคล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าจารย์มีความสามารถในการจัดประสบการณ์ที่เน้นผู้เรียนเป็นสำคัญ โดยการลดการถ่ายทอดความรู้เพิ่มการปฏิบัติจริงและการแลกเปลี่ยนเรียนรู้ระหว่างผู้เรีย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าจารย์มีความสามารถในการใช้เทคโนโลยีในการพัฒนาการเรียนรู้ของตนเองและผู้เรีย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WordArt 7"/>
          <p:cNvSpPr txBox="1"/>
          <p:nvPr/>
        </p:nvSpPr>
        <p:spPr>
          <a:xfrm>
            <a:off x="5608800" y="2166840"/>
            <a:ext cx="35352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3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39" name="AutoShape 8"/>
          <p:cNvSpPr/>
          <p:nvPr/>
        </p:nvSpPr>
        <p:spPr>
          <a:xfrm rot="13780200">
            <a:off x="4994280" y="2131920"/>
            <a:ext cx="598320" cy="252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0" y="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WordArt 15"/>
          <p:cNvSpPr txBox="1"/>
          <p:nvPr/>
        </p:nvSpPr>
        <p:spPr>
          <a:xfrm>
            <a:off x="6462720" y="8892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7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ระสิทธิภาพของการสอนที่เน้นผู้เรียนเป็นสำคัญ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357-B18B-4A1B-AFC2-0CACDC10B4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49200" y="1990800"/>
            <a:ext cx="86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</a:rPr>
              <a:t>ประเด็นย่อยในการพิจารณา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</a:rPr>
              <a:t>7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</a:rPr>
              <a:t>ข้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279360" y="2558880"/>
            <a:ext cx="869472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าจารย์มีการประเมินผลการเรียนการสอนที่สอดคล้องกับสภาพการเรียนรู้ที่จัดให้ผู้เรียนและอิงพัฒนาการของผู้เรียนเป็นการประเมินเพื่อพัฒนาการเรียนรู้และการประเมินเพื่อตัดสินผลการเรียนรู้โดยคำนึงถึงความแตกต่างระหว่างบุคคล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6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าจารย์มีการนำผลประเมินมาปรับเปลี่ยนการเรียนการสอนเพื่อพัฒนาผู้เรียนให้เต็มตามศักยภา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7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าจารย์มีการวิจัยเพื่อพัฒนาสื่อและการเรียนรู้ของผู้เรียนและนำผลไปใช้พัฒนาผู้เรีย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WordArt 7"/>
          <p:cNvSpPr txBox="1"/>
          <p:nvPr/>
        </p:nvSpPr>
        <p:spPr>
          <a:xfrm>
            <a:off x="5608800" y="2166840"/>
            <a:ext cx="35352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3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47" name="AutoShape 8"/>
          <p:cNvSpPr/>
          <p:nvPr/>
        </p:nvSpPr>
        <p:spPr>
          <a:xfrm rot="13780200">
            <a:off x="4994280" y="2131920"/>
            <a:ext cx="598320" cy="252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WordArt 15"/>
          <p:cNvSpPr txBox="1"/>
          <p:nvPr/>
        </p:nvSpPr>
        <p:spPr>
          <a:xfrm>
            <a:off x="6462720" y="8892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7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ระสิทธิภาพของการสอนที่เน้นผู้เรียนเป็นสำคัญ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95E4-E1EA-4F60-8E7D-41333920C5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73160" y="2751120"/>
          <a:ext cx="8856720" cy="338292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0120"/>
                <a:gridCol w="1771560"/>
                <a:gridCol w="1771920"/>
              </a:tblGrid>
              <a:tr h="581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เกณฑ์การให้คะแน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าจารย์ประจำ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        ส่วนใหญ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ร้อยละ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5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ฏิบัต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–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ระเด็นย่อ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าจารย์ประจำ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         ส่วนใหญ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ร้อยละ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5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ฏิบัต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ด้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–4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ระเด็นย่อ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าจารย์ประจำ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         ส่วนใหญ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ร้อยละ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5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ฏิบัต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ด้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             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ระเด็นย่อ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าจารย์ประจ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ส่วนใหญ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ร้อ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ยละ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5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ฏิบัต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ด้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ระเด็นย่อ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าจารย์ประจ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ส่วนใหญ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ร้อยละ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5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ฏิบัต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ด้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ระเด็นย่อ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653" name="WordArt 33"/>
          <p:cNvSpPr txBox="1"/>
          <p:nvPr/>
        </p:nvSpPr>
        <p:spPr>
          <a:xfrm>
            <a:off x="5608800" y="2166840"/>
            <a:ext cx="35352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(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3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54" name="AutoShape 34"/>
          <p:cNvSpPr/>
          <p:nvPr/>
        </p:nvSpPr>
        <p:spPr>
          <a:xfrm rot="13780200">
            <a:off x="4994280" y="2131920"/>
            <a:ext cx="598320" cy="252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WordArt 15"/>
          <p:cNvSpPr txBox="1"/>
          <p:nvPr/>
        </p:nvSpPr>
        <p:spPr>
          <a:xfrm>
            <a:off x="6462720" y="8892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18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พัฒนาและปรับปรุงกระบวนการที่สร้างคุณค่า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91F0-7E33-4C2F-8069-BCD42B84FB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WordArt 7"/>
          <p:cNvSpPr txBox="1"/>
          <p:nvPr/>
        </p:nvSpPr>
        <p:spPr>
          <a:xfrm>
            <a:off x="3112920" y="4518000"/>
            <a:ext cx="29368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60" name="AutoShape 8"/>
          <p:cNvSpPr/>
          <p:nvPr/>
        </p:nvSpPr>
        <p:spPr>
          <a:xfrm rot="16200000">
            <a:off x="3961440" y="3439440"/>
            <a:ext cx="1292400" cy="566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0" y="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WordArt 15"/>
          <p:cNvSpPr txBox="1"/>
          <p:nvPr/>
        </p:nvSpPr>
        <p:spPr>
          <a:xfrm>
            <a:off x="6462720" y="8892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2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การพัฒนาคุณภาพการบริหารจัดการภาครัฐ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PMQA) 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ำหรับสถาบันอุดมศึกษาดำเนินการ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PMQ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่อเนื่อง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แห่ง ได้แก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ตัวยึดหมายเลขภาพนิ่ง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236-8FDD-4595-8445-C58CE49808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71000" y="114120"/>
            <a:ext cx="45910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การพัฒนาสถาบัน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รณีที่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0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6" name="WordArt 6"/>
          <p:cNvSpPr txBox="1"/>
          <p:nvPr/>
        </p:nvSpPr>
        <p:spPr>
          <a:xfrm>
            <a:off x="5619600" y="2138400"/>
            <a:ext cx="2854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1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ปี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667" name="AutoShape 7"/>
          <p:cNvSpPr/>
          <p:nvPr/>
        </p:nvSpPr>
        <p:spPr>
          <a:xfrm rot="13093800">
            <a:off x="4554000" y="2163600"/>
            <a:ext cx="928800" cy="5083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WordArt 9"/>
          <p:cNvSpPr txBox="1"/>
          <p:nvPr/>
        </p:nvSpPr>
        <p:spPr>
          <a:xfrm>
            <a:off x="6397560" y="1217520"/>
            <a:ext cx="246060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ชี้วัดกลาง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228600" y="3700440"/>
          <a:ext cx="8801280" cy="29289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  <a:gridCol w="293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ขอนแก่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บุรีรัมย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อุดรธาน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ราธิวาสราชนครินทร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หาสารคา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ธัญบุ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พระนครศรีอยุธย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้อยเอ็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ัตน์โกสินทร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ครสวรรค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หมู่บ้านจอมบึ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670" name="WordArt 15"/>
          <p:cNvSpPr txBox="1"/>
          <p:nvPr/>
        </p:nvSpPr>
        <p:spPr>
          <a:xfrm>
            <a:off x="6462720" y="88920"/>
            <a:ext cx="2048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ไม่เจรจา</a:t>
            </a:r>
            <a:endParaRPr b="1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61800" y="255240"/>
            <a:ext cx="8229600" cy="14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Garamond"/>
              </a:rPr>
              <a:t>กำหนดการส่งข้อมูลประกอบการเจรจ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2" name="WordArt 7"/>
          <p:cNvSpPr txBox="1"/>
          <p:nvPr/>
        </p:nvSpPr>
        <p:spPr>
          <a:xfrm>
            <a:off x="843120" y="2371680"/>
            <a:ext cx="7705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วันศุกร์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5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กันยายน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 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ที่ สมศ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.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160200"/>
            <a:ext cx="8229600" cy="81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Garamond"/>
              </a:rPr>
              <a:t>แบบฟอร์มประกอบการเจรจ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09520" y="1736640"/>
          <a:ext cx="8858160" cy="4694400"/>
        </p:xfrm>
        <a:graphic>
          <a:graphicData uri="http://schemas.openxmlformats.org/drawingml/2006/table">
            <a:tbl>
              <a:tblPr/>
              <a:tblGrid>
                <a:gridCol w="217440"/>
                <a:gridCol w="766800"/>
                <a:gridCol w="217440"/>
                <a:gridCol w="760680"/>
                <a:gridCol w="266400"/>
                <a:gridCol w="1581120"/>
                <a:gridCol w="476280"/>
                <a:gridCol w="457200"/>
                <a:gridCol w="476280"/>
                <a:gridCol w="476280"/>
                <a:gridCol w="503280"/>
                <a:gridCol w="297000"/>
                <a:gridCol w="295200"/>
                <a:gridCol w="296640"/>
                <a:gridCol w="293760"/>
                <a:gridCol w="293760"/>
                <a:gridCol w="1182600"/>
              </a:tblGrid>
              <a:tr h="82404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ประเด็นยุทธศาสตร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เป้าประสงค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go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ตัวชี้วัด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น้ำหนั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</a:t>
                      </a: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ร้อยละ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ข้อมูลพื้นฐาน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ปีงบประมาณ พ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ศ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0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เป้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0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หมาย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0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ปี </a:t>
                      </a: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5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เกณฑ์การให้คะแนน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หมายเหต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5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5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(9 </a:t>
                      </a:r>
                      <a:r>
                        <a:rPr b="0" lang="hi-IN" sz="12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เดือน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 u="sng">
                          <a:solidFill>
                            <a:srgbClr val="006600"/>
                          </a:solidFill>
                          <a:uFillTx/>
                          <a:latin typeface="Browallia New"/>
                          <a:cs typeface="Browallia New"/>
                        </a:rPr>
                        <a:t>มิติที่ </a:t>
                      </a:r>
                      <a:r>
                        <a:rPr b="1" lang="en-US" sz="1600" spc="-1" strike="noStrike" u="sng">
                          <a:solidFill>
                            <a:srgbClr val="006600"/>
                          </a:solidFill>
                          <a:uFillTx/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มิติด้านประสิทธิผล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ผลสำเร็จตามแผนปฏิบัติราชการ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ระดับความสำเร็จของร้อยละเฉลี่ยถ่วงน้ำหนักในการบรรลุเป้าหมายตามแผนปฏิบัติราชการของกระทรว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ใช้คะแนนการประเมินผลของกระทรว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ศึกษาธิการ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ระดับความสำเร็จของร้อยละเฉลี่ยถ่วงน้ำหนักในการบรรลุเป้าหมายตามแผนปฏิบัติราชการของสำนักงานคณะกรรมการการอุดมศึกษ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0" lang="hi-IN" sz="1600" spc="-1" strike="noStrike">
                          <a:solidFill>
                            <a:srgbClr val="006600"/>
                          </a:solidFill>
                          <a:latin typeface="Browallia New"/>
                          <a:cs typeface="Browallia New"/>
                        </a:rPr>
                        <a:t>ใช้คะแนนการประเมินผล ของสำนักงานคณะกรรมการ  การอุดมศึกษ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5" name="WordArt 562"/>
          <p:cNvSpPr txBox="1"/>
          <p:nvPr/>
        </p:nvSpPr>
        <p:spPr>
          <a:xfrm>
            <a:off x="690480" y="1009800"/>
            <a:ext cx="162900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ตัวอย่าง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4011-D7B3-45AB-9C21-53E0E4EE67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561960"/>
          <a:ext cx="8602560" cy="5315040"/>
        </p:xfrm>
        <a:graphic>
          <a:graphicData uri="http://schemas.openxmlformats.org/drawingml/2006/table">
            <a:tbl>
              <a:tblPr/>
              <a:tblGrid>
                <a:gridCol w="5140080"/>
                <a:gridCol w="2133720"/>
                <a:gridCol w="1328760"/>
              </a:tblGrid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ประเด็นการประเมินผลการปฏิบัติราชการ</a:t>
                      </a:r>
                      <a:r>
                        <a:rPr b="1" lang="en-US" sz="36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ตัวชี้วัด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น้ำหนั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ร้อยละ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มิติด้านประสิทธิผ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มิติด้านคุณภาพ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มิติด้านประสิทธิภาพของการปฏิบัติราชกา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  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4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ิติด้านการพัฒนาสถาบัน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รณีที่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ถาบันฯ ที่ไม่ดำเนินการ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PMQA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เนื่อง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7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มิติที่ </a:t>
                      </a: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Angsana New"/>
                        </a:rPr>
                        <a:t>4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ิติด้านการพัฒนาสถาบัน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รณีที่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ถาบันฯ ที่ดำเนินการ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PMQA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เนื่อง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40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รวม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18</a:t>
                      </a:r>
                      <a:r>
                        <a:rPr b="1" lang="th-TH" sz="36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 / 12  </a:t>
                      </a:r>
                      <a:r>
                        <a:rPr b="1" lang="th-TH" sz="36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00"/>
                          </a:solidFill>
                          <a:latin typeface="Angsana New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61800" y="693360"/>
            <a:ext cx="82296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Garamond"/>
              </a:rPr>
              <a:t>กำหนดการเจรจาเพื่อจัดทำคำรับรอง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7" name="WordArt 59"/>
          <p:cNvSpPr txBox="1"/>
          <p:nvPr/>
        </p:nvSpPr>
        <p:spPr>
          <a:xfrm>
            <a:off x="357120" y="2933640"/>
            <a:ext cx="84297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วันพุธ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7 -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วันศุกร์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19 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กันยายน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2551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ณ โรงแรมสยามซิตี้</a:t>
            </a:r>
            <a:endParaRPr b="1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57240" y="196920"/>
          <a:ext cx="9086760" cy="6332400"/>
        </p:xfrm>
        <a:graphic>
          <a:graphicData uri="http://schemas.openxmlformats.org/drawingml/2006/table">
            <a:tbl>
              <a:tblPr/>
              <a:tblGrid>
                <a:gridCol w="2857320"/>
                <a:gridCol w="2895840"/>
                <a:gridCol w="3333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วันพุธที่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17 </a:t>
                      </a: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กันยายน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25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พฤหัสบดีที่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18 </a:t>
                      </a:r>
                      <a:r>
                        <a:rPr b="0" lang="hi-IN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กันยายน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25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วันศุกร์ที่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19 </a:t>
                      </a: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กันยายน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25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ขอนแก่น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พระนค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ามคำแห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ครพน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ศรีวิชั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ศรีนครินทรวิโร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ราธิวาสราชนครินทร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ล้านน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ศิลป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งขลานครินทร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อีสาน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เรศว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หาสารคา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ตะวันออ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ุโขทัยธรรมาธิรา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แม่โจ้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ุวรรณภูม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ถาบันบัณฑิตพัฒนบริหารศาสตร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อุบลราชธาน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ัตน์โกสินทร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ถาบันบัณฑิตพัฒนศิลป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พระนค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ธัญบุร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จันทรเกษ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กษตรศาสตร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ทร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กรุงเทพ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บ้านสมเด็จเจ้าพระย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ธรรมศาสตร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ธนบุร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ถาบันการพลศึกษ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วนสุนันท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วนดุสิต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ถาบันเทคโนโลยีปทุมวั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38160" y="0"/>
          <a:ext cx="9105840" cy="6804000"/>
        </p:xfrm>
        <a:graphic>
          <a:graphicData uri="http://schemas.openxmlformats.org/drawingml/2006/table">
            <a:tbl>
              <a:tblPr/>
              <a:tblGrid>
                <a:gridCol w="3146400"/>
                <a:gridCol w="2852640"/>
                <a:gridCol w="3106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วันพุธที่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17 </a:t>
                      </a: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กันยายน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25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พฤหัสบดีที่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18 </a:t>
                      </a:r>
                      <a:r>
                        <a:rPr b="0" lang="hi-IN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กันยายน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25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วันศุกร์ที่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19 </a:t>
                      </a:r>
                      <a:r>
                        <a:rPr b="0" lang="hi-IN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กันยายน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25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ชียงใหม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หาสารคา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ศรีสะเก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ชียงรา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กลนค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้อยเอ็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ลำปา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อุดรธาน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กาฬสินธุ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ยะล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อุบลราชธาน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ล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งขล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ุรินทร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ชัยภูม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สุราษฎร์ธาน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บุรีรัมย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อุตรดิตถ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ครศรีธรรมรา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ครสวรรค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กำแพงเพช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ภูเก็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กาญจนบุ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พชรบูรณ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พชรบุ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หมู่บ้านจอมบึ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พิบูลสงครา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ครปฐ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ำไพพรรณ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เทพสต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พระนครศรีอยุธย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วไลยอลงกรณ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นครราชสีม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มรภ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ราชนครินทร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D256-1170-4248-9B28-2F5482EDAA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2361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บรรลุเป้าหมายตามแผนปฏิบัติราชการของกระทรวง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ระดับความสำเร็จของร้อยละเฉลี่ยถ่วงน้ำหนักในการบรรลุเป้าหมายตามแผนปฏิบัติราชการของสำนักงานคณะกรรมการการอุดมศึกษา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น้ำหนักร้อยละ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5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8"/>
          <p:cNvSpPr/>
          <p:nvPr/>
        </p:nvSpPr>
        <p:spPr>
          <a:xfrm>
            <a:off x="990720" y="2647800"/>
            <a:ext cx="2838240" cy="514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ตัวยึดหมายเลขภาพนิ่ง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CCCA-4A50-4A69-98DD-D92325979E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80880" y="1536480"/>
            <a:ext cx="85075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ารบรรลุเป้าหมายที่สะท้อนเอกลักษณ์และจุดเน้น รวมทั้งวัตถุประสงค์เฉพาะตามพระราชบัญญัติของสถาบันอุดมศึกษา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ตัวชี้วัดผลผลิต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ระบวนการ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ตัวชี้วัด น้ำหนักร้อยละ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1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000" spc="-1" strike="noStrike">
                <a:solidFill>
                  <a:srgbClr val="000000"/>
                </a:solidFill>
                <a:latin typeface="Angsana New"/>
              </a:rPr>
              <a:t>สถาบันอุดมศึกษากลุ่มที่ </a:t>
            </a:r>
            <a:r>
              <a:rPr b="1" lang="th-TH" sz="30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ต้องเป็นตัวชี้วัดเกี่ยวกับการผลิตบัณฑิตระดับบัณฑิตศึกษาความเป็นนานาชาติหรือการวิจัย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กำหนดให้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ตัวชี้วัดสถาบันอุดมศึกษา เลือก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ตัวชี้วัด น้ำหนักตัวชี้วัดละ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.5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คะแนน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กำหนดให้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ตัวชี้วัด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3.1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ร้อยละของบทความวิจัยที่ได้รับการอ้างอิง</a:t>
            </a:r>
            <a:r>
              <a:rPr b="1" lang="en-US" sz="3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ngsana New"/>
              </a:rPr>
              <a:t>(Citation)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ใน</a:t>
            </a:r>
            <a:r>
              <a:rPr b="1" lang="en-US" sz="3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ngsana New"/>
              </a:rPr>
              <a:t>refereed journal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หรือในฐานข้อมูลระดับชาติหรือระดับนานาชาติ ต่ออาจารย์ประจำและ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หรือนักวิจัยประจำ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(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ตัวชี้วัดที่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4.2.4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ปี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551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3.2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จำนวนผลงานวิจัยหรืองานสร้างสรรค์ที่ได้รับการจดทะเบียนสิทธิบัตรหรืออนุสิทธิบัตร</a:t>
            </a:r>
            <a:r>
              <a:rPr b="1" lang="en-US" sz="3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(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ตัวชี้วัดที่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4.2.5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ปี </a:t>
            </a: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2551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426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3.1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ร้อยละของบทความวิจัยที่ได้รับการอ้างอิง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</a:rPr>
              <a:t>(Citation)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ใน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</a:rPr>
              <a:t>refereed journal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หรือในฐานข้อมูลระดับชาติหรือระดับนานาชาติ ต่ออาจารย์ประจำและ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หรือนักวิจัยประจำ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(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ตัวชี้วัดที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4.2.4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ปี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2551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14520" y="3341520"/>
          <a:ext cx="7931160" cy="2961000"/>
        </p:xfrm>
        <a:graphic>
          <a:graphicData uri="http://schemas.openxmlformats.org/drawingml/2006/table">
            <a:tbl>
              <a:tblPr/>
              <a:tblGrid>
                <a:gridCol w="6886440"/>
                <a:gridCol w="1044720"/>
              </a:tblGrid>
              <a:tr h="26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บทความวิจัยที่ได้รับการอ้างอิง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citation)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ใน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refereed journal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หรือในฐานข้อมูลระดับชาติหรือระดับนานาชาติ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ในปีงบประมาณ พ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552 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ไม่นับซ้ำ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 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3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จำนวนอาจารย์ประจำและ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หรือนักวิจัยประจำทั้งหมดใ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ีงบประมาณ พ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ศ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52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Line 18"/>
          <p:cNvSpPr/>
          <p:nvPr/>
        </p:nvSpPr>
        <p:spPr>
          <a:xfrm>
            <a:off x="828720" y="4902120"/>
            <a:ext cx="654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08000" y="115920"/>
            <a:ext cx="446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มิติ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้านประสิทธิผล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้ำหนักร้อย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WordArt 29"/>
          <p:cNvSpPr txBox="1"/>
          <p:nvPr/>
        </p:nvSpPr>
        <p:spPr>
          <a:xfrm>
            <a:off x="4276800" y="285840"/>
            <a:ext cx="4638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เจรจา เป้าหมาย 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 New"/>
              </a:rPr>
              <a:t>และเกณฑ์การให้คะแนน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1:35:07Z</dcterms:created>
  <dc:creator>OEM </dc:creator>
  <dc:description/>
  <dc:language>en-US</dc:language>
  <cp:lastModifiedBy>toshiba</cp:lastModifiedBy>
  <dcterms:modified xsi:type="dcterms:W3CDTF">2008-08-28T07:24:37Z</dcterms:modified>
  <cp:revision>342</cp:revision>
  <dc:subject/>
  <dc:title>Slide 1</dc:title>
</cp:coreProperties>
</file>