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344-51F3-40E4-898B-A936B621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E47-9884-46D3-9CD1-428C304F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226-A5B8-44BD-BE5C-E7588DEC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917-9106-460F-A765-79CCEA61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F76-F85A-41C7-A396-EDB65F68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FD8-14D7-4F1C-AC97-F2AE4F8B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0FB-8F72-416A-BFB3-F2081923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AF2-DF29-4248-BBB4-EF4A1B8F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E41-85D0-4236-86B2-F17E7B97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1AF-E09C-4532-8062-DB741772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178-61BC-4611-9B66-20700ED2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1A8-7F33-4FC6-867E-BB25C02C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273B-BF51-441D-9B61-A194C91E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80360" cy="446436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ภาพรวมและความเชื่อมโยงการดำเนินการตามตัวชี้วัด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ระดับความสำเร็จของการพัฒนา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คุณภาพการบริหารจัดการภาครัฐ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ส่วนราชการระดับ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645336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0021"/>
          </a:solidFill>
          <a:ln w="28440">
            <a:solidFill>
              <a:srgbClr val="99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รายละเอียดและข้อมูลเพิ่มเติ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1989000"/>
            <a:ext cx="6842160" cy="15843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Download 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Tahoma"/>
              </a:rPr>
              <a:t>ข้อมูลได้ที่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http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ea typeface="Tahoma"/>
              </a:rPr>
              <a:t>//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: www.opdc.go.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1484280"/>
            <a:ext cx="1079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4151160"/>
            <a:ext cx="7632720" cy="21574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0 – 2356 9999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ต่อ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8848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8841  8806  89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3670200"/>
            <a:ext cx="1079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4581360"/>
            <a:ext cx="1541520" cy="1589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51280" y="645336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4280"/>
            <a:ext cx="8353440" cy="719280"/>
          </a:xfrm>
          <a:prstGeom prst="rect">
            <a:avLst/>
          </a:prstGeom>
          <a:solidFill>
            <a:srgbClr val="cc0000"/>
          </a:solidFill>
          <a:ln w="2844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ผนยุทธศาสตร์การพัฒนาระบบราชการไทย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พ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51-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พ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55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341360"/>
            <a:ext cx="7920360" cy="165600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0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ประเด็นยุทธศาสตร์ที่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3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มุ่งสู่การเป็นองค์การที่มีขีดสมรรถนะสู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บุคลากรมีความพร้อมและความสามารถในการเรียนรู้ คิดริเริ่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ปลี่ยนแปลง และปรับตัวได้อย่างเหมาะสมต่อสถานการณ์ต่าง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3573360"/>
            <a:ext cx="6480360" cy="1152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0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เป้าประสงค์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่วนราชการและหน่วยงานของ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ามารถพัฒนาขีดสมรรถนะและมีความพร้อ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ในการดำเนินงา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300640"/>
            <a:ext cx="7705800" cy="107964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0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ตัวชี้วัด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ระดับความสำเร็จของส่วนราชการและหน่วยงานของ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ในการปรับปรุงและยกระดับคุณภาพการบริหาร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ตามแผนพัฒนาองค์การ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cs typeface="Tahoma"/>
              </a:rPr>
              <a:t>ไม่น้อยกว่าร้อยละ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80 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cs typeface="Tahoma"/>
              </a:rPr>
              <a:t>โดยเฉลี่ย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836640"/>
            <a:ext cx="122400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3068640"/>
            <a:ext cx="122400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4797360"/>
            <a:ext cx="122400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95640" y="652464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7923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Tahoma"/>
              </a:rPr>
              <a:t>การกำหนดตัวชี้วัด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PMQA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54007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มุ่งเน้นให้ส่วนราชการปรับปรุงองค์การ โดยการวัดความสำเร็จของการดำเนินการและผลลัพธ์ของ </a:t>
            </a:r>
            <a:r>
              <a:rPr b="1" i="1" lang="th-TH" sz="2200" spc="-1" strike="noStrike">
                <a:solidFill>
                  <a:srgbClr val="ff9900"/>
                </a:solidFill>
                <a:latin typeface="Tahoma"/>
                <a:cs typeface="Tahoma"/>
              </a:rPr>
              <a:t>แผนพัฒนาองค์การ</a:t>
            </a:r>
            <a:r>
              <a:rPr b="1" lang="th-TH" sz="2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i="1" lang="th-TH" sz="2200" spc="-1" strike="noStrike">
                <a:solidFill>
                  <a:srgbClr val="ff9900"/>
                </a:solidFill>
                <a:latin typeface="Tahoma"/>
                <a:ea typeface="Tahoma"/>
              </a:rPr>
              <a:t>(</a:t>
            </a:r>
            <a:r>
              <a:rPr b="1" i="1" lang="en-US" sz="2200" spc="-1" strike="noStrike">
                <a:solidFill>
                  <a:srgbClr val="ff9900"/>
                </a:solidFill>
                <a:latin typeface="Tahoma"/>
                <a:ea typeface="Tahoma"/>
              </a:rPr>
              <a:t>Improvement Plan)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ส่งเสริมให้ส่วนราชการมีความเข้าใจ และนำเครื่องมือการบริหารจัดการที่เหมาะสม มาใช้เพื่อปรับปรุงและพัฒนาองค์การอย่างต่อเนื่อง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มุ่งเน้นให้ส่วนราชการสามารถดำเนินการตามแผนพัฒนาองค์การได้อย่างมีประสิทธิภาพ  และยกระดับคุณภาพการบริหารจัดการได้อย่างเป็นระบ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พัฒนา</a:t>
            </a:r>
            <a:r>
              <a:rPr b="1" i="1" lang="th-TH" sz="2200" spc="-1" strike="noStrike">
                <a:solidFill>
                  <a:srgbClr val="ff99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 </a:t>
            </a:r>
            <a:r>
              <a:rPr b="1" i="1" lang="th-TH" sz="2200" spc="-1" strike="noStrike">
                <a:solidFill>
                  <a:srgbClr val="ff9900"/>
                </a:solidFill>
                <a:latin typeface="Tahoma"/>
                <a:ea typeface="Tahoma"/>
              </a:rPr>
              <a:t>(</a:t>
            </a:r>
            <a:r>
              <a:rPr b="1" i="1" lang="en-US" sz="2200" spc="-1" strike="noStrike">
                <a:solidFill>
                  <a:srgbClr val="ff9900"/>
                </a:solidFill>
                <a:latin typeface="Tahoma"/>
                <a:ea typeface="Tahoma"/>
              </a:rPr>
              <a:t>Fundamental Level</a:t>
            </a:r>
            <a:r>
              <a:rPr b="1" i="1" lang="th-TH" sz="2200" spc="-1" strike="noStrike">
                <a:solidFill>
                  <a:srgbClr val="ff9900"/>
                </a:solidFill>
                <a:latin typeface="Tahoma"/>
                <a:ea typeface="Tahoma"/>
              </a:rPr>
              <a:t>)</a:t>
            </a:r>
            <a:r>
              <a:rPr b="1" lang="th-TH" sz="2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เพื่อเป็นกรอบการประเมินความสำเร็จของแผนพัฒนาองค์การ ซึ่งถือว่าเป็นกรอบแนวทางในการประเมินองค์กรเบื้องต้นและเป็นแนวทาง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“</a:t>
            </a: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การเปลี่ยนแปลงทีละขั้น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”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51280" y="638172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200"/>
            <a:ext cx="8209080" cy="549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ชื่อมโยงการดำเนินการพัฒนาคุณภาพการบริหารจัดการภาครั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2565360"/>
            <a:ext cx="719280" cy="1224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268280"/>
            <a:ext cx="3529080" cy="20894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องค์กรตามแนวทา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การบริหารจัดการแบบ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ADLI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ตรวจสอบการดำเนินการในแต่ล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ข้อคำถามตามเกณฑ์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PMQ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ผลการดำเนินงานจา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cs typeface="Tahoma"/>
              </a:rPr>
              <a:t>มาตรฐานที่กำหนดไว้ 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Check List</a:t>
            </a:r>
            <a:r>
              <a:rPr b="0" lang="th-TH" sz="15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076640"/>
            <a:ext cx="3529080" cy="266544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ผลการประเมินองค์กรด้ว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ตนเองตามมาตรฐาน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Check List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การแสดงผลกราฟระดับคะแน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การประเมินองค์กร ฯ รายหัวข้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จุดแข็ง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 OFIs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พร้อม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การจัดลำดับความสำคั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แผนปรับปรุงองค์กร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แผ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หลักฐานสำคัญ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40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หลักฐาน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cs typeface="Tahoma"/>
              </a:rPr>
              <a:t>รอตรวจที่ส่วนราชการ</a:t>
            </a:r>
            <a:r>
              <a:rPr b="0" lang="th-TH" sz="15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3502080"/>
            <a:ext cx="71892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1125360"/>
            <a:ext cx="3816360" cy="24480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ระดับความสำเร็จของการพัฒนาคุณ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ของส่วนราชการ ตามเกณฑ์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MQA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cs typeface="Tahoma"/>
              </a:rPr>
              <a:t>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ภาคบังคั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สมัครใ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ละหมว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แผนพัฒนาองค์การรายหมว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ับปรุงองค์การตามแผนที่กำหน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องค์การตามเกณฑ์ฯ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จัดทำแผนพัฒนาองค์การปี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3933720"/>
            <a:ext cx="4248360" cy="28800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แผนพัฒนาองค์การป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2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Tahoma"/>
              </a:rPr>
              <a:t>30 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cs typeface="Tahoma"/>
              </a:rPr>
              <a:t>ม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cs typeface="Tahoma"/>
              </a:rPr>
              <a:t>ค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Tahoma"/>
              </a:rPr>
              <a:t>52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แสดงตัวชี้วัดผลลัพธ์ แผนพัฒ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องค์การป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2 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Tahoma"/>
              </a:rPr>
              <a:t>30 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cs typeface="Tahoma"/>
              </a:rPr>
              <a:t>ม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cs typeface="Tahoma"/>
              </a:rPr>
              <a:t>ค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Tahoma"/>
              </a:rPr>
              <a:t>52</a:t>
            </a:r>
            <a:r>
              <a:rPr b="0" lang="th-TH" sz="14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ผลการดำเนินการ เทียบกับเกณฑ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PMQA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ะดับพื้นฐา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ผลลัพธ์การดำเนินการตาม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ผลการจัดทำลักษณะสำคัญของ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ายงานผลการประเมินองค์กรด้วยตนเ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ตามเกณฑ์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PMQA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ระดับพื้นฐา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แผนพัฒนาองค์การป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3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หมวดภาคบังคับ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หมวดสมัครใจ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692280"/>
            <a:ext cx="1150920" cy="358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ป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25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692280"/>
            <a:ext cx="1152720" cy="36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ป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3502080"/>
            <a:ext cx="719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42940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537372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429408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5878440"/>
            <a:ext cx="3603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58784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6381720"/>
            <a:ext cx="3603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4078440"/>
            <a:ext cx="647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4078440"/>
            <a:ext cx="0" cy="792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0360" y="4870440"/>
            <a:ext cx="647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51280" y="645336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35280" y="189000"/>
            <a:ext cx="6119640" cy="581400"/>
          </a:xfrm>
          <a:prstGeom prst="rect">
            <a:avLst/>
          </a:prstGeom>
          <a:solidFill>
            <a:srgbClr val="edf6f7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oadmap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การพัฒนาองค์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20960" y="1413000"/>
            <a:ext cx="2217600" cy="720720"/>
          </a:xfrm>
          <a:custGeom>
            <a:avLst/>
            <a:gdLst>
              <a:gd name="textAreaLeft" fmla="*/ 0 w 2217600"/>
              <a:gd name="textAreaRight" fmla="*/ 2217960 w 22176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1413000"/>
            <a:ext cx="2388960" cy="64764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68960" y="1413000"/>
            <a:ext cx="2460600" cy="6238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18760" y="14842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5480" y="1413000"/>
            <a:ext cx="16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520" y="2492280"/>
            <a:ext cx="8421480" cy="1800360"/>
          </a:xfrm>
          <a:prstGeom prst="roundRect">
            <a:avLst>
              <a:gd name="adj" fmla="val 16667"/>
            </a:avLst>
          </a:prstGeom>
          <a:solidFill>
            <a:srgbClr val="edf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2825640"/>
            <a:ext cx="2087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2720" y="28875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รมด้านบริ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437000"/>
            <a:ext cx="8569080" cy="1871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869000"/>
            <a:ext cx="2232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800" y="4903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รมด้านนโยบา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4720" y="272088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2720" y="304632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04632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828960"/>
            <a:ext cx="92170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กับผู้รับบริการ โดยออกแบบกระบวนงานและพัฒนาบุคลากรให้สามารถปฏิบัติงานได้อย่างมีประสิทธิ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69480" y="5881680"/>
            <a:ext cx="6756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ของยุทธศาสตร์และการนำไปปฏิบัติ  โดยมีระบบการวัดผลการดำเนินการที่เป็น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54160" y="1469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4720" y="321624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269244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318780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272088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321624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9440" y="453708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7440" y="48625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48625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9440" y="503244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4508640"/>
            <a:ext cx="50508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500364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7280" y="453708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07280" y="503244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9291800">
            <a:off x="256320" y="620280"/>
            <a:ext cx="13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3300"/>
                </a:solidFill>
                <a:latin typeface="Tahoma"/>
                <a:cs typeface="Tahoma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51280" y="638172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0"/>
            <a:ext cx="8713800" cy="87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ที่ </a:t>
            </a:r>
            <a:r>
              <a:rPr b="1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14</a:t>
            </a:r>
            <a:br>
              <a:rPr sz="1800"/>
            </a:b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ระดับความสำเร็จของการพัฒนาคุณภาพการบริหารจัดการภาครัฐ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น้ำหนัก ร้อยละ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919080"/>
          <a:ext cx="8686800" cy="5465880"/>
        </p:xfrm>
        <a:graphic>
          <a:graphicData uri="http://schemas.openxmlformats.org/drawingml/2006/table">
            <a:tbl>
              <a:tblPr/>
              <a:tblGrid>
                <a:gridCol w="601560"/>
                <a:gridCol w="2293920"/>
                <a:gridCol w="533520"/>
                <a:gridCol w="533160"/>
                <a:gridCol w="609840"/>
                <a:gridCol w="2895480"/>
                <a:gridCol w="1219320"/>
              </a:tblGrid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</a:t>
                      </a:r>
                      <a:br>
                        <a:rPr sz="1400"/>
                      </a:b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</a:t>
                      </a:r>
                      <a:br>
                        <a:rPr sz="1400"/>
                      </a:b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Arial"/>
                          <a:cs typeface="Tahoma"/>
                        </a:rPr>
                        <a:t>ระดับความสำเร็จของการดำเนินการตามแผนการพัฒนาองค์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การผ่านเกณฑ์คุณภาพการบริหารจัดการภาครัฐระดับพื้นฐา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ลักษณะสำคัญขององค์กร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15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ถาม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ตามแผนพัฒนาองค์การ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การประเมินองค์กรด้วยตนเองหมวด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-7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ามเกณฑ์คุณภาพการบริหารจัดการภาครัฐระดับพื้นฐา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แผนพัฒนาองค์การประจำปีงบประมาณ พ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 (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5183280" cy="633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be0e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507520" cy="566100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มีจำนวน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8 </a:t>
            </a:r>
            <a:r>
              <a:rPr b="1" lang="th-TH" sz="22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1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2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:</a:t>
            </a: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</a:t>
            </a:r>
            <a:br>
              <a:rPr sz="1800"/>
            </a:b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ตามแผนพัฒนาองค์การประจำปีงบประมาณ พ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3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การดำเนินการเมื่อเทียบกับเกณฑ์คุณภา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บริหารจัดการภาครัฐระดับพื้นฐา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4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ลัพธ์การดำเนินการตามแผนพัฒนาองค์กา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5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การจัดทำลักษณะสำคัญขององค์ก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6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การประเมินองค์กรด้วยตนเองตามเกณฑ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คุณภาพการบริหารจัดการภาครัฐระดับพื้นฐา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7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25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 u="sng">
                <a:solidFill>
                  <a:srgbClr val="ffffff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8: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ระดับคะแนนระดับความสำเร็จของกา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พัฒนาคุณภาพการบริหารจัดการภาครั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51280" y="645336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280" y="44280"/>
            <a:ext cx="5543640" cy="719280"/>
          </a:xfrm>
          <a:prstGeom prst="rect">
            <a:avLst/>
          </a:prstGeom>
          <a:solidFill>
            <a:srgbClr val="a50021"/>
          </a:solidFill>
          <a:ln w="28440">
            <a:solidFill>
              <a:srgbClr val="99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Tahoma"/>
              </a:rPr>
              <a:t>การส่งรายงา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334188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กำหนดส่งรายงาน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ช่วงเวล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ช่วงที่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1 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30 </a:t>
            </a:r>
            <a:r>
              <a:rPr b="1" lang="th-TH" sz="2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มกราคม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25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ช่วงที่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2 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วันที่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30 </a:t>
            </a:r>
            <a:r>
              <a:rPr b="1" lang="th-TH" sz="2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ตุลาคม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25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3-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437000"/>
            <a:ext cx="8064720" cy="194472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ดำเนินการตามแบบฟอร์มที่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1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ละ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จะต้องได้รับความเห็นชอบจากหัวหน้าส่วนราชการ</a:t>
            </a:r>
            <a:r>
              <a:rPr b="0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ละ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ส่งให้สำนักงาน ก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ร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r>
              <a:rPr b="1" lang="th-TH" sz="1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ภายในวันที่ </a:t>
            </a:r>
            <a:r>
              <a:rPr b="1" lang="th-TH" sz="1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30 </a:t>
            </a:r>
            <a:r>
              <a:rPr b="1" lang="th-TH" sz="1800" spc="-1" strike="noStrike" u="sng">
                <a:solidFill>
                  <a:srgbClr val="ffff00"/>
                </a:solidFill>
                <a:uFillTx/>
                <a:latin typeface="Tahoma"/>
                <a:cs typeface="Tahoma"/>
              </a:rPr>
              <a:t>มกราคม </a:t>
            </a:r>
            <a:r>
              <a:rPr b="1" lang="th-TH" sz="1800" spc="-1" strike="noStrike" u="sng">
                <a:solidFill>
                  <a:srgbClr val="ffff00"/>
                </a:solidFill>
                <a:uFillTx/>
                <a:latin typeface="Tahoma"/>
                <a:ea typeface="Tahoma"/>
              </a:rPr>
              <a:t>255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ทั้งนี้ หากส่วนราชการไม่สามารถส่งได้ทันภายในระยะเวลาที่กำหน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00"/>
                </a:solidFill>
                <a:latin typeface="Tahoma"/>
                <a:cs typeface="Tahoma"/>
              </a:rPr>
              <a:t>จะหักคะแนนจากคะแนนรวมของตัวชี้วัดนี้ 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0.5000 </a:t>
            </a:r>
            <a:r>
              <a:rPr b="1" lang="th-TH" sz="1800" spc="-1" strike="noStrike">
                <a:solidFill>
                  <a:srgbClr val="ffff00"/>
                </a:solidFill>
                <a:latin typeface="Tahoma"/>
                <a:cs typeface="Tahoma"/>
              </a:rPr>
              <a:t>คะแน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51280" y="645336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7201080" cy="851040"/>
          </a:xfrm>
          <a:prstGeom prst="rect">
            <a:avLst/>
          </a:prstGeom>
          <a:solidFill>
            <a:srgbClr val="000099"/>
          </a:solidFill>
          <a:ln w="28440">
            <a:solidFill>
              <a:srgbClr val="99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Tahoma"/>
              </a:rPr>
              <a:t>การสนับสนุนจากสำนักงาน ก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Tahoma"/>
              </a:rPr>
              <a:t>พ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Tahoma"/>
              </a:rPr>
              <a:t>ร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ที่ปรึกษาในการพัฒนาองค์การให้คำปรึกษาเชิงลึก</a:t>
            </a:r>
            <a:br>
              <a:rPr sz="2400"/>
            </a:b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รายส่วนราชการ  จำนวน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3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ครั้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ครั้งที่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1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ารจัดทำแผนพัฒนาองค์การป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ประมาณเดือนธันวาคม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2551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ครั้งที่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2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เทคนิคการปรับปรุงองค์ก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ประมาณเดือนกุมภาพันธ์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-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มีนาคม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2552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ครั้งที่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3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ติดตามผลการปรับปรุง และแนะนำการจัดท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แผนพัฒนาองค์การป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25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ประมาณเดือนกรกฎาคม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–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สิงหาคม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2552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6453360"/>
            <a:ext cx="1008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1:31:05Z</dcterms:created>
  <dc:creator>toshiba</dc:creator>
  <dc:description/>
  <dc:language>en-US</dc:language>
  <cp:lastModifiedBy>MoZarD</cp:lastModifiedBy>
  <dcterms:modified xsi:type="dcterms:W3CDTF">2008-11-27T15:09:22Z</dcterms:modified>
  <cp:revision>43</cp:revision>
  <dc:subject/>
  <dc:title>ความเชื่อมโยงการดำเนินการพัฒนาคุณภาพการบริหารจัดการภาครัฐของจังหวัด</dc:title>
</cp:coreProperties>
</file>