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724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898560" y="740880"/>
            <a:ext cx="4929120" cy="36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73200" y="4686120"/>
            <a:ext cx="537840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2C73F37-2D49-4492-9FB0-098913AD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C05B06A-E43E-44C6-BC1F-229B64797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96400" y="4686480"/>
            <a:ext cx="4930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0167408-CB0D-41AB-810D-BC93A0463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7080E10-D042-43D5-B6AD-C5E576603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08440" y="9371160"/>
            <a:ext cx="2914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A5513E5-C6EB-460B-89F2-D55E8FFDD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691563D-8C03-4D72-BAA0-35396E2E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D60B04C-773C-4396-928A-238A177B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C61C3F0-FF00-40A8-837E-E2A75800F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A08022F-4927-446E-AF8F-E496A3B9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0844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72C18B-6CCB-4603-80FE-E817F8C7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937080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0844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8985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3160" y="6324480"/>
            <a:ext cx="817560" cy="297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50920" y="260280"/>
            <a:ext cx="6408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71640" y="6580080"/>
            <a:ext cx="7777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1680" y="487440"/>
            <a:ext cx="0" cy="57610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8820000" y="764640"/>
            <a:ext cx="0" cy="568836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8893080" y="764640"/>
            <a:ext cx="0" cy="56883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73080" y="6497640"/>
            <a:ext cx="7775640" cy="158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333360"/>
            <a:ext cx="6337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23920" y="404640"/>
            <a:ext cx="0" cy="5904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730920" y="115920"/>
            <a:ext cx="2088720" cy="648720"/>
            <a:chOff x="6730920" y="115920"/>
            <a:chExt cx="2088720" cy="648720"/>
          </a:xfrm>
        </p:grpSpPr>
        <p:sp>
          <p:nvSpPr>
            <p:cNvPr id="11" name=""/>
            <p:cNvSpPr txBox="1"/>
            <p:nvPr/>
          </p:nvSpPr>
          <p:spPr>
            <a:xfrm>
              <a:off x="6730920" y="168120"/>
              <a:ext cx="368640" cy="52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cc"/>
                  </a:solidFill>
                  <a:latin typeface="Comic Sans MS"/>
                </a:rPr>
                <a:t>P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2" name=""/>
            <p:cNvSpPr txBox="1"/>
            <p:nvPr/>
          </p:nvSpPr>
          <p:spPr>
            <a:xfrm>
              <a:off x="7221240" y="228600"/>
              <a:ext cx="430560" cy="52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Comic Sans MS"/>
                </a:rPr>
                <a:t>M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7775280" y="115920"/>
              <a:ext cx="491760" cy="59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99ff"/>
                  </a:solidFill>
                  <a:latin typeface="Comic Sans MS"/>
                </a:rPr>
                <a:t>Q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" name=""/>
            <p:cNvSpPr txBox="1"/>
            <p:nvPr/>
          </p:nvSpPr>
          <p:spPr>
            <a:xfrm>
              <a:off x="8389080" y="228600"/>
              <a:ext cx="430560" cy="53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Comic Sans MS"/>
                </a:rPr>
                <a:t>A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820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Tahoma"/>
              </a:rPr>
              <a:t>การใช้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Tahoma"/>
              </a:rPr>
              <a:t>เกณฑ์คุณภาพการบริหารจัดการภาครัฐ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362124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Tahoma"/>
                <a:cs typeface="Tahoma"/>
              </a:rPr>
              <a:t>เพื่อการพัฒนาระบบราชกา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65600" y="580536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Tahoma"/>
              </a:rPr>
              <a:t>28  </a:t>
            </a:r>
            <a:r>
              <a:rPr b="1" lang="th-TH" sz="1600" spc="-1" strike="noStrike">
                <a:solidFill>
                  <a:srgbClr val="3333cc"/>
                </a:solidFill>
                <a:latin typeface="Tahoma"/>
                <a:cs typeface="Tahoma"/>
              </a:rPr>
              <a:t>พฤศจิกายน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Tahoma"/>
              </a:rPr>
              <a:t>25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88000" y="2349360"/>
            <a:ext cx="2205000" cy="403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48000" y="549360"/>
            <a:ext cx="2252880" cy="2768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00000" y="1484280"/>
            <a:ext cx="1575000" cy="2719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340000" y="3860640"/>
            <a:ext cx="3656160" cy="252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7451640" y="148428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24360" y="4581360"/>
            <a:ext cx="641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1280" y="141300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0360" y="333360"/>
            <a:ext cx="79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676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นวคิดในการพัฒนาเกณฑ์ฯ ระดับพื้นฐาน</a:t>
            </a:r>
            <a:r>
              <a:rPr b="1" lang="en-US" sz="4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มุ่งเน้นให้ส่วนราชการนำไป</a:t>
            </a:r>
            <a:r>
              <a:rPr b="0" lang="th-TH" sz="3600" spc="-1" strike="noStrike" u="sng">
                <a:solidFill>
                  <a:srgbClr val="006600"/>
                </a:solidFill>
                <a:uFillTx/>
                <a:latin typeface="Times New Roman"/>
              </a:rPr>
              <a:t>ปฏิบัติ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มากกว่าการเขียนรายงา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เน้นการวิเคราะห์กระบวนการอย่างเป็นระบบและการสร้างความ</a:t>
            </a:r>
            <a:r>
              <a:rPr b="0" lang="th-TH" sz="3600" spc="-1" strike="noStrike" u="sng">
                <a:solidFill>
                  <a:srgbClr val="800000"/>
                </a:solidFill>
                <a:uFillTx/>
                <a:latin typeface="Times New Roman"/>
              </a:rPr>
              <a:t>เชื่อมโยงกับผลลัพธ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ใช้</a:t>
            </a:r>
            <a:r>
              <a:rPr b="0" lang="th-TH" sz="3600" spc="-1" strike="noStrike" u="sng">
                <a:solidFill>
                  <a:srgbClr val="000099"/>
                </a:solidFill>
                <a:uFillTx/>
                <a:latin typeface="Times New Roman"/>
              </a:rPr>
              <a:t>ประโยชน์จากข้อมูล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และตัวชี้วัดที่ส่วนราชการเก็บอยู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เน้นการ</a:t>
            </a:r>
            <a:r>
              <a:rPr b="0" lang="th-TH" sz="3600" spc="-1" strike="noStrike" u="sng">
                <a:solidFill>
                  <a:srgbClr val="cc0066"/>
                </a:solidFill>
                <a:uFillTx/>
                <a:latin typeface="Times New Roman"/>
              </a:rPr>
              <a:t>ปรับปรุง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อย่างต่อเนื่อง</a:t>
            </a:r>
            <a:r>
              <a:rPr b="0" lang="th-TH" sz="3600" spc="-1" strike="noStrike" u="sng">
                <a:solidFill>
                  <a:srgbClr val="cc0066"/>
                </a:solidFill>
                <a:uFillTx/>
                <a:latin typeface="Times New Roman"/>
              </a:rPr>
              <a:t>และบูรณากา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 u="sng">
                <a:solidFill>
                  <a:srgbClr val="cc3300"/>
                </a:solidFill>
                <a:uFillTx/>
                <a:latin typeface="Times New Roman"/>
              </a:rPr>
              <a:t>เน้นการพัฒนา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มากกว่าการได้รางวั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60000"/>
            <a:ext cx="5472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5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ป้าหมายของ</a:t>
            </a:r>
            <a:r>
              <a:rPr b="1" lang="en-US" sz="45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MQA</a:t>
            </a:r>
            <a:r>
              <a:rPr b="1" lang="th-TH" sz="45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45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ม่</a:t>
            </a:r>
            <a:r>
              <a:rPr b="1" lang="th-TH" sz="45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เพื่อยกระดับ</a:t>
            </a:r>
            <a:r>
              <a:rPr b="0" lang="th-TH" sz="3600" spc="-1" strike="noStrike" u="sng">
                <a:solidFill>
                  <a:srgbClr val="3333cc"/>
                </a:solidFill>
                <a:uFillTx/>
                <a:latin typeface="Times New Roman"/>
              </a:rPr>
              <a:t>ขีดความสามารถ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ในการปฏิบัติงานและส่งมอบบริการสาธารณะ ซึ่งอาศัยวิธีการวิเคราะห์ข้อมูลอย่างเป็นระบบ กำหนดแนวทางและวิธีการ การนำไปปฏิบัติและติดตามประเมินผล การแลกเปลี่ยนเรียนรู้ สรุปบทเรียน บูรณาการ และการสร้างนวัตกรรม โดยเฉพาะ</a:t>
            </a:r>
            <a:r>
              <a:rPr b="0" lang="th-TH" sz="3600" spc="-1" strike="noStrike" u="sng">
                <a:solidFill>
                  <a:srgbClr val="ff3300"/>
                </a:solidFill>
                <a:uFillTx/>
                <a:latin typeface="Times New Roman"/>
              </a:rPr>
              <a:t>การเทียบเคียงขีดสมรรถนะ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mic Sans MS"/>
              </a:rPr>
              <a:t>(Benchmarking)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กับภาคเอกชน หรือหน่วยงานอื่น ๆ ที่มีประสิทธิภาพสูงกว่า หรือนำกรณี</a:t>
            </a:r>
            <a:r>
              <a:rPr b="0" lang="th-TH" sz="3600" spc="-1" strike="noStrike" u="sng">
                <a:solidFill>
                  <a:srgbClr val="990000"/>
                </a:solidFill>
                <a:uFillTx/>
                <a:latin typeface="Times New Roman"/>
              </a:rPr>
              <a:t>การปฏิบัติงานที่มีความเป็นเลิศ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mic Sans MS"/>
              </a:rPr>
              <a:t>(Best Practices)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มาเป็นแบบอย่า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244440"/>
            <a:ext cx="606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1.   </a:t>
            </a:r>
            <a:r>
              <a:rPr b="1" lang="en-US" sz="3200" spc="-1" strike="noStrike">
                <a:solidFill>
                  <a:srgbClr val="3333cc"/>
                </a:solidFill>
                <a:latin typeface="DilleniaDSE"/>
                <a:ea typeface="DilleniaUPC"/>
              </a:rPr>
              <a:t>Continuous 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682560"/>
            <a:ext cx="384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2.   </a:t>
            </a:r>
            <a:r>
              <a:rPr b="1" lang="en-US" sz="3200" spc="-1" strike="noStrike">
                <a:solidFill>
                  <a:srgbClr val="3333cc"/>
                </a:solidFill>
                <a:latin typeface="DilleniaDSE"/>
                <a:ea typeface="DilleniaUPC"/>
              </a:rPr>
              <a:t>Breakthrou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125360"/>
            <a:ext cx="36036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3.  </a:t>
            </a:r>
            <a:r>
              <a:rPr b="1" lang="en-US" sz="3200" spc="-1" strike="noStrike">
                <a:solidFill>
                  <a:srgbClr val="3333cc"/>
                </a:solidFill>
                <a:latin typeface="DilleniaDSE"/>
                <a:ea typeface="DilleniaUPC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819440"/>
            <a:ext cx="30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357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Breakthroug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4581360"/>
            <a:ext cx="278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illeniaDSE"/>
                <a:ea typeface="DilleniaUPC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46400" y="2440080"/>
            <a:ext cx="1233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351320" y="191772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35480" y="193680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24400" y="1576080"/>
            <a:ext cx="0" cy="37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5960" y="158112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313320" y="1217520"/>
            <a:ext cx="0" cy="400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80200" y="1217520"/>
            <a:ext cx="1739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17960" y="598320"/>
            <a:ext cx="806400" cy="13179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635280" y="1878120"/>
            <a:ext cx="4537080" cy="2148120"/>
            <a:chOff x="3635280" y="1878120"/>
            <a:chExt cx="4537080" cy="2148120"/>
          </a:xfrm>
        </p:grpSpPr>
        <p:sp>
          <p:nvSpPr>
            <p:cNvPr id="113" name=""/>
            <p:cNvSpPr/>
            <p:nvPr/>
          </p:nvSpPr>
          <p:spPr>
            <a:xfrm>
              <a:off x="3635280" y="4022640"/>
              <a:ext cx="10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620960" y="3220560"/>
              <a:ext cx="725760" cy="805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19360" y="3230640"/>
              <a:ext cx="285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5364000" y="1878120"/>
              <a:ext cx="2374920" cy="175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3564000" y="5257800"/>
            <a:ext cx="4824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435640" y="4164120"/>
            <a:ext cx="2521080" cy="213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329520"/>
            <a:ext cx="9144000" cy="792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คุณภาพการบริหารจัดการภาครัฐในระดับพื้นฐาน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Fundamental Level)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ประกอบด้ว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หมว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ว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52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แต่ละประเด็นเป็นการมุ่งเน้นกระบวนการและระบบงานพื้นฐานที่จำเป็นเพื่อตอบสนองประเด็นต่าง ๆ ของ พรฎ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ต่าง 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ต้องดำเนินการในแต่ละประเด็นให้ครบในทุกข้อและทุกหมว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71640" y="1283400"/>
            <a:ext cx="7488000" cy="975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3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พื้นฐาน” หมายถึง</a:t>
            </a:r>
            <a:r>
              <a:rPr b="1" lang="en-US" sz="3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  </a:t>
            </a:r>
            <a:r>
              <a:rPr b="1" lang="th-TH" sz="3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ระบวนการเริ่มได้ผล</a:t>
            </a:r>
            <a:r>
              <a:rPr b="1" lang="en-US" sz="3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3080" y="2225160"/>
            <a:ext cx="763128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มีกระบวนการ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ระบบที่มีประสิทธิภาพและทำอย่างเป็นระบบเพื่อรองรั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กิจกรรมในหัวข้อที่ประเมิน 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Tahoma"/>
              </a:rPr>
              <a:t>Appro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กระบวนการ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ระบบ  เป็นที่เข้าใจยอมรับ และเริ่มมีบทบาทสนับสนุ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กระบวนการ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กิจกรรมในกิจกรรมด้านนี้ 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Tahoma"/>
              </a:rPr>
              <a:t>Deploy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องค์กรเริ่มมีการประเมินประสิทธิผลของกระบวนการ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ระบบของกิจกรรมด้านนี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อาจมีการปรับปรุงให้กระบวนการ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cs typeface="Tahoma"/>
              </a:rPr>
              <a:t>ระบบให้ดีขึ้นบ้าง </a:t>
            </a:r>
            <a:r>
              <a:rPr b="0" lang="th-TH" sz="1800" spc="-1" strike="noStrike">
                <a:solidFill>
                  <a:srgbClr val="800000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Tahoma"/>
              </a:rPr>
              <a:t>Lear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กระบวนการ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ระบบเกี่ยวกับกิจกรรมด้านนี้สอดรับ สนับสนุนกิจกรรมระดั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8580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สำคัญขององค์กรที่ระบุไว้ในภารกิจ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ea typeface="Tahoma"/>
              </a:rPr>
              <a:t>/</a:t>
            </a:r>
            <a:r>
              <a:rPr b="0" lang="th-TH" sz="1800" spc="-1" strike="noStrike">
                <a:solidFill>
                  <a:srgbClr val="000099"/>
                </a:solidFill>
                <a:latin typeface="Tahoma"/>
                <a:cs typeface="Tahoma"/>
              </a:rPr>
              <a:t>ยุทธศาสตร์และแผนปฏิบัติการ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Tahoma"/>
              </a:rPr>
              <a:t>(Integ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8564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คุณภาพการบริหารจัดการภาครัฐในระดับพื้นฐาน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Fundamental Level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คุณภาพการบริหารจัดการภาครัฐในระดับพื้นฐาน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                                                     </a:t>
            </a:r>
            <a:r>
              <a:rPr b="1" lang="hi-IN" sz="3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โดยสรุป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มีแนวทาง 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มีระบบ</a:t>
            </a: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มีการนำไปใช้จริ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imes New Roman"/>
              </a:rPr>
              <a:t>เริ่มเกิดผ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มีการปรับปรุง เปลี่ยนแปล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มีการพัฒน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มีความก้าวหน้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เริ่มบูรณาการกับระบบงานอื่น 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480" y="3876840"/>
            <a:ext cx="1404720" cy="21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15920"/>
            <a:ext cx="7391160" cy="396720"/>
          </a:xfrm>
          <a:prstGeom prst="rect">
            <a:avLst/>
          </a:prstGeom>
          <a:solidFill>
            <a:srgbClr val="ffcc65"/>
          </a:soli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นำองค์ก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052640"/>
            <a:ext cx="1447920" cy="52920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กำหนด     ทิศทาง              ของส่วนราช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604800"/>
            <a:ext cx="2971800" cy="33516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.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ร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ำองค์ก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604800"/>
            <a:ext cx="2971800" cy="335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.2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รับผิดชอบต่อสังค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1052640"/>
            <a:ext cx="1371600" cy="52920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บทวน  ผลการดำเนินการของส่วนราช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31960" y="1052640"/>
            <a:ext cx="1316160" cy="52956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กำกับ        ดูแลตนเองที่ด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1052640"/>
            <a:ext cx="131292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ควา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รับผิดชอ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ต่อสังค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02440" y="1052640"/>
            <a:ext cx="141768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ดำเนินการอย่างม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จริย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1052640"/>
            <a:ext cx="129564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ห้การสนับสนุนต่อ        ชุมชนที่สำคั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280" y="1755720"/>
            <a:ext cx="1548000" cy="479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)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ิศทา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วิสัยทัศน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ป้าประสงค์ระยะสั้น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/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ยาว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3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่านิยม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4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ลดำเนินงานที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าดหวั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1) 3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ื่อสารทิศทาง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)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นโยบ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ระจายอำนา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นวัตก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วามคล่องตั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รียนรู้ของ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5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รียนรู้ของบุคค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6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ำถูกกฏหม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7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ำตามหลักจริย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1755720"/>
            <a:ext cx="1365480" cy="214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3)3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กับดูแลตนเองที่ด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3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้านการปฏิบัติ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3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้านการเงินป้องกันทุจริ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3.3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้านปกป้องประโยชน์ประเทศและ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1684440"/>
            <a:ext cx="1368720" cy="490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)4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บทวนผลดำเนิ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บทวนผลดำเนิ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ผลประเมินไปเพื่อดูการบรรลุเป้าหมาย และ เพื่อประเมินการตอบสนองการเปลี่ยนแปล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(5)5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2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ผลการทบทวนที่ผ่านม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)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ใช้ผลการทบทวนเพื่อจัดลำดับความสำคัญและเพื่อการปรับปรุงทั่วทั้ง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)7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ะเมินผลงานผู้บริหาร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7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ะเมินผู้บริหาร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ดับชั้นบังคับบัญช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7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ผลประเมินไปปรับระบบการนำ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1754280"/>
            <a:ext cx="1441440" cy="420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8)8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ดำเนินการต่องานที่มีผลกระทบทางล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ต่อสังคม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กิดเหตุการณ์แล้ว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ผลกระท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2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ประสงค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3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4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ค่า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หมายในการจัดการผลกระท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0)10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การผลกระทบทางล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0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คาดการณ์ผลกระทบทางลบ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ะเมิน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0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ตรียมการเชิงรุกต่อผลกระท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้องกัน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1754280"/>
            <a:ext cx="1368720" cy="100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1)1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วิธีปฏิบัติให้ทำอย่างมีจริย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ฏิบัติต่อคนภายนอก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40720" y="1754280"/>
            <a:ext cx="1224000" cy="191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2)12 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นับสนุนชุมชน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ลือกชุมช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ลือกกิจกรรมสนับสนุนชุมช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มีส่วนร่วม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280" y="1773360"/>
            <a:ext cx="1505160" cy="172872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200" y="3646440"/>
            <a:ext cx="1548000" cy="50328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00080" y="1846440"/>
            <a:ext cx="50472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4720" y="3876840"/>
            <a:ext cx="50472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680" y="4438800"/>
            <a:ext cx="1548000" cy="50292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4654440"/>
            <a:ext cx="50472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1773360"/>
            <a:ext cx="1366920" cy="216036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55920" y="2147760"/>
            <a:ext cx="504720" cy="273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5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280" y="5375160"/>
            <a:ext cx="1548000" cy="50328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28880" y="5591160"/>
            <a:ext cx="50472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46400" y="4581360"/>
            <a:ext cx="1368360" cy="93528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5229360"/>
            <a:ext cx="50508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1657440"/>
            <a:ext cx="1368720" cy="288108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429000"/>
            <a:ext cx="504720" cy="217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4292640"/>
            <a:ext cx="1441440" cy="187308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08720" y="5877000"/>
            <a:ext cx="50472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LD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40720" y="1773360"/>
            <a:ext cx="1224000" cy="187164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1773360"/>
            <a:ext cx="1368720" cy="1008000"/>
          </a:xfrm>
          <a:prstGeom prst="rect">
            <a:avLst/>
          </a:prstGeom>
          <a:noFill/>
          <a:ln w="190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00000" y="260280"/>
            <a:ext cx="7391520" cy="3355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างแผนเชิงยุทธศาสตร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293840"/>
            <a:ext cx="1625400" cy="38340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</a:t>
            </a:r>
            <a:br>
              <a:rPr sz="1200"/>
            </a:b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ยุทธศาสต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765000"/>
            <a:ext cx="3657600" cy="33516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.1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ยุทธศาสตร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65760" y="812880"/>
            <a:ext cx="3954240" cy="3351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.2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รถ่ายทอด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ลยุทธ์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หลักเพื่อน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ไปปฏิบั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1332000"/>
            <a:ext cx="1644840" cy="38340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885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ประสงค์        เชิงยุทธศาสต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6520" y="1338120"/>
            <a:ext cx="193680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ถ่ายทอด               แผนปฏิบัติการ       ไปสู่การปฏิบั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5440" y="1338120"/>
            <a:ext cx="2089440" cy="566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คาดการณ์             ผลการดำเนิน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930320"/>
            <a:ext cx="1801800" cy="285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3)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วางแผนยุทธศาสตร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ผน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ผน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ขั้นตอนและผู้เกี่ยวข้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รอบเวลาและเหตุ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ิจกรรมที่สอดคล้องกับกรอบเวล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4)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ปัจจัยมาประกอบการวางแผนยุทธศาสตร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ัจจัยภายใ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ัจจัยภายนอ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ัจจัยต่าง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รวบรว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วิเคราะห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1943280"/>
            <a:ext cx="2016360" cy="268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(15)3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ยุทธศาสตร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ยุทธศาสตร์เป้าประสงค์กลยุทธ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2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หมายและระยะเวล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3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ลำดับความสำคัญของเป้าประสงค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6)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ประเด็นยุทธศาสตร์เป้าประสงค์กลยุทธ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ผน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ผน 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ูความท้าท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ูความต้องการของผู้มีส่วนได้</a:t>
            </a:r>
            <a:br>
              <a:rPr sz="1000"/>
            </a:b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 ส่วนเสีย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ูความสมดุลของโอกาสระยะสั้นระยะยา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979640"/>
            <a:ext cx="1946520" cy="451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7)5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แผนสู่การ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วิธีการถ่ายทอ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สรรทรัพย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3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ำให้ผลมีความยั่งยื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18)6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ผนปฏิบัต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1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แผนปฏิบัติการ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6.2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แผนการตอบสนองต่อการเปลี่ยนแปลง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(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บริหารความเสี่ยง 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: RM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จากการเปลี่ยนแปลง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จากผู้รับบริการและ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(19)7</a:t>
            </a:r>
            <a:r>
              <a:rPr b="0" lang="en-US" sz="1000" spc="-1" strike="noStrike">
                <a:solidFill>
                  <a:srgbClr val="3333cc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แผนหลักด้านทรัพยากรบุคค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7.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7.2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0)8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บบการวัดผลสำเร็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8.1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ติดตามแผนปฏิบัต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8.2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ทำระบบการวัดผลสำเร็จของแผนปฏิบัต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เพื่อมุ่งไปในทิศทางเดียวกั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5440" y="1979640"/>
            <a:ext cx="2089440" cy="70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(21)9 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หม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1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หมายของตัวชี้วั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9.2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เป้าหมายเปรียบเทีย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916280"/>
            <a:ext cx="1800000" cy="136836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307332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3355920"/>
            <a:ext cx="1800000" cy="15130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452268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68360" y="3141720"/>
            <a:ext cx="2016360" cy="18000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466740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1916280"/>
            <a:ext cx="2016360" cy="10810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2781360"/>
            <a:ext cx="6476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1987560"/>
            <a:ext cx="1944720" cy="5047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27664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3500280"/>
            <a:ext cx="2089440" cy="7207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386064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4722840"/>
            <a:ext cx="1944720" cy="72216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84720" y="517032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5516640"/>
            <a:ext cx="1944720" cy="93816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617868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013360"/>
            <a:ext cx="2016000" cy="86148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ับปรุงกระบวนการวางแผนยุทธศาสตร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i-IN" sz="1000" spc="-1" strike="noStrike">
                <a:solidFill>
                  <a:srgbClr val="000000"/>
                </a:solidFill>
                <a:latin typeface="Tahoma"/>
                <a:cs typeface="Tahoma"/>
              </a:rPr>
              <a:t>นำผลการทบทวนการดำเนิน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hi-IN" sz="1000" spc="-1" strike="noStrike">
                <a:solidFill>
                  <a:srgbClr val="000000"/>
                </a:solidFill>
                <a:latin typeface="Tahoma"/>
                <a:cs typeface="Tahoma"/>
              </a:rPr>
              <a:t>ผลจากการประเมิ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5734080"/>
            <a:ext cx="50508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SP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39640" y="115920"/>
            <a:ext cx="8001000" cy="396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86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ห้ความสำคัญกับผู้รับบริการและผู้มีส่วนได้ส่วนเสี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2120" y="1546200"/>
            <a:ext cx="2286000" cy="38340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986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รู้เกี่ยวกับ               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บริการ และผู้มีส่วนได้ส่วนเสี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39640" y="620640"/>
            <a:ext cx="2971800" cy="578520"/>
          </a:xfrm>
          <a:prstGeom prst="rect">
            <a:avLst/>
          </a:prstGeom>
          <a:solidFill>
            <a:srgbClr val="ffdf9f"/>
          </a:solidFill>
          <a:ln w="0">
            <a:noFill/>
          </a:ln>
          <a:effectLst>
            <a:outerShdw dist="17819" dir="2700000" blurRad="0" rotWithShape="0">
              <a:srgbClr val="9986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.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รู้เกี่ยวกับ         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บริการ และผู้มีส่วนได้ส่วนเส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111640" y="620640"/>
            <a:ext cx="2971800" cy="821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.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สัมพันธ์และความ              พึงพอใจของผู้รับบริการ            และผู้มีส่วนได้ส่วนเส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809880" y="1565280"/>
            <a:ext cx="228600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สร้างความสัมพันธ์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ับผู้รับบร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และผู้มีส่วนได้ส่วนเสี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6400800" y="1546200"/>
            <a:ext cx="2286000" cy="52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ัดความพึงพอใจ         ของผู้รับบริการ                             และผู้มีส่วนได้ส่วนเสี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714240" y="2357280"/>
            <a:ext cx="2244960" cy="313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2)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ำแนกกลุ่มผู้รับบริการและ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ะเภท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/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ลุ่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คำนึงถึงผู้รับบริการที่พึงมีในอนาค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3)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รับฟังและเรียนรู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รับฟังและเรียนรู้ความต้องการความคาดหวั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ข้อมูลไปใช้ในการวางแผนปฏิบัติปรับปรุ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4)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บทวนปรับปรุงการรับฟังและเรียนรู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เหมาะส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852720" y="2205000"/>
            <a:ext cx="2230560" cy="42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5)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้างความสัมพันธ์เพื่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นองความคาดหวั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ร้างความประทับ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มีภาพลักษณ์ที่ด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มีผู้ใช้บริการเพิ่มขึ้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6)5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้างระบบที่ให้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้างระบบที่ให้ผู้รับบริการ และผู้มีส่วนได้เสีย สามารถติดต่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ขอข้อมู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ขอ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ขอร้อง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วิธีปฏิบัติ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บบติดตามการ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7)6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การข้อร้อง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ระบวนการจัด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วิธีการแก้ไขที่ทันท่วงท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วบรวมและวิเคราะห์นำไปเพื่อการปรับปรุ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8)7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บทวนปรับปรุงการสร้างความสัมพันธ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เหมาะส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6373800" y="2205000"/>
            <a:ext cx="2374920" cy="3920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29)8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วัดความพึงพอใจและไม่พึงพอ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8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วัดความพึงพอใจและไม่พึงพอ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ู้มีส่วนได้ส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8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ข้อมูลไปใช้เพื่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ร้างความประทับ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ำให้เกิดภาพลักษณ์ที่ด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ับปรุงการทำ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30)9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ติดตามเรื่องคุณภาพ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ได้ข้อมูลป้อนกลับทันท่วงท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นำไปใช้ต่อได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31)10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ปรียบเทียบข้อมูลความพึงพอ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ู้มีส่วนได้ส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32)1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บทวนปรับปรุงการวัดความพึงพอ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เหมาะส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714240" y="2357280"/>
            <a:ext cx="2243160" cy="114300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2428920" y="235728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714240" y="3643200"/>
            <a:ext cx="2243160" cy="114300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2428920" y="364320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3857760" y="4573440"/>
            <a:ext cx="2214360" cy="58428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5572080" y="483084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6357960" y="2214720"/>
            <a:ext cx="2357280" cy="171432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7643880" y="364320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8215200" y="3643200"/>
            <a:ext cx="50508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357960" y="4000680"/>
            <a:ext cx="2357280" cy="92844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5508720" y="429264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465880" y="357336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508720" y="256536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851280" y="5229360"/>
            <a:ext cx="2214720" cy="43164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5580000" y="5472000"/>
            <a:ext cx="504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3851280" y="3141720"/>
            <a:ext cx="2214720" cy="136692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8101080" y="461484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S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ความเป็นมา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พรฎ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หลักเกณฑ์และวิธีการบริหารกิจการบ้านเมืองที่ดีพ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ศ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. 254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แผนยุทธศาสตร์การพัฒนาระบบราชการไทย 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พ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ศ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. 2546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 255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กรอบการประเมินผลการปฏิบัติราชกา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imes New Roman"/>
              </a:rPr>
              <a:t>เกณฑ์รางวัลคุณภาพแห่งชาติของประเทศไท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152280"/>
            <a:ext cx="7391160" cy="396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ัด การวิเคราะห์ และการจัดการความรู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620640"/>
            <a:ext cx="2971800" cy="578520"/>
          </a:xfrm>
          <a:prstGeom prst="rect">
            <a:avLst/>
          </a:prstGeom>
          <a:solidFill>
            <a:srgbClr val="ffffb3"/>
          </a:solidFill>
          <a:ln w="0">
            <a:noFill/>
          </a:ln>
          <a:effectLst>
            <a:outerShdw dist="17819" dir="2700000" blurRad="0" rotWithShape="0">
              <a:srgbClr val="9898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4.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ัดและวิเคราะห์ผลการดำเนินการของส่วนราช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620640"/>
            <a:ext cx="2971800" cy="5785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4.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สาร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นเทศและความ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1314360"/>
            <a:ext cx="2232000" cy="8208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พร้อมใช้งานของข้อมู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และสารสนเท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1325520"/>
            <a:ext cx="2082960" cy="624960"/>
          </a:xfrm>
          <a:prstGeom prst="rect">
            <a:avLst/>
          </a:prstGeom>
          <a:solidFill>
            <a:srgbClr val="ffffb3"/>
          </a:solidFill>
          <a:ln w="0">
            <a:noFill/>
          </a:ln>
          <a:effectLst>
            <a:outerShdw dist="17819" dir="2700000" blurRad="0" rotWithShape="0">
              <a:srgbClr val="9898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ัดผลการดำเนิน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7440" y="1325520"/>
            <a:ext cx="2016000" cy="529560"/>
          </a:xfrm>
          <a:prstGeom prst="rect">
            <a:avLst/>
          </a:prstGeom>
          <a:solidFill>
            <a:srgbClr val="ffffb3"/>
          </a:solidFill>
          <a:ln w="0">
            <a:noFill/>
          </a:ln>
          <a:effectLst>
            <a:outerShdw dist="17819" dir="2700000" blurRad="0" rotWithShape="0">
              <a:srgbClr val="9898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ผลการดำเนิน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93080" y="1314360"/>
            <a:ext cx="1815840" cy="529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ความรู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2075040"/>
            <a:ext cx="2305080" cy="392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3)1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เลือกและใช้ข้อมู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1.1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เลือกรวบรวมข้อมูลสารสนเท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ที่สอดคล้องเชื่อมโย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เพื่อติดตามผลดำเนินงาน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1.2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ใช้ข้อมูลและสารสนเทศเพื่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สนับสนุนการตัดสิน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สนับสนุนให้เกิดนวัตก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4)2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ใช้ข้อมูลและสารสนเทศเชิงเปรียบเทียบเพื่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สนับสนุนการตัดสิน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สนับสนุนให้เกิดนวัตก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5)3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ปรับปรุงระบบการวัด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3.1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ทบทวนปรับปรุงระบบการวัด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ให้เหมาะส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3.2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จัดระบบการวัดผลให้ไวต่อการบ่งชี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จากการเปลี่ยนแปลงภายใ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จากการเปลี่ยนแปลงภายนอ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1440" y="1963800"/>
            <a:ext cx="2051280" cy="3444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1)9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การความรู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วบรวมถ่ายทอดจากบุคลากรใน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วบรวมถ่ายทอดจากคนอื่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ลกเปลี่ยนวิธีปฏิบัติที่เป็นเลิ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42)10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จัดการให้ข้อมูลสารสนเทศ ความรู้ ให้มีคุณสมบัติที่ดี รวมทั้งสิ้น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11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ประ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ครอบคลุ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ถูกต้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รวดเร็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เชื่อมโย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น่าเชื่อถื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สามารถในการเข้าถึ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สามารถในการตรวจสอ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มีส่วนร่วมในกระบวนการข้อมู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ความปลอดภ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รักษาความลั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2249640"/>
            <a:ext cx="2160720" cy="25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8)6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จัดการข้อมูลและสารสนเท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ให้พร้อมใช้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ผู้เกี่ยวข้องเข้าถึงได้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9)7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จัดการระบบอุปกรณ์ที่เกี่ยวกับสารสนเท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ปลอดภัย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ให้เชื่อถือได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ใช้งานง่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40)8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ทบทวนปรับปรุงระบบสารสนเทศและอุปกรณ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ให้เหมาะส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ทันส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7440" y="2035080"/>
            <a:ext cx="2014560" cy="161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(36)4 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ด็นที่มีการวิเคราะห์ข้อมูลเพื่อให้ผู้บริห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ทบทวนผลดำเนิน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วางแผนเชิงยุทธศาสตร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37)5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การสื่อสารผลวิเคราะห์ให้ผู้ปฏิบัติงานทุกระดั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66"/>
                </a:solidFill>
                <a:latin typeface="Tahoma"/>
                <a:cs typeface="Tahoma"/>
              </a:rPr>
              <a:t>เพื่อสนับสนุนการตัดสิน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39080" y="3218040"/>
            <a:ext cx="2016000" cy="9316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34360" y="3719520"/>
            <a:ext cx="649440" cy="2858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T 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3280" y="2397240"/>
            <a:ext cx="2251080" cy="744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7120" y="2924280"/>
            <a:ext cx="649080" cy="1998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T 1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3280" y="3313080"/>
            <a:ext cx="2251080" cy="331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40120" y="2276640"/>
            <a:ext cx="2108520" cy="64764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43560" y="2637000"/>
            <a:ext cx="4320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8080" y="5445000"/>
            <a:ext cx="2251080" cy="6480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49840" y="3046320"/>
            <a:ext cx="2127240" cy="45396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61200" y="3271680"/>
            <a:ext cx="433440" cy="214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T 5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39080" y="1992240"/>
            <a:ext cx="2016000" cy="1076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34360" y="2205000"/>
            <a:ext cx="64944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T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15920"/>
            <a:ext cx="7391160" cy="396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5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มุ่งเน้นทรัพยากรบุคค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1268280"/>
            <a:ext cx="1484280" cy="38340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และบริหาร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620640"/>
            <a:ext cx="2514600" cy="57852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.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ระบบงา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21080" y="1270080"/>
            <a:ext cx="1658880" cy="38340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จ้างงาน       และความก้าวหน้าในการ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65440" y="1268280"/>
            <a:ext cx="1484280" cy="67500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ระบบการ</a:t>
            </a:r>
            <a:br>
              <a:rPr sz="1200"/>
            </a:b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มินผลการปฏิบัติงานของ</a:t>
            </a:r>
            <a:br>
              <a:rPr sz="1200"/>
            </a:b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บุคลาก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19640" y="1270080"/>
            <a:ext cx="1820880" cy="383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 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พัฒนาบุคลาก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51640" y="620640"/>
            <a:ext cx="2514600" cy="5785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.2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รียนรู้ของบุคลากร  และการสร้างแรงจูงใ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92800" y="1271520"/>
            <a:ext cx="1771920" cy="7484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สร้างแรงจูงใจ         และการพัฒนาควา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้าวหน้าในหน้าที่การงาน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776240"/>
            <a:ext cx="1514520" cy="335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3)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การระบบ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บบที่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บบไม่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เกิดความร่วมมือ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ความคล่องตัว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การกระจายอำนา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สร้างความคิดริเริ่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กระตุ้นนวัตก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ทันความต้องการอยู่เสม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4)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วัฒนธรรมและความคิด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ละชุมชนมาใช้จัดระบบ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5)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ระบบสื่อสารภายใน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มีประสิทธิ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63640" y="2060640"/>
            <a:ext cx="1584360" cy="268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Tahoma"/>
              </a:rPr>
              <a:t>(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6)4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บบประเมินผลและการยกย่องชมเช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(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Individual Scorec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ระบบประเมินผลการปฏิบัติงานรวมถึงการแจ้งผลเพื่อให้พัฒนาและปรับปรุง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ระบบการยกย่องชมเชยจูง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มีขวัญกำลัง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ทำงานมีประสิทธิ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มีจิตสำนึกที่เน้นประโยชน์ของ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21080" y="1846440"/>
            <a:ext cx="1657440" cy="382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7)5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คุณลักษณะและทักษะ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มรรถนะหลั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มรรถนะประจำสา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สมรรถนะแต่ละกลุ่มตำแหน่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8)6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รหาว่าจ้าง  รักษ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6.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รหาว่าจ้าง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6.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รักษ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ด้วยการคำนึงถึงวัฒนธรรมความคิดของบุคลากรและชุมช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49)7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ตรียมบุคลากรและความก้าวหน้าใน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7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ตรียมบุคลากรในตำแหน่ง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7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ร้างความก้าวหน้าในหน้าที่การ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0)8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พัฒนาบุคลากรท้องถิ่นให้มีโอกาสก้าวหน้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19640" y="1774800"/>
            <a:ext cx="1873440" cy="451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1)9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พัฒน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ทำงานได้ตามแผนปฏิบัติการและบรรลุผ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เกิดความสมดุลระหว่างเป้าประสงค์กับความต้องการข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2)10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ให้การศึกษาและฝึกอบ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ครอบคลุมประเด็นสำคัญ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อบรมบุคลากรใหม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ริยธร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บริหารจัด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พัฒนาภาวะผู้น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วามปลอดภัยอาชีวอนามัยสิ่งแวดล้อมในการทำ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วามต้องการอื่นๆ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3)1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บริหารการฝึกอบ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1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หาความต้องการการฝึกอบ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1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ความต้องการการอบรมมาพัฒน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1.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ความรู้ในองค์กรมาพัฒน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4)1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พัฒนา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บบ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2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แบบไม่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37440" y="1962000"/>
            <a:ext cx="1727280" cy="2591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5)1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่งเสริมให้นำความรู้และทักษะจากการอบ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มาใช้ในการปฏิบัติ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6)1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ะเมินประสิทธิผลของการศึกษาอบ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4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ลระดับบุคค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4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ผลระดับ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7)15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ทำให้บุคลากรพัฒนาตนเ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ความก้าวหน้าใน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5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ช่วยเหลือ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5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ช่วยเหลือของหัวหน้า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9280" y="1773360"/>
            <a:ext cx="1513080" cy="143964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2920" y="202248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2637000"/>
            <a:ext cx="1584360" cy="86328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326556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19640" y="4221000"/>
            <a:ext cx="1584000" cy="129564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524196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59240" y="1773360"/>
            <a:ext cx="1833840" cy="100800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256536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19640" y="4508640"/>
            <a:ext cx="1873440" cy="180000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5400" y="6021360"/>
            <a:ext cx="5889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6000" y="2708280"/>
            <a:ext cx="172872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459640" y="321300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19640" y="1844640"/>
            <a:ext cx="1657080" cy="122400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288756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333360"/>
            <a:ext cx="7391160" cy="396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มุ่งเน้นทรัพยากรบุคค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81120" y="1562040"/>
            <a:ext cx="2154240" cy="52956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สภาพแวดล้อม ในการทำ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1562040"/>
            <a:ext cx="2165400" cy="69372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ข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ห้การสนับสนุนและ         สร้างความพึงพอใจ           แก่บุคลาก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836640"/>
            <a:ext cx="2514600" cy="57852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.3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ผาสุกและความ    พึงพอใจของบุคลาก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57440" y="2189160"/>
            <a:ext cx="2085840" cy="184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8)16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ระบบสภาพแวดล้อมการทำ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ถูกสุขอนาม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ความปลอดภ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้องกันภั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อุปกรณ์ให้มีความเหมาะสมใน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ตัวชี้วั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มีส่วนร่วม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59)17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ตรียมพร้อมต่อสภาวะฉุกเฉินและภัยพ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2360520"/>
            <a:ext cx="2160360" cy="393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0)18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ปัจจัยที่มีผลต่อความผาสุกพอใจจูง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ของบุคลากรทุกระดับทุกประเภ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1)19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สนับสนุนด้านนโยบายสวัสดิการการ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ให้ตรงความต้องการบุคลากรทุกระดับทุกประเภ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2)20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ะเมินความผาสุก ความพึงพอใจ แรงจูงใจ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0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ะเมินความผาสุก ความพึงพอใจ แรงจูงใจ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ทุกระดับทุกประเภทของบุคลา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ไม่เป็นทาง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0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และใช้ตัวชี้วัดประเมินความพอ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3)2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ชื่อมโยงผลประเมินความพอใจกับผลลัพธ์องค์ก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จัดลำดับการปรับปรุงความพอใจบรรยากาศและสภาพแวดล้อ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2997360"/>
            <a:ext cx="2160360" cy="71892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81720" y="347652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93800" y="2205000"/>
            <a:ext cx="2049480" cy="100800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7280" y="249228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88000" y="3789360"/>
            <a:ext cx="2160360" cy="115236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27640" y="4687920"/>
            <a:ext cx="72072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88000" y="2363760"/>
            <a:ext cx="2160360" cy="56052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32720" y="2637000"/>
            <a:ext cx="57600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R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44280"/>
            <a:ext cx="7391160" cy="396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6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กระบวน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1197000"/>
            <a:ext cx="3529080" cy="43848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ที่สร้างคุณค่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549360"/>
            <a:ext cx="4114800" cy="57852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6.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ที่สร้างคุณค่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549360"/>
            <a:ext cx="3886200" cy="55404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6.2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สนับสนุ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19640" y="1197000"/>
            <a:ext cx="3529080" cy="420120"/>
          </a:xfrm>
          <a:prstGeom prst="rect">
            <a:avLst/>
          </a:prstGeom>
          <a:solidFill>
            <a:srgbClr val="ebebff"/>
          </a:solidFill>
          <a:ln w="0">
            <a:noFill/>
          </a:ln>
          <a:effectLst>
            <a:outerShdw dist="17819" dir="2700000" blurRad="0" rotWithShape="0">
              <a:srgbClr val="8c8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สนับสนุ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1701720"/>
            <a:ext cx="3529080" cy="496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4)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ระบวนการสร้างคุณค่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กระบวนการสร้างคุณค่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1.2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สร้างคุณค่า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5)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ทำข้อกำหน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ทำข้อกำหนดที่สำคัญของกระบวนการสร้างคุณค่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2.2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ข้อกำหนดที่สำคัญขอ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6)3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ออกแบบกระบวนการสร้างคุณค่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ทั้ง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ะเด็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วมถึงกระบวนการที่เกี่ยวข้องบูรณาการกับหน่วยงานอื่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7)4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กระบวนการไป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1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ที่สำคัญขอ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กระบวนการไป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บรรลุผลตามข้อกำหน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8)5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ลดค่าใช้จ่ายและป้องกันข้อผิดพลา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ลดค่าใช้จ่ายในการตรวจสอบทดสอบประเมิน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5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้องกันข้อผิดพลาดการทำงานซ้ำความสูญ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69)6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ับปรุ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6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ับปรุงกระบวนการให้ได้ผลดีขึ้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6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ผยแพร่แลกเปลี่ยนประสบการณ์การปรับปรุ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ภายในหน่ว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หว่างหน่ว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19640" y="1663560"/>
            <a:ext cx="3529080" cy="4814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0)7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ระบวนการสนับสนุ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7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กำหนดกระบวนการสนับสนุ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7.2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สนับสนุนที่สำคั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1)8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ทำข้อกำหน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8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จัดทำข้อกำหนดที่สำคัญของกระบวนการสนับสนุ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8.2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ข้อกำหนดที่สำคัญขอ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2)9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ออกแบบกระบวนการสนับสนุ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จากข้อมูลทั้ง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4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ประเด็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วมถึงกระบวนการที่เกี่ยวข้องบูรณาการกับหน่วยงานอื่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3)10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กระบวนการไป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10.1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ที่สำคัญขอ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0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นำกระบวนการไปปฏิบัต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เพื่อให้บรรลุผลตามข้อกำหน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4)11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ลดค่าใช้จ่ายและป้องกันข้อผิดพลา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1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ลดค่าใช้จ่ายในการตรวจสอบทดสอบประเมิน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1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้องกันข้อผิดพลาดการทำงานซ้ำความสูญเสี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(75)12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ับปรุงกระบวน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2.1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ปรับปรุงกระบวนการให้ได้ผลดีขึ้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12.2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การเผยแพร่แลกเปลี่ยนประสบการณ์การปรับปรุ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ภายในหน่ว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th-TH" sz="1000" spc="-1" strike="noStrike">
                <a:solidFill>
                  <a:srgbClr val="990000"/>
                </a:solidFill>
                <a:latin typeface="Tahoma"/>
                <a:cs typeface="Tahoma"/>
              </a:rPr>
              <a:t>ระหว่างหน่ว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7080" y="1700280"/>
            <a:ext cx="3527640" cy="72072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35280" y="1700280"/>
            <a:ext cx="6494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2637000"/>
            <a:ext cx="3529080" cy="64764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35280" y="2492280"/>
            <a:ext cx="6494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3645000"/>
            <a:ext cx="3529080" cy="64764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1280" y="3645000"/>
            <a:ext cx="57636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19640" y="4619520"/>
            <a:ext cx="3529080" cy="28908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4797360"/>
            <a:ext cx="3529080" cy="28908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5229360"/>
            <a:ext cx="3529080" cy="93636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19640" y="5013360"/>
            <a:ext cx="3529080" cy="1008000"/>
          </a:xfrm>
          <a:prstGeom prst="rect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026560" y="5708520"/>
            <a:ext cx="64908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62200" y="5838840"/>
            <a:ext cx="6494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101080" y="4903920"/>
            <a:ext cx="6476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4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5157720"/>
            <a:ext cx="6476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M4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504360"/>
            <a:ext cx="37432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ahoma"/>
              </a:rPr>
              <a:t>การนำไปใช้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ส่วนราชการประเมินตนเองภายใต้กรอบ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Fundamental Level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ระบุจุดที่ยังต้องพัฒนา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(OF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จัดทำแผนพัฒนาและปรับปรุงประจำปีให้สอดคล้อง โดยระบุตัวชี้วัดที่เป็นผลลัพธ์ให้ชัดเจ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ดำเนินการปรับปรุงตามแผ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วัดผลการปรับปรุ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762120" y="29052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692280"/>
            <a:ext cx="8636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900" spc="-1" strike="noStrike">
                <a:solidFill>
                  <a:srgbClr val="000000"/>
                </a:solidFill>
                <a:latin typeface="Tahoma"/>
                <a:cs typeface="FreesiaUPC"/>
              </a:rPr>
              <a:t>แผนการดำเนินงาน</a:t>
            </a:r>
            <a:br>
              <a:rPr sz="2900"/>
            </a:br>
            <a:r>
              <a:rPr b="1" lang="th-TH" sz="2900" spc="-1" strike="noStrike">
                <a:solidFill>
                  <a:srgbClr val="000000"/>
                </a:solidFill>
                <a:latin typeface="Tahoma"/>
                <a:cs typeface="FreesiaUPC"/>
              </a:rPr>
              <a:t>ระบบคุณภาพการบริหารจัดการภาครัฐ </a:t>
            </a: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2551 – 2552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8920" y="0"/>
            <a:ext cx="8785080" cy="6465960"/>
          </a:xfrm>
          <a:prstGeom prst="rect">
            <a:avLst/>
          </a:prstGeom>
          <a:noFill/>
          <a:ln w="9360">
            <a:solidFill>
              <a:srgbClr val="99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2000" y="1773360"/>
            <a:ext cx="3095640" cy="114300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01840" y="3070080"/>
            <a:ext cx="223524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2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งเสริมและผลักดันให้ส่วนราชการนำไปปฏิบัติ โดยกำหนดเป็นตัวชี้วัดบังค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อบรมการเขียนรายงานและ เครื่องมือต่าง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พัฒนากลไกการบริหารเครือข่ายวิทยากรที่ปรึ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ขยายการสร้างวิทยากรตัวคูณและหมอ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8360" y="1774800"/>
            <a:ext cx="3095640" cy="114300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94200" y="3179880"/>
            <a:ext cx="2160360" cy="31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มาตรฐานการบริหารตามแนวทาง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MQA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ัฒนากลไกการส่งเสริมให้ส่วนราชการนำไปปฏิบัติ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PMQA Promotion Prog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สามารถดำเนินงานตาม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mprovement Plan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ที่จัดทำไว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enchmark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551640" cy="6499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724360" y="4437000"/>
            <a:ext cx="2735280" cy="201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7162920" y="3213000"/>
            <a:ext cx="1981080" cy="12240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ผลลัพธ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9,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6,18,45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4005360"/>
            <a:ext cx="2192400" cy="1160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จัดการกระบว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0,20,2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28,29,31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46600" y="2276640"/>
            <a:ext cx="2187720" cy="1241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มุ่งเน้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ทรัพยากรบุคค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0,11,27,47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18320" y="35164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3683160"/>
            <a:ext cx="533520" cy="271440"/>
          </a:xfrm>
          <a:prstGeom prst="leftRightArrow">
            <a:avLst>
              <a:gd name="adj1" fmla="val 50000"/>
              <a:gd name="adj2" fmla="val 3912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00720" y="5013360"/>
            <a:ext cx="228600" cy="338040"/>
          </a:xfrm>
          <a:prstGeom prst="upDownArrow">
            <a:avLst>
              <a:gd name="adj1" fmla="val 50000"/>
              <a:gd name="adj2" fmla="val 294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5445000"/>
            <a:ext cx="6781680" cy="10321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ัด การวิเ</a:t>
            </a:r>
            <a:r>
              <a:rPr b="1" lang="th-TH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ค</a:t>
            </a: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ราะห์ และการจัดการความรู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1,39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4005360"/>
            <a:ext cx="2209680" cy="11602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ให้ความสำคัญกับผู้รั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บริการและผู้มีส่วนได้ส่วนเสี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8,30,3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38-42,45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760" y="3141720"/>
            <a:ext cx="2171880" cy="11016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นำองค์ก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0" lang="th-TH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8,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2,16,18,20,2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27,28,43,44,4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2349360"/>
            <a:ext cx="2209680" cy="115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างแผนเชิงยุทธศาสตร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 </a:t>
            </a: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6,8,9,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13,16</a:t>
            </a:r>
            <a:r>
              <a:rPr b="1" lang="th-TH" sz="2000" spc="-1" strike="noStrike">
                <a:solidFill>
                  <a:srgbClr val="000000"/>
                </a:solidFill>
                <a:latin typeface="FreesiaUPC"/>
                <a:ea typeface="Freesia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92360" y="350028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371600" y="1262160"/>
            <a:ext cx="7086240" cy="900000"/>
            <a:chOff x="1371600" y="1262160"/>
            <a:chExt cx="7086240" cy="900000"/>
          </a:xfrm>
        </p:grpSpPr>
        <p:sp>
          <p:nvSpPr>
            <p:cNvPr id="330" name=""/>
            <p:cNvSpPr/>
            <p:nvPr/>
          </p:nvSpPr>
          <p:spPr>
            <a:xfrm>
              <a:off x="1371600" y="2162160"/>
              <a:ext cx="7086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71600" y="1262160"/>
              <a:ext cx="7086240" cy="900000"/>
            </a:xfrm>
            <a:custGeom>
              <a:avLst/>
              <a:gdLst/>
              <a:ahLst/>
              <a:rect l="l" t="t" r="r" b="b"/>
              <a:pathLst>
                <a:path w="4320" h="576">
                  <a:moveTo>
                    <a:pt x="0" y="576"/>
                  </a:moveTo>
                  <a:cubicBezTo>
                    <a:pt x="672" y="288"/>
                    <a:pt x="1344" y="0"/>
                    <a:pt x="2064" y="0"/>
                  </a:cubicBezTo>
                  <a:cubicBezTo>
                    <a:pt x="2784" y="0"/>
                    <a:pt x="3944" y="480"/>
                    <a:pt x="4320" y="576"/>
                  </a:cubicBezTo>
                </a:path>
              </a:pathLst>
            </a:custGeom>
            <a:solidFill>
              <a:srgbClr val="ffcccc"/>
            </a:solidFill>
            <a:ln w="0">
              <a:noFill/>
            </a:ln>
            <a:effectLst>
              <a:outerShdw dist="17819" dir="2700000" blurRad="0" rotWithShape="0">
                <a:srgbClr val="98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981080" y="1474920"/>
            <a:ext cx="5639040" cy="9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FreesiaUPC"/>
              </a:rPr>
              <a:t>ลักษณะสำคัญของ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FreesiaUPC"/>
              </a:rPr>
              <a:t>สภาพแวดล้อม ความสัมพันธ์ และความท้าท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205000"/>
            <a:ext cx="863640" cy="934920"/>
          </a:xfrm>
          <a:custGeom>
            <a:avLst/>
            <a:gdLst/>
            <a:ahLst/>
            <a:rect l="l" t="t" r="r" b="b"/>
            <a:pathLst>
              <a:path w="576" h="720">
                <a:moveTo>
                  <a:pt x="0" y="720"/>
                </a:moveTo>
                <a:cubicBezTo>
                  <a:pt x="240" y="420"/>
                  <a:pt x="480" y="120"/>
                  <a:pt x="576" y="0"/>
                </a:cubicBezTo>
              </a:path>
            </a:pathLst>
          </a:custGeom>
          <a:solidFill>
            <a:srgbClr val="cc9900"/>
          </a:solidFill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4233960"/>
            <a:ext cx="838440" cy="13287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848360" y="4508640"/>
            <a:ext cx="826920" cy="1054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474040" y="2176560"/>
            <a:ext cx="441360" cy="1066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020000" y="4508640"/>
            <a:ext cx="380880" cy="35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10280" y="281952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5120" y="4267080"/>
            <a:ext cx="374400" cy="343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905120" y="2811600"/>
            <a:ext cx="379440" cy="312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6480" y="533520"/>
            <a:ext cx="57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cc"/>
                </a:solidFill>
                <a:latin typeface="Tahoma"/>
                <a:cs typeface="Tahoma"/>
              </a:rPr>
              <a:t>เกณฑ์คุณภาพการบริหารจัดการภาครั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rcRect l="27749" t="11333" r="36223" b="26293"/>
          <a:stretch/>
        </p:blipFill>
        <p:spPr>
          <a:xfrm>
            <a:off x="7502400" y="4221000"/>
            <a:ext cx="1198800" cy="1295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7236000" y="1268280"/>
            <a:ext cx="925200" cy="1006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rcRect l="36615" t="0" r="36211" b="0"/>
          <a:stretch/>
        </p:blipFill>
        <p:spPr>
          <a:xfrm>
            <a:off x="5253120" y="44280"/>
            <a:ext cx="903240" cy="20764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732720" y="2996640"/>
            <a:ext cx="2411280" cy="459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รางวัลมุ่งมั้นพัฒนาองค์การดีเด่น  หมวด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25480" y="1440000"/>
            <a:ext cx="3268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ข้าสู่การสมัครขอรับรางวัล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M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8360" y="3816360"/>
            <a:ext cx="59864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0960" y="3816360"/>
            <a:ext cx="5754600" cy="1871640"/>
          </a:xfrm>
          <a:prstGeom prst="rect">
            <a:avLst/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03320" y="2522520"/>
            <a:ext cx="451080" cy="3162240"/>
          </a:xfrm>
          <a:custGeom>
            <a:avLst/>
            <a:gdLst>
              <a:gd name="textAreaLeft" fmla="*/ 21960 w 451080"/>
              <a:gd name="textAreaRight" fmla="*/ 429120 w 45108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321">
                <a:moveTo>
                  <a:pt x="3600" y="0"/>
                </a:moveTo>
                <a:arcTo wR="3600" hR="3600" stAng="16200000" swAng="-5400000"/>
                <a:lnTo>
                  <a:pt x="0" y="147721"/>
                </a:lnTo>
                <a:arcTo wR="3600" hR="3600" stAng="10800000" swAng="-5400000"/>
                <a:lnTo>
                  <a:pt x="18000" y="151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55720" y="2522520"/>
            <a:ext cx="451080" cy="3162240"/>
          </a:xfrm>
          <a:custGeom>
            <a:avLst/>
            <a:gdLst>
              <a:gd name="textAreaLeft" fmla="*/ 21960 w 451080"/>
              <a:gd name="textAreaRight" fmla="*/ 429120 w 45108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321">
                <a:moveTo>
                  <a:pt x="3600" y="0"/>
                </a:moveTo>
                <a:arcTo wR="3600" hR="3600" stAng="16200000" swAng="-5400000"/>
                <a:lnTo>
                  <a:pt x="0" y="147721"/>
                </a:lnTo>
                <a:arcTo wR="3600" hR="3600" stAng="10800000" swAng="-5400000"/>
                <a:lnTo>
                  <a:pt x="18000" y="151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40160" y="2522520"/>
            <a:ext cx="452520" cy="3162240"/>
          </a:xfrm>
          <a:custGeom>
            <a:avLst/>
            <a:gdLst>
              <a:gd name="textAreaLeft" fmla="*/ 21960 w 452520"/>
              <a:gd name="textAreaRight" fmla="*/ 430560 w 4525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839">
                <a:moveTo>
                  <a:pt x="3600" y="0"/>
                </a:moveTo>
                <a:arcTo wR="3600" hR="3600" stAng="16200000" swAng="-5400000"/>
                <a:lnTo>
                  <a:pt x="0" y="147239"/>
                </a:lnTo>
                <a:arcTo wR="3600" hR="3600" stAng="10800000" swAng="-5400000"/>
                <a:lnTo>
                  <a:pt x="18000" y="150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05160" y="2522520"/>
            <a:ext cx="451080" cy="3162240"/>
          </a:xfrm>
          <a:custGeom>
            <a:avLst/>
            <a:gdLst>
              <a:gd name="textAreaLeft" fmla="*/ 21960 w 451080"/>
              <a:gd name="textAreaRight" fmla="*/ 429120 w 45108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321">
                <a:moveTo>
                  <a:pt x="3600" y="0"/>
                </a:moveTo>
                <a:arcTo wR="3600" hR="3600" stAng="16200000" swAng="-5400000"/>
                <a:lnTo>
                  <a:pt x="0" y="147721"/>
                </a:lnTo>
                <a:arcTo wR="3600" hR="3600" stAng="10800000" swAng="-5400000"/>
                <a:lnTo>
                  <a:pt x="18000" y="151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97200" y="5208480"/>
            <a:ext cx="452160" cy="476280"/>
          </a:xfrm>
          <a:custGeom>
            <a:avLst/>
            <a:gdLst>
              <a:gd name="textAreaLeft" fmla="*/ 0 w 452160"/>
              <a:gd name="textAreaRight" fmla="*/ 452520 w 4521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arcTo wR="0" hR="0" stAng="16200000" swAng="-5400000"/>
                <a:lnTo>
                  <a:pt x="0" y="22751"/>
                </a:lnTo>
                <a:arcTo wR="0" hR="0" stAng="10800000" swAng="-5400000"/>
                <a:lnTo>
                  <a:pt x="21600" y="227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51040" y="5208480"/>
            <a:ext cx="452520" cy="476280"/>
          </a:xfrm>
          <a:custGeom>
            <a:avLst/>
            <a:gdLst>
              <a:gd name="textAreaLeft" fmla="*/ 0 w 452520"/>
              <a:gd name="textAreaRight" fmla="*/ 452880 w 4525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33">
                <a:moveTo>
                  <a:pt x="0" y="0"/>
                </a:moveTo>
                <a:arcTo wR="0" hR="0" stAng="16200000" swAng="-5400000"/>
                <a:lnTo>
                  <a:pt x="0" y="22733"/>
                </a:lnTo>
                <a:arcTo wR="0" hR="0" stAng="10800000" swAng="-5400000"/>
                <a:lnTo>
                  <a:pt x="21600" y="227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43400" y="5208480"/>
            <a:ext cx="452160" cy="476280"/>
          </a:xfrm>
          <a:custGeom>
            <a:avLst/>
            <a:gdLst>
              <a:gd name="textAreaLeft" fmla="*/ 0 w 452160"/>
              <a:gd name="textAreaRight" fmla="*/ 452520 w 4521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arcTo wR="0" hR="0" stAng="16200000" swAng="-5400000"/>
                <a:lnTo>
                  <a:pt x="0" y="22751"/>
                </a:lnTo>
                <a:arcTo wR="0" hR="0" stAng="10800000" swAng="-5400000"/>
                <a:lnTo>
                  <a:pt x="21600" y="227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05160" y="5208480"/>
            <a:ext cx="451080" cy="476280"/>
          </a:xfrm>
          <a:custGeom>
            <a:avLst/>
            <a:gdLst>
              <a:gd name="textAreaLeft" fmla="*/ 0 w 451080"/>
              <a:gd name="textAreaRight" fmla="*/ 451440 w 4510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806">
                <a:moveTo>
                  <a:pt x="0" y="0"/>
                </a:moveTo>
                <a:arcTo wR="0" hR="0" stAng="16200000" swAng="-5400000"/>
                <a:lnTo>
                  <a:pt x="0" y="22806"/>
                </a:lnTo>
                <a:arcTo wR="0" hR="0" stAng="10800000" swAng="-5400000"/>
                <a:lnTo>
                  <a:pt x="21600" y="2280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22480" y="2522520"/>
            <a:ext cx="452160" cy="3162240"/>
          </a:xfrm>
          <a:custGeom>
            <a:avLst/>
            <a:gdLst>
              <a:gd name="textAreaLeft" fmla="*/ 21960 w 452160"/>
              <a:gd name="textAreaRight" fmla="*/ 430200 w 45216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959">
                <a:moveTo>
                  <a:pt x="3600" y="0"/>
                </a:moveTo>
                <a:arcTo wR="3600" hR="3600" stAng="16200000" swAng="-5400000"/>
                <a:lnTo>
                  <a:pt x="0" y="147359"/>
                </a:lnTo>
                <a:arcTo wR="3600" hR="3600" stAng="10800000" swAng="-5400000"/>
                <a:lnTo>
                  <a:pt x="18000" y="1509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22480" y="5208480"/>
            <a:ext cx="452160" cy="476280"/>
          </a:xfrm>
          <a:custGeom>
            <a:avLst/>
            <a:gdLst>
              <a:gd name="textAreaLeft" fmla="*/ 0 w 452160"/>
              <a:gd name="textAreaRight" fmla="*/ 452520 w 4521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arcTo wR="0" hR="0" stAng="16200000" swAng="-5400000"/>
                <a:lnTo>
                  <a:pt x="0" y="22751"/>
                </a:lnTo>
                <a:arcTo wR="0" hR="0" stAng="10800000" swAng="-5400000"/>
                <a:lnTo>
                  <a:pt x="21600" y="227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750960" y="836640"/>
            <a:ext cx="28440" cy="4851360"/>
          </a:xfrm>
          <a:prstGeom prst="line">
            <a:avLst/>
          </a:prstGeom>
          <a:ln cap="rnd" w="2232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0960" y="5688000"/>
            <a:ext cx="5718240" cy="0"/>
          </a:xfrm>
          <a:prstGeom prst="line">
            <a:avLst/>
          </a:prstGeom>
          <a:ln w="34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3844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92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7960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4964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459432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0960" y="47545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0960" y="49435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0960" y="51307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0960" y="55069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0960" y="529596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4600" y="5433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5360" y="29894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11360" y="259704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49400" y="57214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986360" y="2522520"/>
            <a:ext cx="452520" cy="3162240"/>
          </a:xfrm>
          <a:custGeom>
            <a:avLst/>
            <a:gdLst>
              <a:gd name="textAreaLeft" fmla="*/ 21960 w 452520"/>
              <a:gd name="textAreaRight" fmla="*/ 430560 w 4525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839">
                <a:moveTo>
                  <a:pt x="3600" y="0"/>
                </a:moveTo>
                <a:arcTo wR="3600" hR="3600" stAng="16200000" swAng="-5400000"/>
                <a:lnTo>
                  <a:pt x="0" y="147239"/>
                </a:lnTo>
                <a:arcTo wR="3600" hR="3600" stAng="10800000" swAng="-5400000"/>
                <a:lnTo>
                  <a:pt x="18000" y="150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4920" y="5165640"/>
            <a:ext cx="450720" cy="506520"/>
          </a:xfrm>
          <a:custGeom>
            <a:avLst/>
            <a:gdLst>
              <a:gd name="textAreaLeft" fmla="*/ 0 w 450720"/>
              <a:gd name="textAreaRight" fmla="*/ 451080 w 450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21600" h="24272">
                <a:moveTo>
                  <a:pt x="0" y="0"/>
                </a:moveTo>
                <a:arcTo wR="0" hR="0" stAng="16200000" swAng="-5400000"/>
                <a:lnTo>
                  <a:pt x="0" y="24272"/>
                </a:lnTo>
                <a:arcTo wR="0" hR="0" stAng="10800000" swAng="-5400000"/>
                <a:lnTo>
                  <a:pt x="21600" y="2427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19440" y="5715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640240" y="5715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1172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7996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85172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2292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79400" y="381636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5000" y="4057560"/>
            <a:ext cx="2066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5000" y="4246560"/>
            <a:ext cx="2066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5000" y="4433760"/>
            <a:ext cx="2066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2800" y="5243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2520" y="5041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2520" y="4859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3680" y="469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0440" y="450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2520" y="4303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2520" y="411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1360" y="395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9880" y="37274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53160" y="2522520"/>
            <a:ext cx="450720" cy="3160800"/>
          </a:xfrm>
          <a:custGeom>
            <a:avLst/>
            <a:gdLst>
              <a:gd name="textAreaLeft" fmla="*/ 21960 w 450720"/>
              <a:gd name="textAreaRight" fmla="*/ 428760 w 450720"/>
              <a:gd name="textAreaTop" fmla="*/ 21960 h 3160800"/>
              <a:gd name="textAreaBottom" fmla="*/ 3138840 h 3160800"/>
            </a:gdLst>
            <a:ahLst/>
            <a:rect l="textAreaLeft" t="textAreaTop" r="textAreaRight" b="textAreaBottom"/>
            <a:pathLst>
              <a:path w="21600" h="151372">
                <a:moveTo>
                  <a:pt x="3600" y="0"/>
                </a:moveTo>
                <a:arcTo wR="3600" hR="3600" stAng="16200000" swAng="-5400000"/>
                <a:lnTo>
                  <a:pt x="0" y="147772"/>
                </a:lnTo>
                <a:arcTo wR="3600" hR="3600" stAng="10800000" swAng="-5400000"/>
                <a:lnTo>
                  <a:pt x="18000" y="1513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57840" y="5207040"/>
            <a:ext cx="452520" cy="476280"/>
          </a:xfrm>
          <a:custGeom>
            <a:avLst/>
            <a:gdLst>
              <a:gd name="textAreaLeft" fmla="*/ 0 w 452520"/>
              <a:gd name="textAreaRight" fmla="*/ 452880 w 4525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33">
                <a:moveTo>
                  <a:pt x="0" y="0"/>
                </a:moveTo>
                <a:arcTo wR="0" hR="0" stAng="16200000" swAng="-5400000"/>
                <a:lnTo>
                  <a:pt x="0" y="22733"/>
                </a:lnTo>
                <a:arcTo wR="0" hR="0" stAng="10800000" swAng="-5400000"/>
                <a:lnTo>
                  <a:pt x="21600" y="227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91160" y="459756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2328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9400" y="2522520"/>
            <a:ext cx="59864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9280" y="1873080"/>
            <a:ext cx="569880" cy="301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04000" y="2347200"/>
            <a:ext cx="2340000" cy="45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“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รางวัลการพัฒนา</a:t>
            </a:r>
            <a:br>
              <a:rPr sz="1200"/>
            </a:b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งค์การดีเด่น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32720" y="3715560"/>
            <a:ext cx="24112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ahoma"/>
                <a:cs typeface="Tahoma"/>
              </a:rPr>
              <a:t>ผ่านการรับรองเกณฑ์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812000" y="3500280"/>
            <a:ext cx="360360" cy="217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812000" y="2781360"/>
            <a:ext cx="360360" cy="217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00000" y="2205000"/>
            <a:ext cx="5543640" cy="2016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34840" y="2708280"/>
            <a:ext cx="2473920" cy="30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พัฒนาสู่ความโดดเด่นรายหมว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99200" y="4365720"/>
            <a:ext cx="3935520" cy="60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undamental  Leve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29840" y="3213000"/>
            <a:ext cx="1619280" cy="30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uccessfu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324000" y="476280"/>
            <a:ext cx="4319280" cy="2519280"/>
            <a:chOff x="324000" y="476280"/>
            <a:chExt cx="4319280" cy="2519280"/>
          </a:xfrm>
        </p:grpSpPr>
        <p:sp>
          <p:nvSpPr>
            <p:cNvPr id="411" name=""/>
            <p:cNvSpPr/>
            <p:nvPr/>
          </p:nvSpPr>
          <p:spPr>
            <a:xfrm>
              <a:off x="324000" y="476280"/>
              <a:ext cx="4319280" cy="25192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1"/>
            <a:srcRect l="11530" t="18222" r="11882" b="0"/>
            <a:stretch/>
          </p:blipFill>
          <p:spPr>
            <a:xfrm>
              <a:off x="422280" y="610920"/>
              <a:ext cx="363168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3" name=""/>
          <p:cNvGrpSpPr/>
          <p:nvPr/>
        </p:nvGrpSpPr>
        <p:grpSpPr>
          <a:xfrm>
            <a:off x="611280" y="3500280"/>
            <a:ext cx="4032000" cy="2521080"/>
            <a:chOff x="611280" y="3500280"/>
            <a:chExt cx="4032000" cy="2521080"/>
          </a:xfrm>
        </p:grpSpPr>
        <p:sp>
          <p:nvSpPr>
            <p:cNvPr id="414" name=""/>
            <p:cNvSpPr/>
            <p:nvPr/>
          </p:nvSpPr>
          <p:spPr>
            <a:xfrm>
              <a:off x="611280" y="3500280"/>
              <a:ext cx="4032000" cy="252108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2"/>
            <a:srcRect l="11527" t="17707" r="11465" b="0"/>
            <a:stretch/>
          </p:blipFill>
          <p:spPr>
            <a:xfrm>
              <a:off x="799920" y="3567600"/>
              <a:ext cx="3527640" cy="239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"/>
          <p:cNvGrpSpPr/>
          <p:nvPr/>
        </p:nvGrpSpPr>
        <p:grpSpPr>
          <a:xfrm>
            <a:off x="4859280" y="1916280"/>
            <a:ext cx="3745080" cy="2449440"/>
            <a:chOff x="4859280" y="1916280"/>
            <a:chExt cx="3745080" cy="2449440"/>
          </a:xfrm>
        </p:grpSpPr>
        <p:sp>
          <p:nvSpPr>
            <p:cNvPr id="417" name=""/>
            <p:cNvSpPr/>
            <p:nvPr/>
          </p:nvSpPr>
          <p:spPr>
            <a:xfrm>
              <a:off x="4859280" y="1916280"/>
              <a:ext cx="3745080" cy="244944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3"/>
            <a:srcRect l="11513" t="18222" r="9540" b="0"/>
            <a:stretch/>
          </p:blipFill>
          <p:spPr>
            <a:xfrm>
              <a:off x="5023800" y="2026440"/>
              <a:ext cx="3575520" cy="232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4643280" y="549360"/>
            <a:ext cx="151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ระดับก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27640" y="5516640"/>
            <a:ext cx="1944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ะดับจังหวั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804000" y="4365720"/>
            <a:ext cx="151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อุดมศึกษ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หตุผลที่นำ</a:t>
            </a:r>
            <a:r>
              <a:rPr b="1" lang="en-US" sz="4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MQA </a:t>
            </a:r>
            <a:r>
              <a:rPr b="1" lang="th-TH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ใช้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35880" cy="48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 </a:t>
            </a:r>
            <a:r>
              <a:rPr b="1" lang="en-US" sz="39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MQA</a:t>
            </a:r>
            <a:r>
              <a:rPr b="1" lang="en-US" sz="3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ุ่งเน้นแนวทางการบริหารจัดการใน</a:t>
            </a:r>
            <a:r>
              <a:rPr b="1" lang="th-TH" sz="3700" spc="-1" strike="noStrike" u="sng">
                <a:solidFill>
                  <a:srgbClr val="006600"/>
                </a:solidFill>
                <a:uFillTx/>
                <a:latin typeface="Browallia New"/>
                <a:cs typeface="Browallia New"/>
              </a:rPr>
              <a:t>ทิศทางที่เป็นเลิศ</a:t>
            </a: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ช่นเดียวกับหน่วยงานภาครัฐในประเทศที่พัฒนาแล้วทั้งหลาย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ำนึงถึงสังคมและประโยชน์ของประชาช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้อิสรภาพแก่องค์กรในการเลือกใช้วิธีการต่างๆที่นำไปสู่ความเป็นเลิศโดย</a:t>
            </a:r>
            <a:r>
              <a:rPr b="1" lang="th-TH" sz="3700" spc="-1" strike="noStrike">
                <a:solidFill>
                  <a:srgbClr val="3333cc"/>
                </a:solidFill>
                <a:latin typeface="Browallia New"/>
                <a:cs typeface="Browallia New"/>
              </a:rPr>
              <a:t>ไม่จำเป็นต้องเหมือนกับของคนอื่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ิสูจน์ความสำเร็จโดยดูจากผลลัพธ์และข้อมูล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Times New Roman"/>
                <a:cs typeface="Browallia New"/>
              </a:rPr>
              <a:t>สนับสนุนการเรียนรู้และการปรับปรุงอย่างต่อเนื่อง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79280" y="0"/>
            <a:ext cx="3888000" cy="398880"/>
          </a:xfrm>
          <a:prstGeom prst="rect">
            <a:avLst/>
          </a:prstGeom>
          <a:solidFill>
            <a:srgbClr val="edf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oadmap </a:t>
            </a:r>
            <a:r>
              <a:rPr b="1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พัฒนาองค์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20960" y="549360"/>
            <a:ext cx="2217600" cy="503280"/>
          </a:xfrm>
          <a:custGeom>
            <a:avLst/>
            <a:gdLst>
              <a:gd name="textAreaLeft" fmla="*/ 0 w 2217600"/>
              <a:gd name="textAreaRight" fmla="*/ 2217960 w 22176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78360" y="573120"/>
            <a:ext cx="2388960" cy="47952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68960" y="549360"/>
            <a:ext cx="2460600" cy="47952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337840" y="590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45480" y="563400"/>
            <a:ext cx="13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8520" y="1125360"/>
            <a:ext cx="8421480" cy="1295640"/>
          </a:xfrm>
          <a:prstGeom prst="roundRect">
            <a:avLst>
              <a:gd name="adj" fmla="val 16667"/>
            </a:avLst>
          </a:prstGeom>
          <a:solidFill>
            <a:srgbClr val="edf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9640" y="145908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1530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มด้านบริ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" y="2478240"/>
            <a:ext cx="8569080" cy="14554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0800" y="2968560"/>
            <a:ext cx="17067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1720" y="306396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มด้านนโยบา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4000" y="3992400"/>
            <a:ext cx="8569080" cy="1266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3400" y="4159080"/>
            <a:ext cx="1511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49680" y="42800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จังห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6000" y="4956120"/>
            <a:ext cx="77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ของฐานข้อมูลในการผลักดันยุทธศาสตร์ภายใต้ระบบการนำองค์กรที่มีประสิทธิภาพ โดยยึดประชาชนเป็นศูนย์กลา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44720" y="1200240"/>
            <a:ext cx="50508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52720" y="15256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27640" y="15256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8520" y="2111400"/>
            <a:ext cx="7675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กับผู้รับบริการ โดยออกแบบกระบวนงานและพัฒนาบุคลากรให้สามารถปฏิบัติงานได้อย่างมีประสิทธิภาพ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05320" y="3578400"/>
            <a:ext cx="641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ของยุทธศาสตร์และการนำไปปฏิบัติ  โดยมีระบบการวัดผลการดำเนินการที่เป็น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755600" y="608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44720" y="1695600"/>
            <a:ext cx="50508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59280" y="117144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59280" y="166680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162920" y="120024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162920" y="169560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70280" y="260028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78280" y="29257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53200" y="29257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70280" y="309564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84840" y="257184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84840" y="306720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88120" y="260028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188120" y="309564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08440" y="404820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16440" y="43736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291360" y="43736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08440" y="454356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923000" y="401940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923000" y="451476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6280" y="404820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26280" y="454356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09600" y="5359320"/>
            <a:ext cx="8569440" cy="1309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4960" y="5526000"/>
            <a:ext cx="15112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91840" y="567360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ถาบันอุดมศึ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3280" y="6323040"/>
            <a:ext cx="64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ของการกำหนดทิศทางองค์กรที่ชัดเจน และการพัฒนาบุคลากรเพื่อเน้นผู้เรียนเป็นศูนย์กลา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94040" y="541512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02040" y="57405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76960" y="574056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4040" y="591012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88000" y="544500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48000" y="566100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64000" y="544500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03640" y="5877000"/>
            <a:ext cx="50508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77080" y="5516640"/>
            <a:ext cx="136836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fu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24000" y="4140360"/>
            <a:ext cx="8569080" cy="194292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3059280"/>
            <a:ext cx="8569080" cy="8632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95280" y="1922400"/>
            <a:ext cx="8497800" cy="86364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6560" y="43920"/>
            <a:ext cx="8353440" cy="17290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องค์ประกอบ</a:t>
            </a:r>
            <a:br>
              <a:rPr sz="2400"/>
            </a:b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เกณฑ์คุณภาพการบริหารจัดการภาครัฐในระดับพื้นฐาน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(Fundamental Level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187280" y="1963800"/>
            <a:ext cx="79567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ส่วนที่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1  </a:t>
            </a:r>
            <a:r>
              <a:rPr b="0" lang="th-TH" sz="2800" spc="-1" strike="noStrike">
                <a:solidFill>
                  <a:srgbClr val="336600"/>
                </a:solidFill>
                <a:latin typeface="Tahoma"/>
                <a:ea typeface="Tahoma"/>
              </a:rPr>
              <a:t>   </a:t>
            </a: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เกณฑ์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Fundament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ส่วนที่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2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คำอธิบายแนวทางดำเนิน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ส่วนที่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3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หลักเกณฑ์การพิจารณ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6600"/>
                </a:solidFill>
                <a:latin typeface="Tahoma"/>
                <a:ea typeface="Tahoma"/>
              </a:rPr>
              <a:t>                </a:t>
            </a:r>
            <a:r>
              <a:rPr b="0" lang="th-TH" sz="2800" spc="-1" strike="noStrike">
                <a:solidFill>
                  <a:srgbClr val="336600"/>
                </a:solidFill>
                <a:latin typeface="Tahoma"/>
                <a:cs typeface="Tahoma"/>
              </a:rPr>
              <a:t>การดำเนินการที่ครบถ้วนสมบูรณ์</a:t>
            </a:r>
            <a:br>
              <a:rPr sz="2800"/>
            </a:br>
            <a:r>
              <a:rPr b="0" lang="th-TH" sz="2800" spc="-1" strike="noStrike">
                <a:solidFill>
                  <a:srgbClr val="336600"/>
                </a:solidFill>
                <a:latin typeface="Tahoma"/>
                <a:ea typeface="Tahoma"/>
              </a:rPr>
              <a:t>                เพื่อให้ผ่านเกณฑ์ 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Fundamental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Level</a:t>
            </a:r>
            <a:r>
              <a:rPr b="0" lang="en-US" sz="2800" spc="-1" strike="noStrike">
                <a:solidFill>
                  <a:srgbClr val="33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792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Tahoma"/>
                <a:cs typeface="Tahoma"/>
              </a:rPr>
              <a:t>ตัวอย่างการประเมินตาม</a:t>
            </a:r>
            <a:br>
              <a:rPr sz="1400"/>
            </a:br>
            <a:r>
              <a:rPr b="1" lang="th-TH" sz="1400" spc="-1" strike="noStrike">
                <a:solidFill>
                  <a:srgbClr val="ffff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</a:t>
            </a:r>
            <a:r>
              <a:rPr b="1" lang="en-US" sz="1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Tahoma"/>
                <a:ea typeface="Tahoma"/>
              </a:rPr>
              <a:t>(Fundamental Level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395280" y="1328760"/>
          <a:ext cx="8280360" cy="1020600"/>
        </p:xfrm>
        <a:graphic>
          <a:graphicData uri="http://schemas.openxmlformats.org/drawingml/2006/table">
            <a:tbl>
              <a:tblPr/>
              <a:tblGrid>
                <a:gridCol w="736560"/>
                <a:gridCol w="7543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M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ระบบรองรับภาวะฉุกเฉินต่าง ๆ ที่อาจเกิดขึ้นและมีผลกระทบต่อการจัดการกระบวนการ  เพื่อให้ส่วนราชการจะสามารถดำเนินงานได้อย่างต่อเนื่อ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395280" y="981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 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560" y="2403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คำอธิบา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5280" y="2780280"/>
            <a:ext cx="8329680" cy="15202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มีวิธีการเพื่อทำให้มั่นใจว่าระบบงานและสถานที่ทำงานมีการเตรียมพร้อมต่อภัยพิบัติ หรื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ภาวะฉุกเฉิน และระบบการเตรียมความพร้อมต่อภัยพิบัติ และภาวะฉุกเฉิน ซึ่งได้คำนึงถึงการป้องกั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ความต่อเนื่องของการดำเนินการ และการทำให้คืนสู่สภาพเดิ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ภัยพิบัติ และภาวะฉุกเฉินอาจเกี่ยวข้องกับสภาพอากาศ สาธารณูปโภค ความปลอดภัย การจราจล หรือ</a:t>
            </a:r>
            <a:br>
              <a:rPr sz="1400"/>
            </a:b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กิดจากภาวะฉุกเฉินในระดับท้องถิ่นหรือระดับชาติ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4348080"/>
            <a:ext cx="15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วิธีการประเมิ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6840" y="4722480"/>
            <a:ext cx="8381880" cy="17312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 -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สดงแผนสำรองฉุกเฉิน เพื่อป้องกับผลกระทบกับการจัดการกระบวน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ในกรณีที่เกิดภาวะฉุกเฉิ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 -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ื่อสารให้ผู้ที่เกี่ยวข้องในแผนสำรองฉุกเฉินรับทราบถึงแนวทางปฏิบั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  -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ีการทบทวนเพื่อปรับปรุงแผนสำรองฉุกเฉินให้เหมาะสมทันสมัยอยู่เสม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  -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สดงให้เห็นความเชื่อมโยงของระบบรองรับภาวะฉุกเฉินต่อการดำเนินการ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ามพันธกิจหลักของส่วนราชการว่าจะสามารถดำเนินงานได้อย่างต่อเนื่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87280" y="433404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ahoma"/>
                <a:cs typeface="Tahoma"/>
              </a:rPr>
              <a:t>ผ่าน </a:t>
            </a:r>
            <a:r>
              <a:rPr b="0" lang="th-TH" sz="1400" spc="-1" strike="noStrike">
                <a:solidFill>
                  <a:srgbClr val="3333cc"/>
                </a:solidFill>
                <a:latin typeface="Tahoma"/>
                <a:ea typeface="Tahoma"/>
              </a:rPr>
              <a:t>/ </a:t>
            </a:r>
            <a:r>
              <a:rPr b="0" lang="th-TH" sz="1400" spc="-1" strike="noStrike">
                <a:solidFill>
                  <a:srgbClr val="3333cc"/>
                </a:solidFill>
                <a:latin typeface="Tahoma"/>
                <a:cs typeface="Tahoma"/>
              </a:rPr>
              <a:t>ไม่ผ่าน – จะผ่านต่อเมื่อทำครบทุก 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  <a:ea typeface="Tahoma"/>
              </a:rPr>
              <a:t>bul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8D24-B4AF-4906-A44C-972D19654D5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395280" y="853920"/>
          <a:ext cx="8280360" cy="5383080"/>
        </p:xfrm>
        <a:graphic>
          <a:graphicData uri="http://schemas.openxmlformats.org/drawingml/2006/table">
            <a:tbl>
              <a:tblPr/>
              <a:tblGrid>
                <a:gridCol w="720720"/>
                <a:gridCol w="7559640"/>
              </a:tblGrid>
              <a:tr h="46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นำองค์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บริหารต้องมีการกำหนดทิศทางการทำงานที่ชัดเจน ครอบคลุมในเรื่องวิสัยทัศน์ ค่านิยม เป้าประสงค์หรือผลการดำเนินการที่คาดหวังขององค์การ โดยมุ่งเน้นผู้รับบริการและผู้มีส่วนได้ส่วนเสีย รวมทั้งมีการสื่อสารเพื่อถ่ายทอดทิศทางดังกล่าวสู่บุคลากร เพื่อให้เกิดการรับรู้ ความเข้าใจ และการนำไปปฏิบัติของบุคลากร อันจะส่งผลให้การดำเนินการบรรลุผลตามเป้าประสงค์ที่ตั้งไว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บริหารส่วนราชการมีการเพิ่มอำนาจในการตัดสินใจ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mpowerment) 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ให้แก่เจ้าหน้าที่ระดับต่างๆ ภายในองค์การ โดยมีการมอบอำนาจให้กับผู้ดำรงตำแหน่งอื่นในส่วนราชการเดียวกัน หรือในส่วนราชการอื่นๆ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บริหารของส่วนราชการส่งเสริมให้มีกระบวนการและกิจกรรมการเรียนรู้ เพื่อให้เกิดการบูรณาการและสร้างความผูกพัน ร่วมมือภายในองค์การ รวมถึงการสร้างแรงจูงใจเพื่อให้บุคลากรสามารถปฏิบัติงานได้ตามเป้าหมาย</a:t>
                      </a:r>
                      <a:br>
                        <a:rPr sz="1600"/>
                      </a:b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บริหารต้องกำหนดตัวชี้วัดที่สำคัญ และกำหนดให้มีระบบการติดตามและประเมินผลการปฏิบัติราชการ สำหรับใช้ในการทบทวนผลการปฏิบัติงานและนำผลการทบทวนดังกล่าวมาจัดลำดับความสำคัญ เพื่อนำไปใช้ในการปรับปรุงการดำเนินงานของส่วนราชการให้ดีขึ้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396720" y="387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1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นำองค์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0E07-1A7E-42E4-B3AE-B3743C911FC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395280" y="925560"/>
          <a:ext cx="8280360" cy="4951080"/>
        </p:xfrm>
        <a:graphic>
          <a:graphicData uri="http://schemas.openxmlformats.org/drawingml/2006/table">
            <a:tbl>
              <a:tblPr/>
              <a:tblGrid>
                <a:gridCol w="720720"/>
                <a:gridCol w="7559640"/>
              </a:tblGrid>
              <a:tr h="57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ธรรมาภิบาลและความรับผิดชอบต่อสังค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D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บริหารต้องมีการกำหนดนโยบายในการกำกับดูแลองค์การที่ดี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rganizational Governance)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พื่อเป็นแนวทางในการดำเนินงานของส่วนราชการ  และเพื่อให้การดำเนินการบรรลุผล ส่วนราชการต้องจัดทำแนวทางปฏิบัติ มาตรการ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โครงการรองรับนโยบายการกำกับดูแลตนเองที่ดีดังกล่าว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 (2)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จัดให้มีระบบการควบคุมภายในและการบริหารความเสี่ยงที่ดี รวมถึง พัฒนาระบบตรวจสอบภายในให้เป็นไป ตามแนวทางของคณะกรรมการตรวจเงินแผ่นดิ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 (2)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บริหารต้องกำหนดให้มีวิธีการหรือมาตรการในการจัดการผลกระทบทางลบที่เกิดขึ้นต่อสังคม อันเป็นผลมาจากการดำเนินการของส่วนราชการ รวมทั้งต้องนำวิธีการหรือมาตรการที่กำหนดไว้ไปปฏิบัติ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(3)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>
            <a:off x="396720" y="387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1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นำองค์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BE79-BE13-43B5-AEF0-0DEDF5367A96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24000" y="976320"/>
          <a:ext cx="8280360" cy="5129280"/>
        </p:xfrm>
        <a:graphic>
          <a:graphicData uri="http://schemas.openxmlformats.org/drawingml/2006/table">
            <a:tbl>
              <a:tblPr/>
              <a:tblGrid>
                <a:gridCol w="718920"/>
                <a:gridCol w="7561440"/>
              </a:tblGrid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วางยุทธศาสตร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การกำหนดขั้นตอน กรอบเวลาที่เหมาะสม รวมถึงมีการระบุผู้รับผิดชอบอย่างชัดเจนในการจัดทำแผนปฏิบัติราชการ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 และแผนปฏิบัติราชการประจำปี โดยมุ่งเน้นที่จะผลักดันให้บรรลุวิสัยทัศน์และพันธกิจของ</a:t>
                      </a:r>
                      <a:br>
                        <a:rPr sz="1600"/>
                      </a:b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 บรรลุเป้าหมายตามแผนการบริหารราชการแผ่นดิน แผนปฏิบัติราชการของกระทรวงและกลุ่มภารกิจ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9,16)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ในการจัดทำแผนปฏิบัติราชการของส่วนราชการ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 และ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้องมีการนำปัจจัยทั้งภายในและภายนอกที่สำคัญและสอดคล้องกับสภาพแวดล้อมที่เปลี่ยนแปลงไป มาใช้ประกอบการวิเคราะห์ อย่างน้อยประกอบด้วย วิสัยทัศน์และพันธกิจของส่วนราชการ ความต้องการของผู้รับบริการและผู้มีส่วนได้ส่วนเสีย ผลการดำเนินงานที่ผ่านมา กฎหมาย ระเบียบ และโครงสร้างส่วนราชการ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(3)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การวางแผนกลยุทธ์ด้านการบริหารทรัพยากรบุคคลให้สอดคล้องกับแผนปฏิบัติราชการ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 และแผนปฏิบัติราชการประจำปี ของส่วนราชการ รวมทั้งต้องการวางแผนเตรียมการจัดสรรทรัพยากรอื่น ๆ เพื่อรองรับการดำเนินการตามแผนปฏิบัติราชการ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"/>
          <p:cNvSpPr/>
          <p:nvPr/>
        </p:nvSpPr>
        <p:spPr>
          <a:xfrm>
            <a:off x="468360" y="500040"/>
            <a:ext cx="32400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วางแผนยุทธศาสตร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A709-5D52-4F10-8497-B02A5FC5EA8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95280" y="907920"/>
          <a:ext cx="8280360" cy="5102280"/>
        </p:xfrm>
        <a:graphic>
          <a:graphicData uri="http://schemas.openxmlformats.org/drawingml/2006/table">
            <a:tbl>
              <a:tblPr/>
              <a:tblGrid>
                <a:gridCol w="719280"/>
                <a:gridCol w="7561080"/>
              </a:tblGrid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สื่อสารและถ่ายทอดยุทธศาสตร์เพื่อนำไปปฏิบัต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6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บริหารมีการสื่อสารและทำความเข้าใจในเรื่องยุทธศาสตร์และการนำยุทธศาสตร์ไปปฏิบัติ ไปยังบุคลากรที่เกี่ยวข้องเพื่อให้บุคลากรได้รับรู้เข้าใจ และนำไปปฏิบัติ เพื่อให้การถ่ายทอดแผนไปสู่การปฏิบัติดังกล่าวบรรลุผ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มีการถ่ายทอด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scading)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และเป้าหมายระดับองค์การลงสู่ระดับหน่วยงาน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ุกหน่วยงาน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ละระดับบุคคลอย่างน้อ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ำนัก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อง รวมทั้ง มีการจัดทำข้อตกลงการปฏิบัติงานเป็นลายลักษณ์อักษรอย่างชัดเจน เพื่อให้สอดคล้องไปในทิศทางเดียวกันกับเป้าประสงค์เชิงยุทธศาสตร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จัดทำรายละเอียดโครงการเพื่อใช้ในการติดตามผลการดำเนินงานให้สามารถบรรลุเป้าหมายตามแผนปฏิบัติราชการได้สำเร็จ ซึ่งประกอบด้วย ระยะเวลา ผู้รับผิดชอบ การจัดสรรทรัพยากรให้แก่แผนงานโครงกา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ิจกรร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การวิเคราะห์และจัดทำแผนบริหารความเสี่ยงเพื่อเตรียมการรองรับสภาวะการเปลี่ยนแปลงที่จะเกิดขึ้น ซึ่งต้องครอบคลุมถึงความเสี่ยงเชิงยุทธศาสตร์ ความเสี่ยงด้านธรรมาภิบาล ด้านเทคโนโลยีสารสนเทศ ด้านกระบวนการ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8360" y="500040"/>
            <a:ext cx="32400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วางแผนยุทธศาสตร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87CA-DD5A-4C16-BE96-2D3C542CA82D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95280" y="825480"/>
          <a:ext cx="8280360" cy="5145120"/>
        </p:xfrm>
        <a:graphic>
          <a:graphicData uri="http://schemas.openxmlformats.org/drawingml/2006/table">
            <a:tbl>
              <a:tblPr/>
              <a:tblGrid>
                <a:gridCol w="576360"/>
                <a:gridCol w="7704000"/>
              </a:tblGrid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รู้เกี่ยวกับผู้รับบริการและผู้มีส่วนได้ส่วนเสี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มีการกำหนดกลุ่มผู้รับบริการและผู้มีส่วนได้ส่วนเสียตามพันธกิจ เพื่อให้ตอบสนองความต้องการของผู้รับบริการและผู้มีส่วนได้ส่วนเสียที่ครอบคลุมทุกกลุ่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มีช่องทางการรับฟังและเรียนรู้ความต้องการของผู้รับบริการและผู้มีส่วนได้ส่วนเสียเพื่อนำมาใช้ในการปรับปรุงและเสนอรูปแบบการบริการต่าง ๆ โดยแสดงให้เห็นถึงประสิทธิภาพของช่องทางการสื่อสารดังกล่าว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8,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สร้างความสัมพันธ์กับผู้รับบริการและผู้มีส่วนได้ส่วนเสี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S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มีการกำหนดผู้รับผิดชอบที่ชัดเจนในการรวบรวมข้อร้องเรีย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เสนอแน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คิดเห็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ชมเชย  ของผู้รับบริการและผู้มีส่วนได้ส่วนเสีย รวมทั้งมีระบบการจัดการข้อร้องเรีย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เสนอแน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คิดเห็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ชมเชย เพื่อให้มั่นใจว่าสามารถตอบสนองต่อผู้รับบริการและผู้มี ส่วนได้ส่วนเสียได้อย่างทันท่วงท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,39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S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ได้นำข้อร้องเรียน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เสนอแน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ข้อคิดเห็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ชมเชย ใ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S 3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าวิเคราะห์เพื่อกำหนดวิธีการและปรับปรุงคุณภาพการให้บริการและหรือการปฏิบัติงานให้เหมาะสม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,39,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S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มีการสร้างเครือข่ายและจัดกิจกรรมเพื่อสร้างความสัมพันธ์กับผู้รับบริการและผู้มีส่วนได้ส่วนเสีย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0,31,38-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395280" y="38736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การให้ความสำคัญกับผู้รับบริการและผู้มีส่วนได้ส่วนเสี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9090-BD06-43D9-B109-6F3531C9930B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95280" y="825480"/>
          <a:ext cx="8280360" cy="5339880"/>
        </p:xfrm>
        <a:graphic>
          <a:graphicData uri="http://schemas.openxmlformats.org/drawingml/2006/table">
            <a:tbl>
              <a:tblPr/>
              <a:tblGrid>
                <a:gridCol w="647640"/>
                <a:gridCol w="7632720"/>
              </a:tblGrid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สร้างความสัมพันธ์กับผู้รับบริการและผู้มีส่วนได้ส่วนเสี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S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เปิดโอกาสให้ประชาชนเข้ามามีส่วนร่วมผ่านกิจกรรมต่างๆอย่างสม่ำเสมอ เพื่อให้ประชาชนมีส่วนร่วมแสดงความคิดเห็น ให้ข้อเสนอแนะ และร่วมติดตามประเมินผลการบริหารจัดการของส่วนราชการ โดยการให้ข้อมูลข่าวสาร แก่ประชาชน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orm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ให้โอกาสร่วมแสดงความคิดเห็น 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ult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ีการดำเนินการร่วมกั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Collaborate)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่วมกันติดตามตรวจสอบ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volve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ทั้งให้การเสริมอำนา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Empower)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ก่ประชาช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0,31,38-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S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มีการวัดความพึงพอใจของผู้รับบริการและผู้มีส่วนได้ส่วนเสียในแต่ละกลุ่มตามที่ได้กำหนดไว้ เพื่อนำผลไปปรับปรุงการให้บริการและการดำเนินงานของส่วนราชการ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8,41-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S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มีการวัดความไม่พึงพอใจของผู้รับบริการและผู้มีส่วนได้ส่วนเสียในแต่ละกลุ่มตามที่ได้กำหนดไว้ เพื่อนำผลไปปรับปรุงการให้บริการและการดำเนินงานของส่วนราชการ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8,41-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S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กำหนดมาตรฐาน คู่มือ แนวทางการปฏิบัติของบุคลากรในการให้บริการ ระยะเวลาแล้วเสร็จของงานบริการในแต่ละงา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โดยมีการจัดทำแผนภูมิหรือคู่มือการติดต่อราชการโดยประกาศให้ผู้รับบริการและผู้มีส่วนได้ส่วนเสียทราบ เพื่อให้เกิดความพึงพอใจในการรับบริ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8,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S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กำหนดวิธีการติดตามคุณภาพการให้บริการเพื่อนำมาวิเคราะห์และปรับปรุงการบริการให้สามารถสนองตอบความต้องการได้อย่างเหมาะส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8,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"/>
          <p:cNvSpPr/>
          <p:nvPr/>
        </p:nvSpPr>
        <p:spPr>
          <a:xfrm>
            <a:off x="395280" y="38736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การให้ความสำคัญกับผู้รับบริการและผู้มีส่วนได้ส่วนเสี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ตัวยึดหมายเลขภาพนิ่ง 3"/>
          <p:cNvSpPr/>
          <p:nvPr/>
        </p:nvSpPr>
        <p:spPr>
          <a:xfrm>
            <a:off x="694836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30B7-0F1A-4D1B-AE95-A62B0EB244D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468360" y="836640"/>
          <a:ext cx="8207280" cy="5388120"/>
        </p:xfrm>
        <a:graphic>
          <a:graphicData uri="http://schemas.openxmlformats.org/drawingml/2006/table">
            <a:tbl>
              <a:tblPr/>
              <a:tblGrid>
                <a:gridCol w="934920"/>
                <a:gridCol w="7272360"/>
              </a:tblGrid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2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วัด การวิเคราะห์ และการปรับปรุงผลการดำเนินการ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ระบบฐานข้อมูลผลการดำเนินงานตามแผนยุทธศาสตร์และแผนปฏิบัติราชการ รวมทั้งผลการดำเนินงานของตัวชี้วัดตามคำรับรองการปฏิบัติราชการ ที่ครอบคลุม ถูกต้อง และทันสมัย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9 (3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จัดการ สารสนเทศ เทคโนโลยีสารสนเทศ และความรู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ทบทวนฐานข้อมูลเพื่อสนับสนุนการปฏิบัติงานของกระบวนการที่สร้างคุณค่า ที่จัดทำไว้ในปีงบประมาณ พ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1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ละต้องมีฐานข้อมูลเพื่อสนับสนุนการปฏิบัติงานของกระบวนการที่สร้างคุณค่าเพิ่มเติม อย่างน้อย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ระบว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T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ฐานข้อมูลเพื่อสนับสนุนการปฏิบัติงานของกระบวนการสนับสนุน อย่างน้อย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ระบว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T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ระบบเทคโนโลยีสารสนเทศเพื่อให้ประชาชนสามารถเข้าถึงข้อมูลข่าวสารได้อย่างเหมาะสม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9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T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ระบบการติดตาม เฝ้าระวัง และเตือนภัย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arning System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ช่น การกำหนดระบบการเตือนภัยแบบสัญญาณไฟจราจร การจัดตั้งห้องปฏิบัติการ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tion Room, Management Cockpit, War Room)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ี่บ่งชี้ถึงการเปลี่ยนแปลงที่เกิดขึ้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T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ระบบบริหารความเสี่ยงของระบบฐานข้อมูลและสารสนเท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T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จัดทำแผนการจัดการความรู้ และนำแผนไปปฏิบัต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395280" y="460440"/>
            <a:ext cx="53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วัด การวิเคราะห์และการจัดการความ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130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ahoma"/>
              </a:rPr>
              <a:t>ความเป็นเลิศขององค์กรภาครัฐ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900" spc="-1" strike="noStrike">
                <a:solidFill>
                  <a:srgbClr val="000000"/>
                </a:solidFill>
                <a:latin typeface="Times New Roman"/>
              </a:rPr>
              <a:t>อะไรคือความเป็นเลิศขององค์กรภาครัฐ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ประชาชนได้รับการบริการ</a:t>
            </a: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ดูแลอย่างทั่วถึงและมีประสิทธิผล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พันธกิจที่ได้รับมอบหมายสามารถบรรลุได้อย่างมีประสิทธิผล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การดำเนินการของภาครัฐที่มีประสิทธิภาพสูง รวดเร็ว โปร่งใส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การใช้จ่ายงบประมาณมีประสิทธิภาพสูง คุ้มค่า มีผลิตภาพสูง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000000"/>
                </a:solidFill>
                <a:latin typeface="Times New Roman"/>
              </a:rPr>
              <a:t>ประเทศชาติมีความมั่นคง และศักยภาพในการแข่งขันที่สูงขึ้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95280" y="387360"/>
            <a:ext cx="53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Tahoma"/>
              </a:rPr>
              <a:t>5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600" spc="-1" strike="noStrike">
                <a:solidFill>
                  <a:srgbClr val="000099"/>
                </a:solidFill>
                <a:latin typeface="Tahoma"/>
                <a:cs typeface="Tahoma"/>
              </a:rPr>
              <a:t>การมุ่งเน้นทรัพยากรบุคค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457200" y="765000"/>
          <a:ext cx="8229600" cy="5704200"/>
        </p:xfrm>
        <a:graphic>
          <a:graphicData uri="http://schemas.openxmlformats.org/drawingml/2006/table">
            <a:tbl>
              <a:tblPr/>
              <a:tblGrid>
                <a:gridCol w="1171440"/>
                <a:gridCol w="7058160"/>
              </a:tblGrid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สร้างบรรยากาศการทำงาน ความผาสุกและความพึงพอใจแก่บุคลากร เพื่อก่อให้เกิดความผูกพันต่อองค์ก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R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กำหนดปัจจัยทีมีผลต่อความผาสุก และความพึงพอใจ ของบุคลากร รวมทั้งต้องมีการวิเคราะห์และปรับปรุงปัจจัย ดังกล่าวให้มีความเหมาะสม เพื่อสร้างแรงจูงใจในการปฏิบัติงานและให้เกิดความผูกพันต่อองค์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R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มีระบบการประเมินผลการปฏิบัติงานของบุคลากรที่มีประสิทธิผล และเป็นธรรม รวมทั้งมีการแจ้งผลการประเมินให้บุคลากรทราบ เพื่อปรับปรุงการปฏิบัติงา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ให้ดีขึ้น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พัฒนาบุคลากรและภาวะผู้น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R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ดำเนินการตามแผนกลยุทธ์การบริหารทรัพยากรบุคคลที่กำหนดไว้ใน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3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ไปปฏิบัติ เพื่อให้มีขีดสมรรถนะที่เหมาะสม สามารถปฏิบัติงานให้บรรลุผลตามเป้าประสงค์เชิงยุทธศาสตร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R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ระบบการประกันคุณภาพของการฝึกอบรม รวมถึงการประเมินประสิทธิผลและความคุ้มค่าของการพัฒน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/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ฝึกอบรมบุคลากร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GG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th-TH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R </a:t>
                      </a:r>
                      <a:r>
                        <a:rPr b="0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มีแผนการสร้างความก้าวหน้าในสายงานให้แก่บุคลากร เพื่อสร้างขวัญและกำลังใจในการปฏิบัติงานให้กับบุคลาก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95280" y="38736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  <a:ea typeface="Tahoma"/>
              </a:rPr>
              <a:t>6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99"/>
                </a:solidFill>
                <a:latin typeface="Tahoma"/>
                <a:cs typeface="Tahoma"/>
              </a:rPr>
              <a:t>การจัดการกระบวน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446040" y="762120"/>
          <a:ext cx="8229600" cy="5648040"/>
        </p:xfrm>
        <a:graphic>
          <a:graphicData uri="http://schemas.openxmlformats.org/drawingml/2006/table">
            <a:tbl>
              <a:tblPr/>
              <a:tblGrid>
                <a:gridCol w="1176480"/>
                <a:gridCol w="7053120"/>
              </a:tblGrid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ออกแบบกระบว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M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กำหนดกระบวนการที่สร้างคุณค่าจากยุทธศาสตร์ พันธกิจ และความต้องการขอ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รับบริการและผู้มีส่วนได้ส่วนเสีย เพื่อให้บรรลุวิสัยทัศน์ของส่วนราช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M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จัดทำข้อกำหนดที่สำคัญของกระบวนการที่สร้างคุณค่าจากความต้องการขอ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ผู้รับบริการ ผู้มีส่วนได้ส่วนเสีย ข้อกำหนดด้านกฎหมาย  และข้อกำหนดที่สำคัญ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Angsana New"/>
                          <a:cs typeface="Tahoma"/>
                        </a:rPr>
                        <a:t>ที่ช่วยวัดผล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Angsana New"/>
                          <a:cs typeface="Tahoma"/>
                        </a:rPr>
                        <a:t>ดำเนินงาน แล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gsana New"/>
                          <a:ea typeface="Tahoma"/>
                        </a:rPr>
                        <a:t>/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Angsana New"/>
                          <a:cs typeface="Tahoma"/>
                        </a:rPr>
                        <a:t>หรือปรับปรุงการดำเนินงานให้มีประสิทธิภาพและความคุ้มค่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M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ออกแบบกระบวนการจากข้อกำหนดที่สำคัญใ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M 2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ละนำปัจจัยที่เกี่ยวข้องที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ำคัญ มาประกอบการออกแบบกระบวนการ เพื่อให้เกิดประสิทธิภาพในการปฏิบัติงานและปรับปรุ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ระบวนอย่างต่อเนื่อง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0,27-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M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ระบบรองรับภาวะฉุกเฉินต่าง ๆ ที่อาจเกิดขึ้นและมีผลกระทบต่อการจัด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ระบวนการ  เพื่อให้ส่วนราชการจะสามารถดำเนินงานได้อย่างต่อเนื่อ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จัดการและปรับปรุงกระบว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M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กำหนดมาตรฐานการปฏิบัติงาน ของกระบวนการที่สร้างคุณค่า และกระบว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นับสนุนโดยมีวิธีการในการนำมาตรฐานการปฏิบัติงานดังกล่าวให้บุคลากรนำไปปฏิบัติ เพื่อให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บรรลุผลตามข้อกำหนดที่สำคัญ 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ฎ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GG </a:t>
                      </a:r>
                      <a:r>
                        <a:rPr b="0" lang="th-TH" sz="1400" spc="-1" strike="noStrike">
                          <a:solidFill>
                            <a:srgbClr val="ff0000"/>
                          </a:solidFill>
                          <a:latin typeface="Tahoma"/>
                          <a:cs typeface="Tahoma"/>
                        </a:rPr>
                        <a:t>มาตรา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7,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M 6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ต้องมีการปรับปรุงกระบวนการที่สร้างคุณค่าและกระบวนการสนับสนุน เพื่อให้ผล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ดีขึ้นและป้องกันไม่ให้เกิดข้อผิดพลาด การทำงานซ้ำ และความสูญเสียจากผล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179280" y="7159680"/>
            <a:ext cx="183960" cy="51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9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8320" y="371520"/>
            <a:ext cx="2670840" cy="3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9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33cc"/>
                </a:solidFill>
                <a:latin typeface="Tahoma"/>
                <a:cs typeface="Tahoma"/>
              </a:rPr>
              <a:t>หมวด</a:t>
            </a:r>
            <a:r>
              <a:rPr b="1" lang="en-US" sz="15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n-US" sz="1500" spc="-1" strike="noStrike">
                <a:solidFill>
                  <a:srgbClr val="0033cc"/>
                </a:solidFill>
                <a:latin typeface="Tahoma"/>
                <a:ea typeface="Tahoma"/>
              </a:rPr>
              <a:t>7   </a:t>
            </a:r>
            <a:r>
              <a:rPr b="1" lang="th-TH" sz="1500" spc="-1" strike="noStrike">
                <a:solidFill>
                  <a:srgbClr val="0033cc"/>
                </a:solidFill>
                <a:latin typeface="Tahoma"/>
                <a:cs typeface="Tahoma"/>
              </a:rPr>
              <a:t>ผลลัพธ์การดำเนินกา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395280" y="766800"/>
          <a:ext cx="8497800" cy="5519880"/>
        </p:xfrm>
        <a:graphic>
          <a:graphicData uri="http://schemas.openxmlformats.org/drawingml/2006/table">
            <a:tbl>
              <a:tblPr/>
              <a:tblGrid>
                <a:gridCol w="873360"/>
                <a:gridCol w="5041440"/>
                <a:gridCol w="495360"/>
                <a:gridCol w="381600"/>
                <a:gridCol w="411480"/>
                <a:gridCol w="527400"/>
                <a:gridCol w="552240"/>
                <a:gridCol w="216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ติด้านประสิทธิ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M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เฉลี่ยถ่วงน้ำหนักของแผนปฏิบัติการที่ส่วนราชการดำเนินการได้สำเร็จตามมเป้าหมาย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ติด้านคุณภาพการให้บริ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M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ความพึงพอใจของผู้รับบริการและผู้มีส่วนได้ส่วนเสียต่อการให้บริการและการดำเนินงานของส่วนราชการ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ติด้านประสิทธิภาพของการปฏิบัติราช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M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เฉลี่ยของความสำเร็จในการดำเนินการตามมาตรฐานระยะเวลาที่กำหนดของกระบวนการที่สร้างคุณค่า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ำนว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ระบวนการที่ได้จัดทำคู่มือปฏิบัติงานในปี งปม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1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ลักฐาน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M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เฉลี่ยของความสำเร็จในการดำเนินการตามมาตรฐานระยะเวลาที่กำหนดของกระบวนการสนับสนุน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ำนว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ระบวนการที่ได้จัดทำคู่มือปฏิบัติงานในปี งปม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1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ลักฐานที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M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cs typeface="Tahoma"/>
                        </a:rPr>
                        <a:t>กรณีส่วนราชการที่มีงบลงทุ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อัตราการเบิกจ่ายงบประมาณรายจ่ายลงทุ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cs typeface="Tahoma"/>
                        </a:rPr>
                        <a:t>กรณีส่วนราชการไม่มีงบลงทุ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อัตราการเบิกจ่ายงบประมาณรายจ่ายในภาพรวม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M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เฉลี่ยถ่วงน้ำหนักของการดำเนินการตามแผนบริหารความเสี่ย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-179280" y="7159680"/>
            <a:ext cx="183960" cy="51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9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08320" y="515880"/>
            <a:ext cx="2670840" cy="3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9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033cc"/>
                </a:solidFill>
                <a:latin typeface="Tahoma"/>
                <a:cs typeface="Tahoma"/>
              </a:rPr>
              <a:t>หมวด</a:t>
            </a:r>
            <a:r>
              <a:rPr b="1" lang="en-US" sz="15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n-US" sz="1500" spc="-1" strike="noStrike">
                <a:solidFill>
                  <a:srgbClr val="0033cc"/>
                </a:solidFill>
                <a:latin typeface="Tahoma"/>
                <a:ea typeface="Tahoma"/>
              </a:rPr>
              <a:t>7   </a:t>
            </a:r>
            <a:r>
              <a:rPr b="1" lang="th-TH" sz="1500" spc="-1" strike="noStrike">
                <a:solidFill>
                  <a:srgbClr val="0033cc"/>
                </a:solidFill>
                <a:latin typeface="Tahoma"/>
                <a:cs typeface="Tahoma"/>
              </a:rPr>
              <a:t>ผลลัพธ์การดำเนินกา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95280" y="982800"/>
          <a:ext cx="8497800" cy="4390560"/>
        </p:xfrm>
        <a:graphic>
          <a:graphicData uri="http://schemas.openxmlformats.org/drawingml/2006/table">
            <a:tbl>
              <a:tblPr/>
              <a:tblGrid>
                <a:gridCol w="873360"/>
                <a:gridCol w="5041440"/>
                <a:gridCol w="495360"/>
                <a:gridCol w="381600"/>
                <a:gridCol w="411480"/>
                <a:gridCol w="527400"/>
                <a:gridCol w="552240"/>
                <a:gridCol w="216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หั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ติด้านการพัฒนาองค์ก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M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บุคลากรที่ได้รับการพัฒนาขีดสมรรถนะตามแผนพัฒนาขีดสมรรถนะของบุคลากร</a:t>
                      </a:r>
                      <a:br>
                        <a:rPr sz="1400"/>
                      </a:br>
                      <a:r>
                        <a:rPr b="0" lang="hi-IN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รือแผนพัฒนาบุคลาก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M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ความครอบคลุม  ถูกต้อง และทันสมัยของฐานข้อมูลที่สนับสนุนยุทธศาสตร์อย่างน้อย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เด็นยุทธศาสตร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M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เฉลี่ยถ่วงน้ำหนักความสำเร็จของการดำเนินกิจกรรมตามแผนการจัดการความรู้ อย่างน้อย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องค์ความรู้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M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ความสำเร็จของโครงการตามนโยบายการกำกับดูแลองค์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ที่ดีอย่างน้อยด้านล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โครง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2124000" y="2060640"/>
            <a:ext cx="525636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90320"/>
            <a:ext cx="6192720" cy="11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</a:rPr>
              <a:t>ทำไมต้องปรับปรุงการบริหารองค์กรภาครัฐ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21844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ภาครัฐเป็นหนึ่งในหัวรถจักรหลักที่นำพาความเจริญมาสู่ประเทศชาต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ความคาดหวังของประชาชนเจ้าของประเทศที่สูงขึ้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การเปลี่ยนแปลงเทคโนโลยีและสภาพแวดล้อมที่รวดเร็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การแข่งขันระหว่างประเทศทวีความรุนแรงมากขึ้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โลกาภิวัฒน์ กฎหมาย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ข้อตกลงระหว่างประเทศ การเปิดเสรี ตลอดจนการรวมเป็นกลุ่มของประเทศต่าง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76360" y="1557360"/>
            <a:ext cx="6624720" cy="3024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ที่มาขอ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คุณภาพการบริหารจัดการภาครัฐระดับพื้นฐาน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Fundamental Leve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6600"/>
                </a:solidFill>
                <a:latin typeface="Browallia New"/>
                <a:ea typeface="Browallia New"/>
              </a:rPr>
              <a:t> </a:t>
            </a:r>
            <a:r>
              <a:rPr b="0" lang="th-TH" sz="4000" spc="-1" strike="noStrike">
                <a:solidFill>
                  <a:srgbClr val="006600"/>
                </a:solidFill>
                <a:latin typeface="Browallia New"/>
                <a:cs typeface="Browallia New"/>
              </a:rPr>
              <a:t>ปัญหาและอุปสรรคในการใช้เกณฑ์ </a:t>
            </a:r>
            <a:r>
              <a:rPr b="0" lang="en-US" sz="4000" spc="-1" strike="noStrike">
                <a:solidFill>
                  <a:srgbClr val="3333cc"/>
                </a:solidFill>
                <a:latin typeface="Browallia New"/>
                <a:ea typeface="Browallia New"/>
              </a:rPr>
              <a:t>PMQA</a:t>
            </a:r>
            <a:r>
              <a:rPr b="0" lang="en-US" sz="4000" spc="-1" strike="noStrike">
                <a:solidFill>
                  <a:srgbClr val="006600"/>
                </a:solidFill>
                <a:latin typeface="Browallia New"/>
                <a:ea typeface="Browallia New"/>
              </a:rPr>
              <a:t> ?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07160" cy="50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กณฑ์ </a:t>
            </a:r>
            <a:r>
              <a:rPr b="1" lang="en-US" sz="39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PMQA</a:t>
            </a:r>
            <a:r>
              <a:rPr b="1" lang="en-US" sz="3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ีความซับซ้อนเข้าใจยา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ม่รู้จะเริ่มต้นตรงไห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ขียนแล้วแก้ แก้แล้วเขียน ไม่รู้เขียนอย่างไรให้ถูกใจคนอ่า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นในหน่วยงานมีมาก ไม่สามารถบูรณาการได้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ม่มีผลลัพธ์และข้อมูลที่จะนำมาตอบ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Times New Roman"/>
                <a:cs typeface="Browallia New"/>
              </a:rPr>
              <a:t>ควรปรับปรุงอะไรก่อน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Browallia New"/>
              </a:rPr>
              <a:t>? </a:t>
            </a:r>
            <a:r>
              <a:rPr b="1" lang="th-TH" sz="3700" spc="-1" strike="noStrike">
                <a:solidFill>
                  <a:srgbClr val="000000"/>
                </a:solidFill>
                <a:latin typeface="Times New Roman"/>
                <a:cs typeface="Browallia New"/>
              </a:rPr>
              <a:t>ระบบงานหรือข้อมูล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89"/>
              </a:spcBef>
              <a:buClr>
                <a:srgbClr val="66ff33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ม่รู้จะ</a:t>
            </a:r>
            <a:r>
              <a:rPr b="1" lang="th-TH" sz="3700" spc="-1" strike="noStrike">
                <a:solidFill>
                  <a:srgbClr val="000000"/>
                </a:solidFill>
                <a:latin typeface="Times New Roman"/>
                <a:cs typeface="Browallia New"/>
              </a:rPr>
              <a:t>ปรับปรุงอย่างไรให้ดีขึ้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811080"/>
            <a:ext cx="792000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1280" y="2492280"/>
            <a:ext cx="151272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ahoma"/>
                <a:cs typeface="Tahoma"/>
              </a:rPr>
              <a:t>ศึกษาและพัฒนาเกณฑ์คุณภาพการบริหารจัดการภาครั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7080" y="1052640"/>
            <a:ext cx="2592360" cy="114300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2720" y="1052640"/>
            <a:ext cx="2232000" cy="1143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40360" y="1052640"/>
            <a:ext cx="2592360" cy="114300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9052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19240"/>
            <a:ext cx="8636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900" spc="-1" strike="noStrike">
                <a:solidFill>
                  <a:srgbClr val="000000"/>
                </a:solidFill>
                <a:latin typeface="Tahoma"/>
                <a:cs typeface="FreesiaUPC"/>
              </a:rPr>
              <a:t>แผนการดำเนินงาน</a:t>
            </a:r>
            <a:br>
              <a:rPr sz="2900"/>
            </a:br>
            <a:r>
              <a:rPr b="1" lang="th-TH" sz="2900" spc="-1" strike="noStrike">
                <a:solidFill>
                  <a:srgbClr val="000000"/>
                </a:solidFill>
                <a:latin typeface="Tahoma"/>
                <a:cs typeface="FreesiaUPC"/>
              </a:rPr>
              <a:t>ระบบคุณภาพการบริหารจัดการภาครัฐ </a:t>
            </a: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2547 – 2550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2492280"/>
            <a:ext cx="180180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10000"/>
              </a:lnSpc>
              <a:spcBef>
                <a:spcPts val="7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เกณฑ์คุณภาพการบริหารจัดการภาครั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7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ความรู้ ความเข้าใจให้ส่วนราชการต่าง 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7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ผู้ตรวจประเมินภายใน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7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วิทยากรตัวคู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7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กรมนำร่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2421000"/>
            <a:ext cx="2376360" cy="35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งเสริมผลักดันให้</a:t>
            </a:r>
            <a:br>
              <a:rPr sz="1400"/>
            </a:b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นำไปปฏิบัติ โดยกำหนดเป็นตัวชี้วัดเลือกตามคำรับรองการปฏิบัติราช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บรมคณะทำงาน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Working Team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ของส่วนราชการที่เลือกดำเนิน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ส่วนราชการนำร่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ให้คำปรึกษาและติดตามผลของกรมนำร่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วิทยากรที่ปรึ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0000"/>
              </a:lnSpc>
              <a:spcBef>
                <a:spcPts val="6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ผู้ตรวจประเมินรางวั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0"/>
            <a:ext cx="8785080" cy="6465960"/>
          </a:xfrm>
          <a:prstGeom prst="rect">
            <a:avLst/>
          </a:prstGeom>
          <a:noFill/>
          <a:ln w="9360">
            <a:solidFill>
              <a:srgbClr val="99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1052640"/>
            <a:ext cx="2664000" cy="11430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ป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5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00720" y="2424240"/>
            <a:ext cx="22320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ับปรุงเกณฑ์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งเสริมผลักดันให้ส่วนราชการนำไปปฏิบัติ โดยกำหนดเป็นตัวชี้วัดบังคับตามคำรับรองการปฏิบัติราช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บรมคณะทำงาน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Working Team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ของทุกส่วนราช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งเสริมส่วนราชการเข้าสู่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ast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บริหารเครือข่ายวิทยากรที่ปรึ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45:09Z</dcterms:created>
  <dc:creator>supachai</dc:creator>
  <dc:description/>
  <dc:language>en-US</dc:language>
  <cp:lastModifiedBy>WindowsXP</cp:lastModifiedBy>
  <dcterms:modified xsi:type="dcterms:W3CDTF">2008-11-26T03:58:32Z</dcterms:modified>
  <cp:revision>251</cp:revision>
  <dc:subject/>
  <dc:title>Slide 1</dc:title>
</cp:coreProperties>
</file>