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8.wmf" ContentType="image/x-wmf"/>
  <Override PartName="/ppt/media/image11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10.png" ContentType="image/png"/>
  <Override PartName="/ppt/media/image3.jpeg" ContentType="image/jpeg"/>
  <Override PartName="/ppt/media/image22.wmf" ContentType="image/x-wmf"/>
  <Override PartName="/ppt/media/image20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95758-3185-4CEB-A9C6-88AF933C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AFACE-86EE-42D5-ACE0-1093E54E9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EBBD7-DA81-476C-A1F9-8A25D64DE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91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3F036-3A73-40F3-811D-4CEDBEFB2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4FA74-5E9B-4CDB-A13F-9602BCD0C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93BDA-A34F-4DC7-A9F3-E32CE49DE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D6346-10DC-4785-9D7E-8F4D5AF96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EEE85-852A-4950-9E65-C07294DE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373CC-C219-41C8-95A1-70A21712B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BF1C-9178-493C-B609-7DF7A0FF2F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DFDC-C059-4BDD-9C9C-CC837CD6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79FB-970B-49F3-8D59-B3DFE018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770D-23ED-4893-9E2A-0E355D2B99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4C20-5CC3-4537-892B-1E39B85C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11DF-3AAD-4811-89F4-EAB398A6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0947-8ACF-49A9-BBDC-7E64B049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75F2-0718-4CD7-B422-296EEA1C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CCF9-DEFD-40A2-9DB6-9357E7C9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0412-9EB2-4B04-9E04-36166BCE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2D37-5284-4F82-8C58-5513094E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E59E-9E2A-4850-90C9-5B28F65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TC ppt Ins copy6[1]"/>
          <p:cNvPicPr/>
          <p:nvPr/>
        </p:nvPicPr>
        <p:blipFill>
          <a:blip r:embed="rId2"/>
          <a:srcRect l="0" t="-2803" r="64067" b="0"/>
          <a:stretch/>
        </p:blipFill>
        <p:spPr>
          <a:xfrm>
            <a:off x="0" y="0"/>
            <a:ext cx="266544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1"/>
          <p:cNvSpPr/>
          <p:nvPr/>
        </p:nvSpPr>
        <p:spPr>
          <a:xfrm>
            <a:off x="6659640" y="0"/>
            <a:ext cx="1584360" cy="47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MQ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ga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Object 12" descr=""/>
          <p:cNvPicPr/>
          <p:nvPr/>
        </p:nvPicPr>
        <p:blipFill>
          <a:blip r:embed="rId3"/>
          <a:stretch/>
        </p:blipFill>
        <p:spPr>
          <a:xfrm>
            <a:off x="8207280" y="0"/>
            <a:ext cx="93672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3" descr="PMQA_FINAL_2"/>
          <p:cNvPicPr/>
          <p:nvPr/>
        </p:nvPicPr>
        <p:blipFill>
          <a:blip r:embed="rId4"/>
          <a:stretch/>
        </p:blipFill>
        <p:spPr>
          <a:xfrm>
            <a:off x="7812000" y="115920"/>
            <a:ext cx="333360" cy="59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6600">
                <a:alpha val="50000"/>
              </a:srgbClr>
            </a:outerShdw>
          </a:effectLst>
        </p:spPr>
      </p:pic>
      <p:pic>
        <p:nvPicPr>
          <p:cNvPr id="8" name="Picture 6" descr=""/>
          <p:cNvPicPr/>
          <p:nvPr/>
        </p:nvPicPr>
        <p:blipFill>
          <a:blip r:embed="rId5"/>
          <a:stretch/>
        </p:blipFill>
        <p:spPr>
          <a:xfrm>
            <a:off x="7812000" y="6308640"/>
            <a:ext cx="817560" cy="297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0992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C2D1-C682-4D8C-85E2-64FDBE2D48E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2" descr="Picture1"/>
          <p:cNvPicPr/>
          <p:nvPr/>
        </p:nvPicPr>
        <p:blipFill>
          <a:blip r:embed="rId6"/>
          <a:srcRect l="0" t="0" r="70025" b="0"/>
          <a:stretch/>
        </p:blipFill>
        <p:spPr>
          <a:xfrm>
            <a:off x="357120" y="6002280"/>
            <a:ext cx="741600" cy="6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2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F631-C41A-484A-A48F-907BDF48E81D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TC ppt Ins copy6[1]"/>
          <p:cNvPicPr/>
          <p:nvPr/>
        </p:nvPicPr>
        <p:blipFill>
          <a:blip r:embed="rId1"/>
          <a:srcRect l="0" t="0" r="0" b="142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332000" y="0"/>
            <a:ext cx="78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333cc"/>
                </a:solidFill>
                <a:latin typeface="Tahoma"/>
                <a:cs typeface="Tahoma"/>
              </a:rPr>
              <a:t>โครงการพัฒนาคุณภาพการบริหารจัดการภาครัฐ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(PMQA)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cs typeface="Tahoma"/>
              </a:rPr>
              <a:t>ปี พ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cs typeface="Tahoma"/>
              </a:rPr>
              <a:t>ศ</a:t>
            </a:r>
            <a:r>
              <a:rPr b="0" lang="th-TH" sz="2000" spc="-1" strike="noStrike">
                <a:solidFill>
                  <a:srgbClr val="3333cc"/>
                </a:solidFill>
                <a:latin typeface="Tahoma"/>
                <a:ea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95640" y="2205000"/>
            <a:ext cx="784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Tahoma"/>
              </a:rPr>
              <a:t>การพัฒนาคุณภา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Tahoma"/>
              </a:rPr>
              <a:t>การบริหารจัดการภาครั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PMQA: Public Sector Management Quality Aw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PMQA_FINAL_2"/>
          <p:cNvPicPr/>
          <p:nvPr/>
        </p:nvPicPr>
        <p:blipFill>
          <a:blip r:embed="rId2"/>
          <a:stretch/>
        </p:blipFill>
        <p:spPr>
          <a:xfrm>
            <a:off x="900000" y="907920"/>
            <a:ext cx="1054080" cy="21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6600">
                <a:alpha val="50000"/>
              </a:srgbClr>
            </a:outerShdw>
          </a:effectLst>
        </p:spPr>
      </p:pic>
      <p:sp>
        <p:nvSpPr>
          <p:cNvPr id="59" name="Rectangle 6"/>
          <p:cNvSpPr/>
          <p:nvPr/>
        </p:nvSpPr>
        <p:spPr>
          <a:xfrm>
            <a:off x="2428920" y="5857920"/>
            <a:ext cx="66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อกสารประกอบการชี้แจงตัวชี้วัดการพัฒนาคุณภาพการบริหารจัดการภาครัฐ    สำหรับส่วนราชการระดับกรม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55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วันที่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8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ฤศจิกายน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551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B97-CA6A-41D5-BC9B-0870F1F3B50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948360" y="4292640"/>
            <a:ext cx="47628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7020000" y="2563920"/>
            <a:ext cx="476280" cy="47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52960" y="3938760"/>
            <a:ext cx="1790640" cy="10062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6.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จัด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ระบวน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981680" y="2286000"/>
            <a:ext cx="1861920" cy="101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5.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มุ่งเน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ทรัพยากรบุคค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5927760" y="33814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4495680" y="3462480"/>
            <a:ext cx="533520" cy="271440"/>
          </a:xfrm>
          <a:prstGeom prst="leftRightArrow">
            <a:avLst>
              <a:gd name="adj1" fmla="val 50000"/>
              <a:gd name="adj2" fmla="val 391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4643280" y="4869000"/>
            <a:ext cx="228600" cy="414360"/>
          </a:xfrm>
          <a:prstGeom prst="upDownArrow">
            <a:avLst>
              <a:gd name="adj1" fmla="val 50000"/>
              <a:gd name="adj2" fmla="val 360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971640" y="5378400"/>
            <a:ext cx="6985080" cy="642960"/>
          </a:xfrm>
          <a:prstGeom prst="rect">
            <a:avLst/>
          </a:prstGeom>
          <a:solidFill>
            <a:srgbClr val="ffff89"/>
          </a:solidFill>
          <a:ln w="0">
            <a:noFill/>
          </a:ln>
          <a:effectLst>
            <a:outerShdw dist="17819" dir="2700000" blurRad="0" rotWithShape="0">
              <a:srgbClr val="99995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4.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ัด การวิเคราะห์ และการจัดการความรู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535120" y="3936960"/>
            <a:ext cx="1933560" cy="10080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FreesiaUPC"/>
                <a:ea typeface="FreesiaUPC"/>
              </a:rPr>
              <a:t>3. </a:t>
            </a: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ให้ความ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ับผู้รับบริการแล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ผู้มีส่วนได้ส่วนเสี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2104920" y="4121280"/>
            <a:ext cx="374760" cy="419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2104920" y="2652480"/>
            <a:ext cx="374760" cy="423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457200" y="3022560"/>
            <a:ext cx="1576440" cy="10000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1. </a:t>
            </a: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น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536920" y="2286000"/>
            <a:ext cx="1931760" cy="10000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างแผ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เชิงยุทธศาสตร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465360" y="338148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971640" y="1041480"/>
            <a:ext cx="7086240" cy="900000"/>
            <a:chOff x="971640" y="1041480"/>
            <a:chExt cx="7086240" cy="900000"/>
          </a:xfrm>
        </p:grpSpPr>
        <p:sp>
          <p:nvSpPr>
            <p:cNvPr id="224" name="Line 17"/>
            <p:cNvSpPr/>
            <p:nvPr/>
          </p:nvSpPr>
          <p:spPr>
            <a:xfrm>
              <a:off x="971640" y="1941480"/>
              <a:ext cx="708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971640" y="1041480"/>
              <a:ext cx="7086240" cy="900000"/>
            </a:xfrm>
            <a:prstGeom prst="pie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9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9"/>
          <p:cNvSpPr/>
          <p:nvPr/>
        </p:nvSpPr>
        <p:spPr>
          <a:xfrm>
            <a:off x="1547640" y="1214280"/>
            <a:ext cx="5639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FreesiaUPC"/>
              </a:rPr>
              <a:t>P.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ลักษณะสำคัญขององค์กร                              สภาพแวดล้อม ความสัมพันธ์ และความท้าท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0"/>
          <p:cNvSpPr/>
          <p:nvPr/>
        </p:nvSpPr>
        <p:spPr>
          <a:xfrm>
            <a:off x="533520" y="1941480"/>
            <a:ext cx="914400" cy="1036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7885080" y="1989000"/>
            <a:ext cx="533520" cy="1067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>
            <a:off x="609480" y="4089240"/>
            <a:ext cx="114300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 flipV="1">
            <a:off x="7812000" y="4363560"/>
            <a:ext cx="6098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2987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MQA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7315200" y="3192480"/>
            <a:ext cx="1676520" cy="1006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FreesiaUPC"/>
                <a:ea typeface="FreesiaUPC"/>
              </a:rPr>
              <a:t>7. </a:t>
            </a:r>
            <a:r>
              <a:rPr b="1" lang="th-TH" sz="2800" spc="-1" strike="noStrike">
                <a:solidFill>
                  <a:srgbClr val="ffffff"/>
                </a:solidFill>
                <a:latin typeface="FreesiaUPC"/>
                <a:cs typeface="FreesiaUPC"/>
              </a:rPr>
              <a:t>ผลลัพ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FreesiaUPC"/>
                <a:cs typeface="FreesiaUPC"/>
              </a:rPr>
              <a:t>การดำเนิน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0" y="0"/>
            <a:ext cx="298764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TQM :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ramewor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0240" cy="928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2f2f2"/>
                </a:solidFill>
                <a:latin typeface="Tahoma"/>
                <a:cs typeface="Tahoma"/>
              </a:rPr>
              <a:t>สรุปสาระสำคัญของพระราชกฤษฎีกาว่าด้วยหลักเกณฑ์และวิธีการบริหารกิจการบ้านเมืองที่ดี และเกณฑ์คุณภาพการบริหารจัดการภาครั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7162920" y="3086280"/>
            <a:ext cx="1981080" cy="11602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ผลลัพธ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3, 4, 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0,20,27,28,29,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724280" y="3814920"/>
            <a:ext cx="2192400" cy="1160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จัดการกระบว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3, 5, 6, 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0,20,27,28,29,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46600" y="2085840"/>
            <a:ext cx="2187720" cy="12416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มุ่งเน้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ทรัพยากรบุคค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3, 5, 6, 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0,11,27,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5818320" y="332568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4343400" y="3492360"/>
            <a:ext cx="533520" cy="271440"/>
          </a:xfrm>
          <a:prstGeom prst="leftRightArrow">
            <a:avLst>
              <a:gd name="adj1" fmla="val 50000"/>
              <a:gd name="adj2" fmla="val 3912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4500720" y="4822920"/>
            <a:ext cx="228600" cy="338040"/>
          </a:xfrm>
          <a:prstGeom prst="upDownArrow">
            <a:avLst>
              <a:gd name="adj1" fmla="val 50000"/>
              <a:gd name="adj2" fmla="val 294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143000" y="5254560"/>
            <a:ext cx="6781680" cy="1032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ัด การวิเ</a:t>
            </a:r>
            <a:r>
              <a:rPr b="1" lang="th-TH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ค</a:t>
            </a: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ราะห์ และการจัดการความรู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3, 5, 7, 8)</a:t>
            </a:r>
            <a:r>
              <a:rPr b="1" lang="en-US" sz="2200" spc="-1" strike="noStrike">
                <a:solidFill>
                  <a:srgbClr val="f2ec00"/>
                </a:solidFill>
                <a:latin typeface="FreesiaUPC"/>
                <a:ea typeface="FreesiaUP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1,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2286000" y="3814920"/>
            <a:ext cx="2209680" cy="1160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ให้ความสำคัญกับผู้รั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บริการและผู้มีส่วนได้ส่วนเสี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2, 5, 6, 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.8,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30,31,38,39,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41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,42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,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23760" y="2951280"/>
            <a:ext cx="2171880" cy="11016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นำองค์ก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2, 5, 7, 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 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,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9,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2,16,18,20,23,27,28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43,44,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2286000" y="2158920"/>
            <a:ext cx="2209680" cy="115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วางแผนเชิงยุทธศาสตร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รฎ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cs typeface="FreesiaUPC"/>
              </a:rPr>
              <a:t>หมวด </a:t>
            </a:r>
            <a:r>
              <a:rPr b="1" lang="en-US" sz="2200" spc="-1" strike="noStrike">
                <a:solidFill>
                  <a:srgbClr val="000000"/>
                </a:solidFill>
                <a:latin typeface="FreesiaUPC"/>
                <a:ea typeface="FreesiaUPC"/>
              </a:rPr>
              <a:t>2,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FreesiaUPC"/>
                <a:cs typeface="FreesiaUPC"/>
              </a:rPr>
              <a:t>มาตรา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6,8,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9,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2,</a:t>
            </a:r>
            <a:r>
              <a:rPr b="1" lang="th-TH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13</a:t>
            </a:r>
            <a:r>
              <a:rPr b="1" lang="en-US" sz="1400" spc="-1" strike="noStrike">
                <a:solidFill>
                  <a:srgbClr val="000000"/>
                </a:solidFill>
                <a:latin typeface="FreesiaUPC"/>
                <a:ea typeface="FreesiaUPC"/>
              </a:rPr>
              <a:t>,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3492360" y="330984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1371600" y="1071720"/>
            <a:ext cx="7086240" cy="900000"/>
            <a:chOff x="1371600" y="1071720"/>
            <a:chExt cx="7086240" cy="900000"/>
          </a:xfrm>
        </p:grpSpPr>
        <p:sp>
          <p:nvSpPr>
            <p:cNvPr id="247" name="Line 15"/>
            <p:cNvSpPr/>
            <p:nvPr/>
          </p:nvSpPr>
          <p:spPr>
            <a:xfrm>
              <a:off x="1371600" y="1971720"/>
              <a:ext cx="7086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1371600" y="1071720"/>
              <a:ext cx="7086240" cy="900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  <a:effectLst>
              <a:outerShdw dist="17819" dir="2700000" blurRad="0" rotWithShape="0">
                <a:srgbClr val="997a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7"/>
          <p:cNvSpPr/>
          <p:nvPr/>
        </p:nvSpPr>
        <p:spPr>
          <a:xfrm>
            <a:off x="1981080" y="1284120"/>
            <a:ext cx="5639040" cy="9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ลักษณะสำคัญของ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สภาพแวดล้อม ความสัมพันธ์ และความท้าท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8"/>
          <p:cNvSpPr/>
          <p:nvPr/>
        </p:nvSpPr>
        <p:spPr>
          <a:xfrm>
            <a:off x="468360" y="2014560"/>
            <a:ext cx="863640" cy="934920"/>
          </a:xfrm>
          <a:prstGeom prst="pie">
            <a:avLst/>
          </a:prstGeom>
          <a:solidFill>
            <a:srgbClr val="cc9900"/>
          </a:solidFill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380880" y="4043520"/>
            <a:ext cx="838440" cy="13287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 flipH="1">
            <a:off x="7848360" y="4317840"/>
            <a:ext cx="826920" cy="1054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8474040" y="1986120"/>
            <a:ext cx="441360" cy="1066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 flipV="1">
            <a:off x="7020000" y="4317480"/>
            <a:ext cx="380880" cy="3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7010280" y="262908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1905120" y="4076640"/>
            <a:ext cx="374400" cy="343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 flipV="1">
            <a:off x="1905120" y="2620440"/>
            <a:ext cx="379440" cy="31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E66D-3114-482F-A9D9-F49500FB1D9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43720" cy="50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2f2f2"/>
                </a:solidFill>
                <a:latin typeface="Tahoma"/>
                <a:cs typeface="Tahoma"/>
              </a:rPr>
              <a:t>วงจรคุณภาพการบริหารจัดการภาครัฐ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ABEE-A1E6-433C-9485-8C3C1F1DFE2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0" t="10460" r="0" b="0"/>
          <a:stretch/>
        </p:blipFill>
        <p:spPr>
          <a:xfrm>
            <a:off x="571680" y="928800"/>
            <a:ext cx="8143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1B9B-011C-4C7D-98D3-8B9B3E34DB13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785880" y="2071800"/>
            <a:ext cx="7858080" cy="1464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26770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Tahoma"/>
                <a:ea typeface="Tahoma"/>
              </a:rPr>
              <a:t>2. 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ทิศทาง และเป้าหมา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การพัฒนาคุณภาพการบริหารจัดการภาครัฐปีงบประมาณ พ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ea typeface="Tahoma"/>
              </a:rPr>
              <a:t>.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ศ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ea typeface="Tahoma"/>
              </a:rPr>
              <a:t>. 2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rcRect l="36618" t="0" r="36217" b="0"/>
          <a:stretch/>
        </p:blipFill>
        <p:spPr>
          <a:xfrm>
            <a:off x="5253120" y="44280"/>
            <a:ext cx="903240" cy="20764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"/>
          <p:cNvSpPr/>
          <p:nvPr/>
        </p:nvSpPr>
        <p:spPr>
          <a:xfrm>
            <a:off x="0" y="0"/>
            <a:ext cx="388764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ป้าหมายการพัฒนาคุณภาพ การบริหารจัดการภาค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rcRect l="27750" t="11329" r="36228" b="26295"/>
          <a:stretch/>
        </p:blipFill>
        <p:spPr>
          <a:xfrm>
            <a:off x="7380360" y="4221000"/>
            <a:ext cx="1198440" cy="1295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7113600" y="1268280"/>
            <a:ext cx="925560" cy="10065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6610320" y="2996640"/>
            <a:ext cx="2411280" cy="459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างวัลมุ่งมั้นพัฒนาองค์การดีเด่น  หมวด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.......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3440" y="1440000"/>
            <a:ext cx="32684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เข้าสู่การสมัครขอรับรางวัล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M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615960" y="3816360"/>
            <a:ext cx="598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628560" y="3816360"/>
            <a:ext cx="5754600" cy="1871640"/>
          </a:xfrm>
          <a:prstGeom prst="rect">
            <a:avLst/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1781280" y="2522520"/>
            <a:ext cx="450720" cy="3162240"/>
          </a:xfrm>
          <a:custGeom>
            <a:avLst/>
            <a:gdLst>
              <a:gd name="textAreaLeft" fmla="*/ 21960 w 450720"/>
              <a:gd name="textAreaRight" fmla="*/ 428760 w 4507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441">
                <a:moveTo>
                  <a:pt x="3600" y="0"/>
                </a:moveTo>
                <a:arcTo wR="3600" hR="3600" stAng="16200000" swAng="-5400000"/>
                <a:lnTo>
                  <a:pt x="0" y="147841"/>
                </a:lnTo>
                <a:arcTo wR="3600" hR="3600" stAng="10800000" swAng="-5400000"/>
                <a:lnTo>
                  <a:pt x="18000" y="151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533680" y="2522520"/>
            <a:ext cx="450720" cy="3162240"/>
          </a:xfrm>
          <a:custGeom>
            <a:avLst/>
            <a:gdLst>
              <a:gd name="textAreaLeft" fmla="*/ 21960 w 450720"/>
              <a:gd name="textAreaRight" fmla="*/ 428760 w 4507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441">
                <a:moveTo>
                  <a:pt x="3600" y="0"/>
                </a:moveTo>
                <a:arcTo wR="3600" hR="3600" stAng="16200000" swAng="-5400000"/>
                <a:lnTo>
                  <a:pt x="0" y="147841"/>
                </a:lnTo>
                <a:arcTo wR="3600" hR="3600" stAng="10800000" swAng="-5400000"/>
                <a:lnTo>
                  <a:pt x="18000" y="151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317760" y="252252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>
            <a:off x="4083120" y="2522520"/>
            <a:ext cx="450720" cy="3162240"/>
          </a:xfrm>
          <a:custGeom>
            <a:avLst/>
            <a:gdLst>
              <a:gd name="textAreaLeft" fmla="*/ 21960 w 450720"/>
              <a:gd name="textAreaRight" fmla="*/ 428760 w 4507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1441">
                <a:moveTo>
                  <a:pt x="3600" y="0"/>
                </a:moveTo>
                <a:arcTo wR="3600" hR="3600" stAng="16200000" swAng="-5400000"/>
                <a:lnTo>
                  <a:pt x="0" y="147841"/>
                </a:lnTo>
                <a:arcTo wR="3600" hR="3600" stAng="10800000" swAng="-5400000"/>
                <a:lnTo>
                  <a:pt x="18000" y="151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1774800" y="520848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2529000" y="5208480"/>
            <a:ext cx="452160" cy="476280"/>
          </a:xfrm>
          <a:custGeom>
            <a:avLst/>
            <a:gdLst>
              <a:gd name="textAreaLeft" fmla="*/ 0 w 452160"/>
              <a:gd name="textAreaRight" fmla="*/ 452520 w 4521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arcTo wR="0" hR="0" stAng="16200000" swAng="-5400000"/>
                <a:lnTo>
                  <a:pt x="0" y="22751"/>
                </a:lnTo>
                <a:arcTo wR="0" hR="0" stAng="10800000" swAng="-5400000"/>
                <a:lnTo>
                  <a:pt x="21600" y="227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3321000" y="520848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4083120" y="5208480"/>
            <a:ext cx="450720" cy="476280"/>
          </a:xfrm>
          <a:custGeom>
            <a:avLst/>
            <a:gdLst>
              <a:gd name="textAreaLeft" fmla="*/ 0 w 450720"/>
              <a:gd name="textAreaRight" fmla="*/ 451080 w 4507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824">
                <a:moveTo>
                  <a:pt x="0" y="0"/>
                </a:moveTo>
                <a:arcTo wR="0" hR="0" stAng="16200000" swAng="-5400000"/>
                <a:lnTo>
                  <a:pt x="0" y="22824"/>
                </a:lnTo>
                <a:arcTo wR="0" hR="0" stAng="10800000" swAng="-5400000"/>
                <a:lnTo>
                  <a:pt x="21600" y="2282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1000080" y="252252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1000080" y="5208480"/>
            <a:ext cx="452520" cy="476280"/>
          </a:xfrm>
          <a:custGeom>
            <a:avLst/>
            <a:gdLst>
              <a:gd name="textAreaLeft" fmla="*/ 0 w 452520"/>
              <a:gd name="textAreaRight" fmla="*/ 452880 w 4525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33">
                <a:moveTo>
                  <a:pt x="0" y="0"/>
                </a:moveTo>
                <a:arcTo wR="0" hR="0" stAng="16200000" swAng="-5400000"/>
                <a:lnTo>
                  <a:pt x="0" y="22733"/>
                </a:lnTo>
                <a:arcTo wR="0" hR="0" stAng="10800000" swAng="-5400000"/>
                <a:lnTo>
                  <a:pt x="21600" y="227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628560" y="5688000"/>
            <a:ext cx="5718240" cy="0"/>
          </a:xfrm>
          <a:prstGeom prst="line">
            <a:avLst/>
          </a:prstGeom>
          <a:ln w="34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1"/>
          <p:cNvSpPr/>
          <p:nvPr/>
        </p:nvSpPr>
        <p:spPr>
          <a:xfrm>
            <a:off x="161604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2"/>
          <p:cNvSpPr/>
          <p:nvPr/>
        </p:nvSpPr>
        <p:spPr>
          <a:xfrm>
            <a:off x="238752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"/>
          <p:cNvSpPr/>
          <p:nvPr/>
        </p:nvSpPr>
        <p:spPr>
          <a:xfrm>
            <a:off x="315756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4"/>
          <p:cNvSpPr/>
          <p:nvPr/>
        </p:nvSpPr>
        <p:spPr>
          <a:xfrm>
            <a:off x="392760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"/>
          <p:cNvSpPr/>
          <p:nvPr/>
        </p:nvSpPr>
        <p:spPr>
          <a:xfrm>
            <a:off x="633240" y="4594320"/>
            <a:ext cx="2066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6"/>
          <p:cNvSpPr/>
          <p:nvPr/>
        </p:nvSpPr>
        <p:spPr>
          <a:xfrm>
            <a:off x="628560" y="47545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7"/>
          <p:cNvSpPr/>
          <p:nvPr/>
        </p:nvSpPr>
        <p:spPr>
          <a:xfrm>
            <a:off x="628560" y="49435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8"/>
          <p:cNvSpPr/>
          <p:nvPr/>
        </p:nvSpPr>
        <p:spPr>
          <a:xfrm>
            <a:off x="628560" y="51307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"/>
          <p:cNvSpPr/>
          <p:nvPr/>
        </p:nvSpPr>
        <p:spPr>
          <a:xfrm>
            <a:off x="628560" y="550692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0"/>
          <p:cNvSpPr/>
          <p:nvPr/>
        </p:nvSpPr>
        <p:spPr>
          <a:xfrm>
            <a:off x="628560" y="5295960"/>
            <a:ext cx="20484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412200" y="5433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2"/>
          <p:cNvSpPr/>
          <p:nvPr/>
        </p:nvSpPr>
        <p:spPr>
          <a:xfrm>
            <a:off x="643320" y="2989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3"/>
          <p:cNvSpPr/>
          <p:nvPr/>
        </p:nvSpPr>
        <p:spPr>
          <a:xfrm>
            <a:off x="588960" y="25970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927360" y="57214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5"/>
          <p:cNvSpPr/>
          <p:nvPr/>
        </p:nvSpPr>
        <p:spPr>
          <a:xfrm>
            <a:off x="4863960" y="2522520"/>
            <a:ext cx="452520" cy="3162240"/>
          </a:xfrm>
          <a:custGeom>
            <a:avLst/>
            <a:gdLst>
              <a:gd name="textAreaLeft" fmla="*/ 21960 w 452520"/>
              <a:gd name="textAreaRight" fmla="*/ 430560 w 452520"/>
              <a:gd name="textAreaTop" fmla="*/ 21960 h 3162240"/>
              <a:gd name="textAreaBottom" fmla="*/ 3140280 h 3162240"/>
            </a:gdLst>
            <a:ahLst/>
            <a:rect l="textAreaLeft" t="textAreaTop" r="textAreaRight" b="textAreaBottom"/>
            <a:pathLst>
              <a:path w="21600" h="150839">
                <a:moveTo>
                  <a:pt x="3600" y="0"/>
                </a:moveTo>
                <a:arcTo wR="3600" hR="3600" stAng="16200000" swAng="-5400000"/>
                <a:lnTo>
                  <a:pt x="0" y="147239"/>
                </a:lnTo>
                <a:arcTo wR="3600" hR="3600" stAng="10800000" swAng="-5400000"/>
                <a:lnTo>
                  <a:pt x="18000" y="150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6"/>
          <p:cNvSpPr/>
          <p:nvPr/>
        </p:nvSpPr>
        <p:spPr>
          <a:xfrm>
            <a:off x="4862520" y="5165640"/>
            <a:ext cx="450720" cy="506520"/>
          </a:xfrm>
          <a:custGeom>
            <a:avLst/>
            <a:gdLst>
              <a:gd name="textAreaLeft" fmla="*/ 0 w 450720"/>
              <a:gd name="textAreaRight" fmla="*/ 451080 w 450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21600" h="24272">
                <a:moveTo>
                  <a:pt x="0" y="0"/>
                </a:moveTo>
                <a:arcTo wR="0" hR="0" stAng="16200000" swAng="-5400000"/>
                <a:lnTo>
                  <a:pt x="0" y="24272"/>
                </a:lnTo>
                <a:arcTo wR="0" hR="0" stAng="10800000" swAng="-5400000"/>
                <a:lnTo>
                  <a:pt x="21600" y="2427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7"/>
          <p:cNvSpPr/>
          <p:nvPr/>
        </p:nvSpPr>
        <p:spPr>
          <a:xfrm>
            <a:off x="1697400" y="5715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8"/>
          <p:cNvSpPr/>
          <p:nvPr/>
        </p:nvSpPr>
        <p:spPr>
          <a:xfrm>
            <a:off x="2517840" y="5715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9"/>
          <p:cNvSpPr/>
          <p:nvPr/>
        </p:nvSpPr>
        <p:spPr>
          <a:xfrm>
            <a:off x="328968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0"/>
          <p:cNvSpPr/>
          <p:nvPr/>
        </p:nvSpPr>
        <p:spPr>
          <a:xfrm>
            <a:off x="405792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1"/>
          <p:cNvSpPr/>
          <p:nvPr/>
        </p:nvSpPr>
        <p:spPr>
          <a:xfrm>
            <a:off x="472932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4700520" y="459900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657360" y="381636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4"/>
          <p:cNvSpPr/>
          <p:nvPr/>
        </p:nvSpPr>
        <p:spPr>
          <a:xfrm>
            <a:off x="642960" y="405756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5"/>
          <p:cNvSpPr/>
          <p:nvPr/>
        </p:nvSpPr>
        <p:spPr>
          <a:xfrm>
            <a:off x="642960" y="424656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6"/>
          <p:cNvSpPr/>
          <p:nvPr/>
        </p:nvSpPr>
        <p:spPr>
          <a:xfrm>
            <a:off x="642960" y="4433760"/>
            <a:ext cx="206280" cy="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7"/>
          <p:cNvSpPr/>
          <p:nvPr/>
        </p:nvSpPr>
        <p:spPr>
          <a:xfrm>
            <a:off x="410760" y="5243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8"/>
          <p:cNvSpPr/>
          <p:nvPr/>
        </p:nvSpPr>
        <p:spPr>
          <a:xfrm>
            <a:off x="420120" y="5041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9"/>
          <p:cNvSpPr/>
          <p:nvPr/>
        </p:nvSpPr>
        <p:spPr>
          <a:xfrm>
            <a:off x="420120" y="4859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0"/>
          <p:cNvSpPr/>
          <p:nvPr/>
        </p:nvSpPr>
        <p:spPr>
          <a:xfrm>
            <a:off x="431280" y="4694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1"/>
          <p:cNvSpPr/>
          <p:nvPr/>
        </p:nvSpPr>
        <p:spPr>
          <a:xfrm>
            <a:off x="428040" y="450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2"/>
          <p:cNvSpPr/>
          <p:nvPr/>
        </p:nvSpPr>
        <p:spPr>
          <a:xfrm>
            <a:off x="420120" y="4303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3"/>
          <p:cNvSpPr/>
          <p:nvPr/>
        </p:nvSpPr>
        <p:spPr>
          <a:xfrm>
            <a:off x="420120" y="4119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4"/>
          <p:cNvSpPr/>
          <p:nvPr/>
        </p:nvSpPr>
        <p:spPr>
          <a:xfrm>
            <a:off x="408960" y="3951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5"/>
          <p:cNvSpPr/>
          <p:nvPr/>
        </p:nvSpPr>
        <p:spPr>
          <a:xfrm>
            <a:off x="357480" y="3727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6"/>
          <p:cNvSpPr/>
          <p:nvPr/>
        </p:nvSpPr>
        <p:spPr>
          <a:xfrm>
            <a:off x="5630760" y="2522520"/>
            <a:ext cx="451080" cy="3160800"/>
          </a:xfrm>
          <a:custGeom>
            <a:avLst/>
            <a:gdLst>
              <a:gd name="textAreaLeft" fmla="*/ 21960 w 451080"/>
              <a:gd name="textAreaRight" fmla="*/ 429120 w 451080"/>
              <a:gd name="textAreaTop" fmla="*/ 21960 h 3160800"/>
              <a:gd name="textAreaBottom" fmla="*/ 3138840 h 3160800"/>
            </a:gdLst>
            <a:ahLst/>
            <a:rect l="textAreaLeft" t="textAreaTop" r="textAreaRight" b="textAreaBottom"/>
            <a:pathLst>
              <a:path w="21600" h="151252">
                <a:moveTo>
                  <a:pt x="3600" y="0"/>
                </a:moveTo>
                <a:arcTo wR="3600" hR="3600" stAng="16200000" swAng="-5400000"/>
                <a:lnTo>
                  <a:pt x="0" y="147652"/>
                </a:lnTo>
                <a:arcTo wR="3600" hR="3600" stAng="10800000" swAng="-5400000"/>
                <a:lnTo>
                  <a:pt x="18000" y="1512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7"/>
          <p:cNvSpPr/>
          <p:nvPr/>
        </p:nvSpPr>
        <p:spPr>
          <a:xfrm>
            <a:off x="5635800" y="5207040"/>
            <a:ext cx="452160" cy="476280"/>
          </a:xfrm>
          <a:custGeom>
            <a:avLst/>
            <a:gdLst>
              <a:gd name="textAreaLeft" fmla="*/ 0 w 452160"/>
              <a:gd name="textAreaRight" fmla="*/ 452520 w 4521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arcTo wR="0" hR="0" stAng="16200000" swAng="-5400000"/>
                <a:lnTo>
                  <a:pt x="0" y="22751"/>
                </a:lnTo>
                <a:arcTo wR="0" hR="0" stAng="10800000" swAng="-5400000"/>
                <a:lnTo>
                  <a:pt x="21600" y="227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8"/>
          <p:cNvSpPr/>
          <p:nvPr/>
        </p:nvSpPr>
        <p:spPr>
          <a:xfrm>
            <a:off x="5468760" y="4597560"/>
            <a:ext cx="0" cy="1089000"/>
          </a:xfrm>
          <a:prstGeom prst="line">
            <a:avLst/>
          </a:prstGeom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9"/>
          <p:cNvSpPr/>
          <p:nvPr/>
        </p:nvSpPr>
        <p:spPr>
          <a:xfrm>
            <a:off x="5600880" y="5729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0"/>
          <p:cNvSpPr/>
          <p:nvPr/>
        </p:nvSpPr>
        <p:spPr>
          <a:xfrm>
            <a:off x="657360" y="2522520"/>
            <a:ext cx="598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1"/>
          <p:cNvSpPr/>
          <p:nvPr/>
        </p:nvSpPr>
        <p:spPr>
          <a:xfrm>
            <a:off x="2936880" y="1873080"/>
            <a:ext cx="569880" cy="301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6681960" y="2347200"/>
            <a:ext cx="2339640" cy="459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“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รางวัลการพัฒนา</a:t>
            </a:r>
            <a:br>
              <a:rPr sz="1200"/>
            </a:b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องค์การดีเด่น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3"/>
          <p:cNvSpPr/>
          <p:nvPr/>
        </p:nvSpPr>
        <p:spPr>
          <a:xfrm>
            <a:off x="6610320" y="3715560"/>
            <a:ext cx="24112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ผ่านการรับรองเกณฑ์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4"/>
          <p:cNvSpPr/>
          <p:nvPr/>
        </p:nvSpPr>
        <p:spPr>
          <a:xfrm>
            <a:off x="7689960" y="3500280"/>
            <a:ext cx="360360" cy="217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5"/>
          <p:cNvSpPr/>
          <p:nvPr/>
        </p:nvSpPr>
        <p:spPr>
          <a:xfrm>
            <a:off x="7689960" y="2781360"/>
            <a:ext cx="360360" cy="217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66"/>
          <p:cNvSpPr/>
          <p:nvPr/>
        </p:nvSpPr>
        <p:spPr>
          <a:xfrm>
            <a:off x="777960" y="2205000"/>
            <a:ext cx="5543640" cy="2016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7"/>
          <p:cNvSpPr/>
          <p:nvPr/>
        </p:nvSpPr>
        <p:spPr>
          <a:xfrm>
            <a:off x="2512800" y="2708280"/>
            <a:ext cx="247392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ัฒนาสู่ความโดดเด่นรายหมว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8"/>
          <p:cNvSpPr/>
          <p:nvPr/>
        </p:nvSpPr>
        <p:spPr>
          <a:xfrm>
            <a:off x="1577160" y="4365720"/>
            <a:ext cx="3935520" cy="60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undamental  Leve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9"/>
          <p:cNvSpPr/>
          <p:nvPr/>
        </p:nvSpPr>
        <p:spPr>
          <a:xfrm>
            <a:off x="3007440" y="3213000"/>
            <a:ext cx="1619280" cy="30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Dotum"/>
              </a:rPr>
              <a:t>Successfu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9633-368C-4D08-88B3-DA02D713FD3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1920960" y="1428840"/>
            <a:ext cx="2217600" cy="503280"/>
          </a:xfrm>
          <a:custGeom>
            <a:avLst/>
            <a:gdLst>
              <a:gd name="textAreaLeft" fmla="*/ 0 w 2217600"/>
              <a:gd name="textAreaRight" fmla="*/ 2217960 w 22176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3978360" y="1452600"/>
            <a:ext cx="2388960" cy="47952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6168960" y="1452600"/>
            <a:ext cx="2460600" cy="47952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337840" y="14698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6945480" y="1467000"/>
            <a:ext cx="13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398520" y="2004840"/>
            <a:ext cx="8421480" cy="1295640"/>
          </a:xfrm>
          <a:prstGeom prst="roundRect">
            <a:avLst>
              <a:gd name="adj" fmla="val 16667"/>
            </a:avLst>
          </a:prstGeom>
          <a:solidFill>
            <a:srgbClr val="edf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539640" y="233856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539640" y="24098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มด้านบริ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/>
          <p:cNvSpPr/>
          <p:nvPr/>
        </p:nvSpPr>
        <p:spPr>
          <a:xfrm>
            <a:off x="324000" y="3357720"/>
            <a:ext cx="8569080" cy="14554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550800" y="3848040"/>
            <a:ext cx="170676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621720" y="394344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มด้านนโยบา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2357280" y="228600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3852720" y="24051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6227640" y="24051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758520" y="2990880"/>
            <a:ext cx="7675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กับผู้รับบริการ โดยออกแบบกระบวนงานและพัฒนาบุคลากรให้สามารถปฏิบัติงานได้อย่างมีประสิทธิภาพ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05320" y="4457880"/>
            <a:ext cx="641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น้นความสำคัญของยุทธศาสตร์และการนำไปปฏิบัติ  โดยมีระบบการวัดผลการดำเนินการที่เป็น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4755600" y="1487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4"/>
          <p:cNvSpPr/>
          <p:nvPr/>
        </p:nvSpPr>
        <p:spPr>
          <a:xfrm>
            <a:off x="2928960" y="2575080"/>
            <a:ext cx="504720" cy="428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5"/>
          <p:cNvSpPr/>
          <p:nvPr/>
        </p:nvSpPr>
        <p:spPr>
          <a:xfrm>
            <a:off x="4859280" y="205092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6"/>
          <p:cNvSpPr/>
          <p:nvPr/>
        </p:nvSpPr>
        <p:spPr>
          <a:xfrm>
            <a:off x="4859280" y="254628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7"/>
          <p:cNvSpPr/>
          <p:nvPr/>
        </p:nvSpPr>
        <p:spPr>
          <a:xfrm>
            <a:off x="7162920" y="207972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8"/>
          <p:cNvSpPr/>
          <p:nvPr/>
        </p:nvSpPr>
        <p:spPr>
          <a:xfrm>
            <a:off x="7162920" y="257508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0"/>
          <p:cNvSpPr/>
          <p:nvPr/>
        </p:nvSpPr>
        <p:spPr>
          <a:xfrm>
            <a:off x="3878280" y="38052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1"/>
          <p:cNvSpPr/>
          <p:nvPr/>
        </p:nvSpPr>
        <p:spPr>
          <a:xfrm>
            <a:off x="6253200" y="38052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2"/>
          <p:cNvSpPr/>
          <p:nvPr/>
        </p:nvSpPr>
        <p:spPr>
          <a:xfrm>
            <a:off x="2428920" y="378612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4"/>
          <p:cNvSpPr/>
          <p:nvPr/>
        </p:nvSpPr>
        <p:spPr>
          <a:xfrm>
            <a:off x="4884840" y="394668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5"/>
          <p:cNvSpPr/>
          <p:nvPr/>
        </p:nvSpPr>
        <p:spPr>
          <a:xfrm>
            <a:off x="7188120" y="347976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6"/>
          <p:cNvSpPr/>
          <p:nvPr/>
        </p:nvSpPr>
        <p:spPr>
          <a:xfrm>
            <a:off x="7188120" y="3975120"/>
            <a:ext cx="5050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0" y="0"/>
            <a:ext cx="388764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Roadmap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พัฒนาองค์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9"/>
          <p:cNvSpPr/>
          <p:nvPr/>
        </p:nvSpPr>
        <p:spPr>
          <a:xfrm>
            <a:off x="2924280" y="207180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9"/>
          <p:cNvSpPr/>
          <p:nvPr/>
        </p:nvSpPr>
        <p:spPr>
          <a:xfrm>
            <a:off x="2928960" y="3429000"/>
            <a:ext cx="504720" cy="4287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"/>
          <p:cNvSpPr/>
          <p:nvPr/>
        </p:nvSpPr>
        <p:spPr>
          <a:xfrm>
            <a:off x="2928960" y="4000680"/>
            <a:ext cx="5047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8"/>
          <p:cNvSpPr/>
          <p:nvPr/>
        </p:nvSpPr>
        <p:spPr>
          <a:xfrm>
            <a:off x="4857840" y="3429000"/>
            <a:ext cx="5047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F581-9CA8-41D0-8AC7-16D487631DA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785880" y="2071800"/>
            <a:ext cx="7858080" cy="1921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26770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Tahoma"/>
                <a:ea typeface="Tahoma"/>
              </a:rPr>
              <a:t>3. 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กรอบการประเมินผลตัวชี้วั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การพัฒนาคุณภาพการบริหารจัดการภาครั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Tahoma"/>
                <a:cs typeface="Tahoma"/>
              </a:rPr>
              <a:t>สำหรับส่วนราชการระดับกร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ปีงบประมาณ พ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ea typeface="Tahoma"/>
              </a:rPr>
              <a:t>.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ศ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ea typeface="Tahoma"/>
              </a:rPr>
              <a:t>. 2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3"/>
          <p:cNvSpPr/>
          <p:nvPr/>
        </p:nvSpPr>
        <p:spPr>
          <a:xfrm>
            <a:off x="5929200" y="1214280"/>
            <a:ext cx="2786040" cy="45720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3286080" y="1214280"/>
            <a:ext cx="2786040" cy="4572000"/>
          </a:xfrm>
          <a:prstGeom prst="rect">
            <a:avLst/>
          </a:prstGeom>
          <a:solidFill>
            <a:srgbClr val="99ff99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500040" y="1214280"/>
            <a:ext cx="2786040" cy="45720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98A1-CFCA-4042-9B0A-6BBA8A17E41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0" y="3240"/>
            <a:ext cx="57150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กำหนดตัวชี้วัดระดับความสำเร็จของการพัฒนาคุณภาพการบริหารจัดการภาครัฐที่ผ่านมาตั้งแต่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 2549 – 25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500040" y="1214280"/>
            <a:ext cx="2786040" cy="50328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2" y="0"/>
                </a:lnTo>
                <a:lnTo>
                  <a:pt x="21600" y="10800"/>
                </a:lnTo>
                <a:lnTo>
                  <a:pt x="173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62699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3286080" y="1235160"/>
            <a:ext cx="2786040" cy="47952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69" y="0"/>
                </a:lnTo>
                <a:lnTo>
                  <a:pt x="21600" y="10800"/>
                </a:lnTo>
                <a:lnTo>
                  <a:pt x="16969" y="21600"/>
                </a:lnTo>
                <a:lnTo>
                  <a:pt x="0" y="21600"/>
                </a:lnTo>
                <a:lnTo>
                  <a:pt x="4631" y="10800"/>
                </a:lnTo>
                <a:close/>
              </a:path>
            </a:pathLst>
          </a:custGeom>
          <a:solidFill>
            <a:srgbClr val="00664d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6072120" y="1235160"/>
            <a:ext cx="2625840" cy="479520"/>
          </a:xfrm>
          <a:custGeom>
            <a:avLst/>
            <a:gdLst>
              <a:gd name="textAreaLeft" fmla="*/ 0 w 2625840"/>
              <a:gd name="textAreaRight" fmla="*/ 2626200 w 262584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0" y="0"/>
                </a:lnTo>
                <a:lnTo>
                  <a:pt x="21600" y="10800"/>
                </a:lnTo>
                <a:lnTo>
                  <a:pt x="16540" y="21600"/>
                </a:lnTo>
                <a:lnTo>
                  <a:pt x="0" y="21600"/>
                </a:lnTo>
                <a:lnTo>
                  <a:pt x="5060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388520" y="1252440"/>
            <a:ext cx="766080" cy="398880"/>
          </a:xfrm>
          <a:prstGeom prst="rect">
            <a:avLst/>
          </a:prstGeom>
          <a:noFill/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6761160" y="1249200"/>
            <a:ext cx="1311120" cy="398880"/>
          </a:xfrm>
          <a:prstGeom prst="rect">
            <a:avLst/>
          </a:prstGeom>
          <a:noFill/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4460400" y="1270080"/>
            <a:ext cx="766080" cy="398880"/>
          </a:xfrm>
          <a:prstGeom prst="rect">
            <a:avLst/>
          </a:prstGeom>
          <a:noFill/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571680" y="1874880"/>
            <a:ext cx="2357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ร้อยล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ป็นตัวชี้วัดเลือก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เลือกจำนว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14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 ประกอบด้วย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7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รม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7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จังหวัด แล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0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หาวิทยาลัย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วัดการดำเนินการแบ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ilest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ุ่งเน้นการเรียนรู้และทำเข้าใจเกณฑ์คุณภาพการบริหารจัดการภาครั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357720" y="1874520"/>
            <a:ext cx="2643120" cy="325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ร้อยล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ป็นตัวชี้วัดบังคับ</a:t>
            </a:r>
            <a:r>
              <a:rPr b="1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วัดการดำเนินการแบบ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ilestone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ุ่งเน้นการเรียนรู้และทำเข้าใจเกณฑ์คุณภาพการบริหารจัดการภาครัฐ วิเคราะห์โอกาสในการปรับปรุ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ำหรับส่วนราชการที่ดำเนินการต่อเนื่องจากปีงบประมาณ พ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549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แผนปรับปรุงองค์กร และดำเนินการปรับปรุงองค์ก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6143760" y="1857240"/>
            <a:ext cx="2500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ป็นตัวชี้วัดบังคับ วัดผลการประเมินองค์กรในเชิงคุณภาพ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ุ่งเน้นการบูรณาการตัวชี้วัดที่เกี่ยวข้องกับการพัฒนาองค์กรนำมาผนวกเข้ากับตัวชี้วัดการพัฒนาคุณภาพการบริหารจัดการภาครัฐ โดยได้มีการประเมินองค์กรตามแนวทางการบริหารจัดการแบบ 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LI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Horizontal Scroll 6"/>
          <p:cNvSpPr/>
          <p:nvPr/>
        </p:nvSpPr>
        <p:spPr>
          <a:xfrm>
            <a:off x="785880" y="785880"/>
            <a:ext cx="7572240" cy="5143320"/>
          </a:xfrm>
          <a:prstGeom prst="horizontalScroll">
            <a:avLst>
              <a:gd name="adj" fmla="val 12500"/>
            </a:avLst>
          </a:prstGeom>
          <a:solidFill>
            <a:srgbClr val="47ffd1"/>
          </a:solidFill>
          <a:ln w="25560">
            <a:solidFill>
              <a:srgbClr val="47ffd1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F2BA-ABBE-4B68-8AF5-60BB76AC608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0" y="1404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กำหนด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571920" y="1500120"/>
            <a:ext cx="27147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1571760" y="1874880"/>
            <a:ext cx="650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้ำหนักร้อยล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ป็นตัวชี้วัดบังคั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วัดความสำเร็จของการดำเนินการและผลลัพธ์ของแผนพัฒนาองค์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ุ่งเน้นให้ส่วนราชการปรับปรุงองค์กร  ส่งเสริมให้แต่ละส่วนราชการมีความเข้าใจและนำเครื่องมือการบริหารจัดการที่เหมาะสมมาใช้เพื่อปรับปรุงและพัฒนาองค์กรอย่างต่อเนื่อง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รอบการประเมินความสำเร็จของแผนพัฒนาองค์การ ซึ่งถือเป็นกรอบแนวทางในการประเมินองค์กรเบื้องต้น และเป็นแนวทาง </a:t>
            </a:r>
            <a:r>
              <a:rPr b="1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“การเปลี่ยนแปลงทีละขั้น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657B-8DEE-4C5C-B2F3-DF941D4B240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928800" y="1500480"/>
            <a:ext cx="2928960" cy="39888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นวทางการนำเสน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"/>
          <p:cNvSpPr/>
          <p:nvPr/>
        </p:nvSpPr>
        <p:spPr>
          <a:xfrm>
            <a:off x="2535120" y="302940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Elbow Connector 9"/>
          <p:cNvCxnSpPr/>
          <p:nvPr/>
        </p:nvCxnSpPr>
        <p:spPr>
          <a:xfrm flipH="1" rot="16200000">
            <a:off x="2085120" y="2200680"/>
            <a:ext cx="7596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2" name="Rectangle 1"/>
          <p:cNvSpPr/>
          <p:nvPr/>
        </p:nvSpPr>
        <p:spPr>
          <a:xfrm>
            <a:off x="2535120" y="245808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Elbow Connector 9"/>
          <p:cNvCxnSpPr/>
          <p:nvPr/>
        </p:nvCxnSpPr>
        <p:spPr>
          <a:xfrm flipH="1" rot="16200000">
            <a:off x="2085120" y="2772000"/>
            <a:ext cx="7596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4" name="Rectangle 1"/>
          <p:cNvSpPr/>
          <p:nvPr/>
        </p:nvSpPr>
        <p:spPr>
          <a:xfrm>
            <a:off x="2571840" y="367236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ส่งมอบง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Elbow Connector 9"/>
          <p:cNvCxnSpPr/>
          <p:nvPr/>
        </p:nvCxnSpPr>
        <p:spPr>
          <a:xfrm flipH="1" rot="16200000">
            <a:off x="2085120" y="3370680"/>
            <a:ext cx="7596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2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369E-311F-4FE8-BCE2-E7C9BA834DE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16000" y="1428840"/>
            <a:ext cx="7272360" cy="3606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ภาพรวมการพัฒนาคุณภาพการบริหารจัดการภาค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ิศทาง และเป้าหมายการการพัฒนาคุณภาพการบริหารจัด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ภาครัฐปีงบประมาณ 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รอบการประเมินผลตัวชี้วัดการพัฒนาคุณภาพการบริหารจัด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ภาครัฐสำหรับส่วนราชการระดับกรม ปีงบประมาณ 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45240" y="642960"/>
            <a:ext cx="31114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กรอบการนำเสน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F6FF-0741-4E65-BDED-91B02B8947B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Elbow Connector 9"/>
          <p:cNvCxnSpPr/>
          <p:nvPr/>
        </p:nvCxnSpPr>
        <p:spPr>
          <a:xfrm flipH="1" rot="16200000">
            <a:off x="1227960" y="2129040"/>
            <a:ext cx="7596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9" name="Rectangle 1"/>
          <p:cNvSpPr/>
          <p:nvPr/>
        </p:nvSpPr>
        <p:spPr>
          <a:xfrm>
            <a:off x="857160" y="1500480"/>
            <a:ext cx="707256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ดำเนินการพัฒนาคุณภาพการบริหารจัดการภาครั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1714680" y="2143080"/>
            <a:ext cx="6215040" cy="16005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0000"/>
                </a:solidFill>
                <a:uFillTx/>
                <a:latin typeface="Tahoma"/>
                <a:cs typeface="Tahoma"/>
              </a:rPr>
              <a:t>แนวทางที่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ารดำเนินการตามแนวทางของกรอบการประเมินผลการปฏิบัติราชการประจำปีงบประมาณ พ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ซึ่งเป็น</a:t>
            </a:r>
            <a:r>
              <a:rPr b="1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ภาคบังคับ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ที่ส่วนราชการทุกแห่งจะต้องดำเนินการเพื่อยกระดับคุณภาพการบริหารจัดการให้ได้มาตรฐ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1714680" y="3897360"/>
            <a:ext cx="6215040" cy="12355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0000"/>
                </a:solidFill>
                <a:uFillTx/>
                <a:latin typeface="Tahoma"/>
                <a:cs typeface="Tahoma"/>
              </a:rPr>
              <a:t>แนวทางที่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การสมัครขอรับรางวัลคุณภาพการบริหารจัดการภาครัฐ โดยมีหลักเกณฑ์และกลไกที่แตกต่างจากกรอบการประเมินผลการปฏิบัติราชการประจำปีงบประมาณ พ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Elbow Connector 9"/>
          <p:cNvCxnSpPr/>
          <p:nvPr/>
        </p:nvCxnSpPr>
        <p:spPr>
          <a:xfrm flipH="1" rot="16200000">
            <a:off x="477000" y="3263760"/>
            <a:ext cx="2188080" cy="143640"/>
          </a:xfrm>
          <a:prstGeom prst="bentConnector3">
            <a:avLst>
              <a:gd name="adj1" fmla="val 99275"/>
            </a:avLst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282E-4D62-470D-873F-5B5743646E5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1177920" y="112140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ะเมินผลตัวชี้วั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Elbow Connector 9"/>
          <p:cNvCxnSpPr/>
          <p:nvPr/>
        </p:nvCxnSpPr>
        <p:spPr>
          <a:xfrm flipH="1" rot="16200000">
            <a:off x="1035000" y="2035800"/>
            <a:ext cx="1357920" cy="429480"/>
          </a:xfrm>
          <a:prstGeom prst="bentConnector3">
            <a:avLst>
              <a:gd name="adj1" fmla="val 98647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07" name="Elbow Connector 9"/>
          <p:cNvCxnSpPr/>
          <p:nvPr/>
        </p:nvCxnSpPr>
        <p:spPr>
          <a:xfrm flipH="1" rot="16200000">
            <a:off x="1392120" y="3035880"/>
            <a:ext cx="643320" cy="429480"/>
          </a:xfrm>
          <a:prstGeom prst="bentConnector3">
            <a:avLst>
              <a:gd name="adj1" fmla="val 9742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08" name="Elbow Connector 9"/>
          <p:cNvCxnSpPr/>
          <p:nvPr/>
        </p:nvCxnSpPr>
        <p:spPr>
          <a:xfrm flipH="1" rot="16200000">
            <a:off x="1070640" y="3928680"/>
            <a:ext cx="1286640" cy="429480"/>
          </a:xfrm>
          <a:prstGeom prst="bentConnector3">
            <a:avLst>
              <a:gd name="adj1" fmla="val 98376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09" name=""/>
          <p:cNvGraphicFramePr/>
          <p:nvPr/>
        </p:nvGraphicFramePr>
        <p:xfrm>
          <a:off x="1928880" y="1946160"/>
          <a:ext cx="6215040" cy="3657600"/>
        </p:xfrm>
        <a:graphic>
          <a:graphicData uri="http://schemas.openxmlformats.org/drawingml/2006/table">
            <a:tbl>
              <a:tblPr/>
              <a:tblGrid>
                <a:gridCol w="657000"/>
                <a:gridCol w="4551480"/>
                <a:gridCol w="1006560"/>
              </a:tblGrid>
              <a:tr h="1095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         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8503-708A-429E-AF1F-93AF0417E713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entagon 8"/>
          <p:cNvSpPr/>
          <p:nvPr/>
        </p:nvSpPr>
        <p:spPr>
          <a:xfrm>
            <a:off x="2928960" y="1285920"/>
            <a:ext cx="333360" cy="1566720"/>
          </a:xfrm>
          <a:custGeom>
            <a:avLst/>
            <a:gdLst>
              <a:gd name="textAreaLeft" fmla="*/ 0 w 333360"/>
              <a:gd name="textAreaRight" fmla="*/ 333720 w 333360"/>
              <a:gd name="textAreaTop" fmla="*/ 0 h 1566720"/>
              <a:gd name="textAreaBottom" fmla="*/ 1567080 h 15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3357720" y="928800"/>
            <a:ext cx="550044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ดำเนินการจัดทำแผนการพัฒนาองค์การ จำนวน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 ซึ่งแต่ละแผนแบ่งการประเมินผลเป็น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ย่อย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16" name=""/>
          <p:cNvGraphicFramePr/>
          <p:nvPr/>
        </p:nvGraphicFramePr>
        <p:xfrm>
          <a:off x="3714840" y="1636560"/>
          <a:ext cx="4714920" cy="4160880"/>
        </p:xfrm>
        <a:graphic>
          <a:graphicData uri="http://schemas.openxmlformats.org/drawingml/2006/table">
            <a:tbl>
              <a:tblPr/>
              <a:tblGrid>
                <a:gridCol w="747720"/>
                <a:gridCol w="1824120"/>
                <a:gridCol w="801360"/>
                <a:gridCol w="770040"/>
                <a:gridCol w="571680"/>
              </a:tblGrid>
              <a:tr h="32004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การผ่าน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ตามแผนพัฒนาองค์การ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357120" y="1276200"/>
          <a:ext cx="2500560" cy="160020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6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              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7C77-E06A-495B-AF3B-79679E9C6EA4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3286080" y="785880"/>
            <a:ext cx="557208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429000" y="857160"/>
          <a:ext cx="5286240" cy="1600200"/>
        </p:xfrm>
        <a:graphic>
          <a:graphicData uri="http://schemas.openxmlformats.org/drawingml/2006/table">
            <a:tbl>
              <a:tblPr/>
              <a:tblGrid>
                <a:gridCol w="766800"/>
                <a:gridCol w="2298600"/>
                <a:gridCol w="827280"/>
                <a:gridCol w="752400"/>
                <a:gridCol w="641160"/>
              </a:tblGrid>
              <a:tr h="32076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95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การผ่าน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429000" y="3400560"/>
          <a:ext cx="5286240" cy="1600200"/>
        </p:xfrm>
        <a:graphic>
          <a:graphicData uri="http://schemas.openxmlformats.org/drawingml/2006/table">
            <a:tbl>
              <a:tblPr/>
              <a:tblGrid>
                <a:gridCol w="2359080"/>
                <a:gridCol w="585720"/>
                <a:gridCol w="585720"/>
                <a:gridCol w="585720"/>
                <a:gridCol w="584280"/>
                <a:gridCol w="585720"/>
              </a:tblGrid>
              <a:tr h="320400">
                <a:tc rowSpan="2"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95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ของการผ่าน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Rectangle 22"/>
          <p:cNvSpPr/>
          <p:nvPr/>
        </p:nvSpPr>
        <p:spPr>
          <a:xfrm>
            <a:off x="3429000" y="2593800"/>
            <a:ext cx="5357880" cy="687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วัดความสำเร็จของการดำเนินงาน โดยตรวจประเมินทุกข้อ ตามเกณฑ์คุณภาพการบริหารจัดการภาครัฐระดับพื้นฐาน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ภาคบังคับและหมวดภาคสมัครใจ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3429000" y="5845320"/>
            <a:ext cx="5286240" cy="390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3.1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3.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3429000" y="5072040"/>
            <a:ext cx="5286240" cy="687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ค่าคะแนนของแต่ละแผนพิจารณาจากจำนวนข้อที่ผ่านเกณฑ์เทียบกับจำนวนข้อทั้งหมดในแต่ละหมวด แล้วนำผลที่ได้ไปเทียบกับเกณฑ์การให้คะแนน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4"/>
          <p:cNvSpPr/>
          <p:nvPr/>
        </p:nvSpPr>
        <p:spPr>
          <a:xfrm>
            <a:off x="2928960" y="1285920"/>
            <a:ext cx="333360" cy="1566720"/>
          </a:xfrm>
          <a:custGeom>
            <a:avLst/>
            <a:gdLst>
              <a:gd name="textAreaLeft" fmla="*/ 0 w 333360"/>
              <a:gd name="textAreaRight" fmla="*/ 333720 w 333360"/>
              <a:gd name="textAreaTop" fmla="*/ 0 h 1566720"/>
              <a:gd name="textAreaBottom" fmla="*/ 1567080 h 15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29" name=""/>
          <p:cNvGraphicFramePr/>
          <p:nvPr/>
        </p:nvGraphicFramePr>
        <p:xfrm>
          <a:off x="357120" y="1276200"/>
          <a:ext cx="2500560" cy="160020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6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              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B3B4-AF57-4037-AE6F-555688BF34E6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3429000" y="785880"/>
            <a:ext cx="54291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714840" y="857160"/>
          <a:ext cx="4714920" cy="2560680"/>
        </p:xfrm>
        <a:graphic>
          <a:graphicData uri="http://schemas.openxmlformats.org/drawingml/2006/table">
            <a:tbl>
              <a:tblPr/>
              <a:tblGrid>
                <a:gridCol w="747720"/>
                <a:gridCol w="1824120"/>
                <a:gridCol w="801360"/>
                <a:gridCol w="770040"/>
                <a:gridCol w="571680"/>
              </a:tblGrid>
              <a:tr h="32004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22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ตามแผนพัฒนาองค์การ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Rectangle 18"/>
          <p:cNvSpPr/>
          <p:nvPr/>
        </p:nvSpPr>
        <p:spPr>
          <a:xfrm>
            <a:off x="3714840" y="3571920"/>
            <a:ext cx="4857840" cy="13726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่าคะแนนของแต่ละแผนฯ พิจารณาวัดความสำเร็จ โดยนำผลการดำเนินงานของแต่ละตัวชี้วัดในแผนพัฒนาองค์กรแต่ละแผนไปเทียบกับเกณฑ์การให้คะแนนจะได้ค่าคะแนนของแต่ละตัวชี้วัด และนำค่าคะแนนของทุกตัวชี้วัดในแผนฯมาเฉลี่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3714840" y="505764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entagon 12"/>
          <p:cNvSpPr/>
          <p:nvPr/>
        </p:nvSpPr>
        <p:spPr>
          <a:xfrm>
            <a:off x="2928960" y="1285920"/>
            <a:ext cx="333360" cy="1566720"/>
          </a:xfrm>
          <a:custGeom>
            <a:avLst/>
            <a:gdLst>
              <a:gd name="textAreaLeft" fmla="*/ 0 w 333360"/>
              <a:gd name="textAreaRight" fmla="*/ 333720 w 333360"/>
              <a:gd name="textAreaTop" fmla="*/ 0 h 1566720"/>
              <a:gd name="textAreaBottom" fmla="*/ 1567080 h 15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39" name=""/>
          <p:cNvGraphicFramePr/>
          <p:nvPr/>
        </p:nvGraphicFramePr>
        <p:xfrm>
          <a:off x="357120" y="1276200"/>
          <a:ext cx="2500560" cy="1600200"/>
        </p:xfrm>
        <a:graphic>
          <a:graphicData uri="http://schemas.openxmlformats.org/drawingml/2006/table">
            <a:tbl>
              <a:tblPr/>
              <a:tblGrid>
                <a:gridCol w="571680"/>
                <a:gridCol w="1928880"/>
              </a:tblGrid>
              <a:tr h="16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              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F0A-00A4-4949-9906-67A7270CCA95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entagon 8"/>
          <p:cNvSpPr/>
          <p:nvPr/>
        </p:nvSpPr>
        <p:spPr>
          <a:xfrm>
            <a:off x="2857680" y="1285920"/>
            <a:ext cx="357120" cy="4143240"/>
          </a:xfrm>
          <a:custGeom>
            <a:avLst/>
            <a:gdLst>
              <a:gd name="textAreaLeft" fmla="*/ 0 w 357120"/>
              <a:gd name="textAreaRight" fmla="*/ 357480 w 357120"/>
              <a:gd name="textAreaTop" fmla="*/ 0 h 4143240"/>
              <a:gd name="textAreaBottom" fmla="*/ 4143240 h 41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3286080" y="785880"/>
            <a:ext cx="557208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46" name=""/>
          <p:cNvGraphicFramePr/>
          <p:nvPr/>
        </p:nvGraphicFramePr>
        <p:xfrm>
          <a:off x="500040" y="1276200"/>
          <a:ext cx="2286000" cy="4160880"/>
        </p:xfrm>
        <a:graphic>
          <a:graphicData uri="http://schemas.openxmlformats.org/drawingml/2006/table">
            <a:tbl>
              <a:tblPr/>
              <a:tblGrid>
                <a:gridCol w="571680"/>
                <a:gridCol w="1714320"/>
              </a:tblGrid>
              <a:tr h="41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                    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7" name="Rectangle 18"/>
          <p:cNvSpPr/>
          <p:nvPr/>
        </p:nvSpPr>
        <p:spPr>
          <a:xfrm>
            <a:off x="3429000" y="3929040"/>
            <a:ext cx="5286240" cy="16923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วัดความสำเร็จของการดำเนินงาน โดยนำผลการดำเนินงานของแต่ละตัวชี้วัดในหมวด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เกณฑ์คุณภาพการบริหารจัดการภาครัฐระดับพื้นฐานไปเทียบกับเกณฑ์การให้คะแนน จะได้ค่าคะแนนของแต่ละตัวชี้วัด และนำค่าคะแนนที่ได้ของทุกตัวชี้วัดในหมวด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าเฉลี่ย จะได้ค่าคะแนนของตัวชี้วัด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3429000" y="5786280"/>
            <a:ext cx="52862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357720" y="888840"/>
          <a:ext cx="5429160" cy="2880000"/>
        </p:xfrm>
        <a:graphic>
          <a:graphicData uri="http://schemas.openxmlformats.org/drawingml/2006/table">
            <a:tbl>
              <a:tblPr/>
              <a:tblGrid>
                <a:gridCol w="631800"/>
                <a:gridCol w="2297160"/>
                <a:gridCol w="500040"/>
                <a:gridCol w="571320"/>
                <a:gridCol w="500040"/>
                <a:gridCol w="500040"/>
                <a:gridCol w="428760"/>
              </a:tblGrid>
              <a:tr h="320760">
                <a:tc gridSpan="2" rowSpan="2"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223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DB26-7E89-453E-9CA5-2497BF69BFC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entagon 8"/>
          <p:cNvSpPr/>
          <p:nvPr/>
        </p:nvSpPr>
        <p:spPr>
          <a:xfrm>
            <a:off x="2928960" y="1285920"/>
            <a:ext cx="214200" cy="1928880"/>
          </a:xfrm>
          <a:custGeom>
            <a:avLst/>
            <a:gdLst>
              <a:gd name="textAreaLeft" fmla="*/ 0 w 214200"/>
              <a:gd name="textAreaRight" fmla="*/ 214560 w 21420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3286080" y="785880"/>
            <a:ext cx="570564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ัวชี้วัด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4.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่งการประเมินผลเป็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56" name=""/>
          <p:cNvGraphicFramePr/>
          <p:nvPr/>
        </p:nvGraphicFramePr>
        <p:xfrm>
          <a:off x="357120" y="1276200"/>
          <a:ext cx="2500560" cy="192096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</a:tblGrid>
              <a:tr h="192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3429000" y="1353960"/>
          <a:ext cx="5510160" cy="3581640"/>
        </p:xfrm>
        <a:graphic>
          <a:graphicData uri="http://schemas.openxmlformats.org/drawingml/2006/table">
            <a:tbl>
              <a:tblPr/>
              <a:tblGrid>
                <a:gridCol w="361800"/>
                <a:gridCol w="2355840"/>
                <a:gridCol w="763920"/>
                <a:gridCol w="387000"/>
                <a:gridCol w="403560"/>
                <a:gridCol w="428400"/>
                <a:gridCol w="407880"/>
                <a:gridCol w="401760"/>
              </a:tblGrid>
              <a:tr h="3070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ลักษณะสำคัญขององค์กร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15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ถาม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การประเมินองค์กรด้วยตนเองหมวด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-7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าม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แผนพัฒนาองค์การประจำปีงบประมาณ พ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* (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AFB-C7C4-4C7D-AD37-D96795E92CC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3429000" y="785880"/>
            <a:ext cx="556272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571920" y="1176480"/>
          <a:ext cx="5224320" cy="1473120"/>
        </p:xfrm>
        <a:graphic>
          <a:graphicData uri="http://schemas.openxmlformats.org/drawingml/2006/table">
            <a:tbl>
              <a:tblPr/>
              <a:tblGrid>
                <a:gridCol w="342720"/>
                <a:gridCol w="2233800"/>
                <a:gridCol w="723960"/>
                <a:gridCol w="368280"/>
                <a:gridCol w="380880"/>
                <a:gridCol w="406440"/>
                <a:gridCol w="387360"/>
                <a:gridCol w="380880"/>
              </a:tblGrid>
              <a:tr h="37044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ลักษณะสำคัญขององค์กร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15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ำถาม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Rectangle 11"/>
          <p:cNvSpPr/>
          <p:nvPr/>
        </p:nvSpPr>
        <p:spPr>
          <a:xfrm>
            <a:off x="3786120" y="370044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3786120" y="285768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ความครบถ้วนสมบูรณ์ในการตอบคำถามจำนว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5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ำถา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entagon 13"/>
          <p:cNvSpPr/>
          <p:nvPr/>
        </p:nvSpPr>
        <p:spPr>
          <a:xfrm>
            <a:off x="2928960" y="1285920"/>
            <a:ext cx="214200" cy="1928880"/>
          </a:xfrm>
          <a:custGeom>
            <a:avLst/>
            <a:gdLst>
              <a:gd name="textAreaLeft" fmla="*/ 0 w 214200"/>
              <a:gd name="textAreaRight" fmla="*/ 214560 w 21420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67" name=""/>
          <p:cNvGraphicFramePr/>
          <p:nvPr/>
        </p:nvGraphicFramePr>
        <p:xfrm>
          <a:off x="357120" y="1276200"/>
          <a:ext cx="2500560" cy="192096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</a:tblGrid>
              <a:tr h="192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703C-5CAA-4D49-BE14-D56C3B305F2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3286080" y="785880"/>
            <a:ext cx="570564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3429000" y="857160"/>
          <a:ext cx="5510160" cy="1768680"/>
        </p:xfrm>
        <a:graphic>
          <a:graphicData uri="http://schemas.openxmlformats.org/drawingml/2006/table">
            <a:tbl>
              <a:tblPr/>
              <a:tblGrid>
                <a:gridCol w="361800"/>
                <a:gridCol w="2355840"/>
                <a:gridCol w="763920"/>
                <a:gridCol w="387000"/>
                <a:gridCol w="403560"/>
                <a:gridCol w="428400"/>
                <a:gridCol w="407880"/>
                <a:gridCol w="401760"/>
              </a:tblGrid>
              <a:tr h="3070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การจัดทำรายงานการประเมินองค์กรด้วยตนเองหมวด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-7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าม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Rectangle 11"/>
          <p:cNvSpPr/>
          <p:nvPr/>
        </p:nvSpPr>
        <p:spPr>
          <a:xfrm>
            <a:off x="3714840" y="378612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8"/>
          <p:cNvSpPr/>
          <p:nvPr/>
        </p:nvSpPr>
        <p:spPr>
          <a:xfrm>
            <a:off x="3714840" y="2714760"/>
            <a:ext cx="4857840" cy="10530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ความครบถ้วนสมบูรณ์ของการ การจัดทำรายงานการประเมินองค์กรด้วยตนเอง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-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entagon 13"/>
          <p:cNvSpPr/>
          <p:nvPr/>
        </p:nvSpPr>
        <p:spPr>
          <a:xfrm>
            <a:off x="2928960" y="1285920"/>
            <a:ext cx="214200" cy="1928880"/>
          </a:xfrm>
          <a:custGeom>
            <a:avLst/>
            <a:gdLst>
              <a:gd name="textAreaLeft" fmla="*/ 0 w 214200"/>
              <a:gd name="textAreaRight" fmla="*/ 214560 w 21420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77" name=""/>
          <p:cNvGraphicFramePr/>
          <p:nvPr/>
        </p:nvGraphicFramePr>
        <p:xfrm>
          <a:off x="357120" y="1276200"/>
          <a:ext cx="2500560" cy="192096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</a:tblGrid>
              <a:tr h="192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78" name="Rectangle 11"/>
          <p:cNvSpPr/>
          <p:nvPr/>
        </p:nvSpPr>
        <p:spPr>
          <a:xfrm>
            <a:off x="3708360" y="4214880"/>
            <a:ext cx="4857840" cy="16923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พิจารณาความครบถ้วนในการประเมินองค์กรด้วยตนเองให้นำ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.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.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.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านับรวมด้วย ดังนั้น จึงหมายความว่าส่วนราชการจะประเมินองค์กรในส่วนของตัวชี้วัด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4.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นี้ด้วย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ิ่มเติมอีก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นอกเหนือจาก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)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ต่นับความครบถ้วนสมบูรณที่ระดั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ท่ากับ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4829-E3E6-4E99-9ECC-BADB9086EA04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3214800" y="785880"/>
            <a:ext cx="577692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3500280" y="1176480"/>
          <a:ext cx="5224680" cy="1685880"/>
        </p:xfrm>
        <a:graphic>
          <a:graphicData uri="http://schemas.openxmlformats.org/drawingml/2006/table">
            <a:tbl>
              <a:tblPr/>
              <a:tblGrid>
                <a:gridCol w="343080"/>
                <a:gridCol w="2233440"/>
                <a:gridCol w="723960"/>
                <a:gridCol w="368280"/>
                <a:gridCol w="381240"/>
                <a:gridCol w="406440"/>
                <a:gridCol w="387360"/>
                <a:gridCol w="380880"/>
              </a:tblGrid>
              <a:tr h="37044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ประเมินผ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กณฑ์การให้คะแน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วามครบถ้วนของแผนพัฒนาองค์การประจำปีงบประมาณ พ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 (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Rectangle 11"/>
          <p:cNvSpPr/>
          <p:nvPr/>
        </p:nvSpPr>
        <p:spPr>
          <a:xfrm>
            <a:off x="3643200" y="362916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ข้อมูลเพื่อใช้รายงานผลจาก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3643200" y="3083040"/>
            <a:ext cx="485784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ิจารณาความครบถ้วนสมบูรณ์ของแผนพัฒนาองค์การแต่ละแผ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"/>
          <p:cNvSpPr/>
          <p:nvPr/>
        </p:nvSpPr>
        <p:spPr>
          <a:xfrm>
            <a:off x="71280" y="786240"/>
            <a:ext cx="278640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entagon 13"/>
          <p:cNvSpPr/>
          <p:nvPr/>
        </p:nvSpPr>
        <p:spPr>
          <a:xfrm>
            <a:off x="2928960" y="1285920"/>
            <a:ext cx="214200" cy="1928880"/>
          </a:xfrm>
          <a:custGeom>
            <a:avLst/>
            <a:gdLst>
              <a:gd name="textAreaLeft" fmla="*/ 0 w 214200"/>
              <a:gd name="textAreaRight" fmla="*/ 214560 w 21420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88" name=""/>
          <p:cNvGraphicFramePr/>
          <p:nvPr/>
        </p:nvGraphicFramePr>
        <p:xfrm>
          <a:off x="357120" y="1276200"/>
          <a:ext cx="2500560" cy="192096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</a:tblGrid>
              <a:tr h="192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9BA7-085E-42C9-9DCC-12EC9B0F308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785880" y="2071800"/>
            <a:ext cx="7858080" cy="100764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26770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Tahoma"/>
                <a:ea typeface="Tahoma"/>
              </a:rPr>
              <a:t>1.</a:t>
            </a: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ภาพรวมการพัฒนาคุณภา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2f2f2"/>
                </a:solidFill>
                <a:latin typeface="Tahoma"/>
                <a:cs typeface="Tahoma"/>
              </a:rPr>
              <a:t>การบริหารจัดการภาครั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71B9-C346-4F26-9D9C-0CBA2B142F75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"/>
          <p:cNvSpPr/>
          <p:nvPr/>
        </p:nvSpPr>
        <p:spPr>
          <a:xfrm>
            <a:off x="71280" y="786240"/>
            <a:ext cx="2786400" cy="3070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Elbow Connector 9"/>
          <p:cNvCxnSpPr/>
          <p:nvPr/>
        </p:nvCxnSpPr>
        <p:spPr>
          <a:xfrm flipH="1" rot="16200000">
            <a:off x="-322560" y="1629000"/>
            <a:ext cx="1500840" cy="429480"/>
          </a:xfrm>
          <a:prstGeom prst="bentConnector3">
            <a:avLst>
              <a:gd name="adj1" fmla="val 100767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93" name="Elbow Connector 9"/>
          <p:cNvCxnSpPr/>
          <p:nvPr/>
        </p:nvCxnSpPr>
        <p:spPr>
          <a:xfrm flipH="1" rot="16200000">
            <a:off x="-501120" y="3308040"/>
            <a:ext cx="1858320" cy="429480"/>
          </a:xfrm>
          <a:prstGeom prst="bentConnector3">
            <a:avLst>
              <a:gd name="adj1" fmla="val 100581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494" name="Pentagon 8"/>
          <p:cNvSpPr/>
          <p:nvPr/>
        </p:nvSpPr>
        <p:spPr>
          <a:xfrm>
            <a:off x="3143160" y="1285920"/>
            <a:ext cx="428760" cy="4295880"/>
          </a:xfrm>
          <a:custGeom>
            <a:avLst/>
            <a:gdLst>
              <a:gd name="textAreaLeft" fmla="*/ 0 w 428760"/>
              <a:gd name="textAreaRight" fmla="*/ 429120 w 428760"/>
              <a:gd name="textAreaTop" fmla="*/ 0 h 4295880"/>
              <a:gd name="textAreaBottom" fmla="*/ 4296240 h 429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3610080" y="785880"/>
            <a:ext cx="538164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สรุปค่าคะแนนของตัวชี้วัด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4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ะดับความสำเร็จของการพัฒนาคุณภาพการบริหารจัดการภาครัฐ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ีแนวทาง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497" name=""/>
          <p:cNvGraphicFramePr/>
          <p:nvPr/>
        </p:nvGraphicFramePr>
        <p:xfrm>
          <a:off x="357120" y="1276200"/>
          <a:ext cx="2714760" cy="4389480"/>
        </p:xfrm>
        <a:graphic>
          <a:graphicData uri="http://schemas.openxmlformats.org/drawingml/2006/table">
            <a:tbl>
              <a:tblPr/>
              <a:tblGrid>
                <a:gridCol w="528840"/>
                <a:gridCol w="2185920"/>
              </a:tblGrid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 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8" name="Rectangle 16"/>
          <p:cNvSpPr/>
          <p:nvPr/>
        </p:nvSpPr>
        <p:spPr>
          <a:xfrm>
            <a:off x="4071960" y="3929040"/>
            <a:ext cx="47466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8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ระดับคะแนนระดับความสำเร็จของการพัฒนาคุณภาพการบริหารจัดการภาครั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4071960" y="1714680"/>
            <a:ext cx="47466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ค่าคะแนนของ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4071960" y="2286000"/>
            <a:ext cx="474660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ค่าคะแนนถ่วงน้ำหนักของ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 โดยการนำค่าคะแนนที่ได้ของแต่ละ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ไปคูณกับน้ำหนักของแต่ละ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ที่กำหนดไว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6"/>
          <p:cNvSpPr/>
          <p:nvPr/>
        </p:nvSpPr>
        <p:spPr>
          <a:xfrm>
            <a:off x="4071960" y="3214800"/>
            <a:ext cx="47466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ค่าคะแนนสุดท้ายของตัวชี้วัด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4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โดยการรวมค่าคะแนนถ่วงน้ำหนักของทุกตัวชี้วัดย่อย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ย่อ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Elbow Connector 9"/>
          <p:cNvCxnSpPr>
            <a:endCxn id="499" idx="1"/>
          </p:cNvCxnSpPr>
          <p:nvPr/>
        </p:nvCxnSpPr>
        <p:spPr>
          <a:xfrm flipH="1" rot="16200000">
            <a:off x="3744000" y="1541160"/>
            <a:ext cx="4402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03" name="Elbow Connector 9"/>
          <p:cNvCxnSpPr>
            <a:endCxn id="500" idx="1"/>
          </p:cNvCxnSpPr>
          <p:nvPr/>
        </p:nvCxnSpPr>
        <p:spPr>
          <a:xfrm flipH="1" rot="16200000">
            <a:off x="3452040" y="2036520"/>
            <a:ext cx="10245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04" name="Elbow Connector 9"/>
          <p:cNvCxnSpPr/>
          <p:nvPr/>
        </p:nvCxnSpPr>
        <p:spPr>
          <a:xfrm flipH="1" rot="16200000">
            <a:off x="3452040" y="2881080"/>
            <a:ext cx="10245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05" name="Elbow Connector 9"/>
          <p:cNvCxnSpPr/>
          <p:nvPr/>
        </p:nvCxnSpPr>
        <p:spPr>
          <a:xfrm flipH="1" rot="16200000">
            <a:off x="3452040" y="3595680"/>
            <a:ext cx="10245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457B-4B73-4E96-B048-A54F45D3EB0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3429000" y="785880"/>
            <a:ext cx="556272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3714840" y="762120"/>
            <a:ext cx="51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8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ระดับคะแนนระดับความสำเร็จของการพัฒนาคุณภาพการบริหารจัดการภาครัฐ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"/>
          <p:cNvSpPr/>
          <p:nvPr/>
        </p:nvSpPr>
        <p:spPr>
          <a:xfrm>
            <a:off x="71280" y="786240"/>
            <a:ext cx="2786400" cy="3070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Elbow Connector 9"/>
          <p:cNvCxnSpPr/>
          <p:nvPr/>
        </p:nvCxnSpPr>
        <p:spPr>
          <a:xfrm flipH="1" rot="16200000">
            <a:off x="-322560" y="1629000"/>
            <a:ext cx="1500840" cy="429480"/>
          </a:xfrm>
          <a:prstGeom prst="bentConnector3">
            <a:avLst>
              <a:gd name="adj1" fmla="val 100767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12" name="Elbow Connector 9"/>
          <p:cNvCxnSpPr/>
          <p:nvPr/>
        </p:nvCxnSpPr>
        <p:spPr>
          <a:xfrm flipH="1" rot="16200000">
            <a:off x="-501120" y="3308040"/>
            <a:ext cx="1858320" cy="429480"/>
          </a:xfrm>
          <a:prstGeom prst="bentConnector3">
            <a:avLst>
              <a:gd name="adj1" fmla="val 100581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513" name="Pentagon 18"/>
          <p:cNvSpPr/>
          <p:nvPr/>
        </p:nvSpPr>
        <p:spPr>
          <a:xfrm>
            <a:off x="2928960" y="1285920"/>
            <a:ext cx="428760" cy="4857840"/>
          </a:xfrm>
          <a:custGeom>
            <a:avLst/>
            <a:gdLst>
              <a:gd name="textAreaLeft" fmla="*/ 0 w 428760"/>
              <a:gd name="textAreaRight" fmla="*/ 429120 w 428760"/>
              <a:gd name="textAreaTop" fmla="*/ 0 h 4857840"/>
              <a:gd name="textAreaBottom" fmla="*/ 4858200 h 485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Elbow Connector 9"/>
          <p:cNvCxnSpPr/>
          <p:nvPr/>
        </p:nvCxnSpPr>
        <p:spPr>
          <a:xfrm flipH="1" rot="16200000">
            <a:off x="106920" y="1200240"/>
            <a:ext cx="500760" cy="286560"/>
          </a:xfrm>
          <a:prstGeom prst="bentConnector3">
            <a:avLst>
              <a:gd name="adj1" fmla="val 93165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515" name=""/>
          <p:cNvGraphicFramePr/>
          <p:nvPr/>
        </p:nvGraphicFramePr>
        <p:xfrm>
          <a:off x="357120" y="1276200"/>
          <a:ext cx="2500560" cy="4937400"/>
        </p:xfrm>
        <a:graphic>
          <a:graphicData uri="http://schemas.openxmlformats.org/drawingml/2006/table">
            <a:tbl>
              <a:tblPr/>
              <a:tblGrid>
                <a:gridCol w="486000"/>
                <a:gridCol w="2014560"/>
              </a:tblGrid>
              <a:tr h="109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8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 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ร้อยล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16" name="Picture 114" descr=""/>
          <p:cNvPicPr/>
          <p:nvPr/>
        </p:nvPicPr>
        <p:blipFill>
          <a:blip r:embed="rId1"/>
          <a:stretch/>
        </p:blipFill>
        <p:spPr>
          <a:xfrm>
            <a:off x="3527280" y="1214280"/>
            <a:ext cx="54025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AD6C-C45E-4013-A61F-A5CC2B04810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2712960" y="929160"/>
            <a:ext cx="4145040" cy="33732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Elbow Connector 9"/>
          <p:cNvCxnSpPr/>
          <p:nvPr/>
        </p:nvCxnSpPr>
        <p:spPr>
          <a:xfrm flipH="1" rot="16200000">
            <a:off x="2533680" y="1535760"/>
            <a:ext cx="714960" cy="214920"/>
          </a:xfrm>
          <a:prstGeom prst="bentConnector3">
            <a:avLst>
              <a:gd name="adj1" fmla="val 9390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1" name="Elbow Connector 9"/>
          <p:cNvCxnSpPr/>
          <p:nvPr/>
        </p:nvCxnSpPr>
        <p:spPr>
          <a:xfrm flipH="1" rot="16200000">
            <a:off x="2616840" y="1976040"/>
            <a:ext cx="5482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2" name="Elbow Connector 9"/>
          <p:cNvCxnSpPr/>
          <p:nvPr/>
        </p:nvCxnSpPr>
        <p:spPr>
          <a:xfrm flipH="1" rot="16200000">
            <a:off x="2462040" y="2678760"/>
            <a:ext cx="858240" cy="214920"/>
          </a:xfrm>
          <a:prstGeom prst="bentConnector3">
            <a:avLst>
              <a:gd name="adj1" fmla="val 100335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3" name="Elbow Connector 9"/>
          <p:cNvCxnSpPr/>
          <p:nvPr/>
        </p:nvCxnSpPr>
        <p:spPr>
          <a:xfrm flipH="1" rot="16200000">
            <a:off x="2462040" y="3464640"/>
            <a:ext cx="858240" cy="214920"/>
          </a:xfrm>
          <a:prstGeom prst="bentConnector3">
            <a:avLst>
              <a:gd name="adj1" fmla="val 100335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4" name="Elbow Connector 9"/>
          <p:cNvCxnSpPr/>
          <p:nvPr/>
        </p:nvCxnSpPr>
        <p:spPr>
          <a:xfrm flipH="1" rot="16200000">
            <a:off x="2462040" y="4250160"/>
            <a:ext cx="857880" cy="214920"/>
          </a:xfrm>
          <a:prstGeom prst="bentConnector3">
            <a:avLst>
              <a:gd name="adj1" fmla="val 100335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5" name="Elbow Connector 9"/>
          <p:cNvCxnSpPr/>
          <p:nvPr/>
        </p:nvCxnSpPr>
        <p:spPr>
          <a:xfrm flipH="1" rot="16200000">
            <a:off x="2462040" y="4893120"/>
            <a:ext cx="857880" cy="214920"/>
          </a:xfrm>
          <a:prstGeom prst="bentConnector3">
            <a:avLst>
              <a:gd name="adj1" fmla="val 100335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526" name="Rectangle 1"/>
          <p:cNvSpPr/>
          <p:nvPr/>
        </p:nvSpPr>
        <p:spPr>
          <a:xfrm>
            <a:off x="2892600" y="2172600"/>
            <a:ext cx="33606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ตัวชี้วัดความสำเร็จของกระบวนการและผลลัพธ์ของแผนพัฒนาองค์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2892600" y="2958480"/>
            <a:ext cx="33606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ดำเนินการปรับปรุงองค์กรตามแผนพัฒนาองค์การของ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2892600" y="3646440"/>
            <a:ext cx="3360600" cy="8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 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"/>
          <p:cNvSpPr/>
          <p:nvPr/>
        </p:nvSpPr>
        <p:spPr>
          <a:xfrm>
            <a:off x="2892600" y="4751280"/>
            <a:ext cx="336060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"/>
          <p:cNvSpPr/>
          <p:nvPr/>
        </p:nvSpPr>
        <p:spPr>
          <a:xfrm>
            <a:off x="2892600" y="5216040"/>
            <a:ext cx="336060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6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ประเมินจากผู้ตรวจประเมินภายนอ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2857680" y="1501200"/>
            <a:ext cx="33843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DD8-1D09-4588-AA4C-84A74A401537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143920" cy="5000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5" name="Shape 36"/>
          <p:cNvCxnSpPr>
            <a:endCxn id="536" idx="1"/>
          </p:cNvCxnSpPr>
          <p:nvPr/>
        </p:nvCxnSpPr>
        <p:spPr>
          <a:xfrm flipH="1" rot="16200000">
            <a:off x="-7560" y="1720440"/>
            <a:ext cx="51372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37" name="Straight Connector 70"/>
          <p:cNvSpPr/>
          <p:nvPr/>
        </p:nvSpPr>
        <p:spPr>
          <a:xfrm>
            <a:off x="5214960" y="3668760"/>
            <a:ext cx="330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traight Connector 65"/>
          <p:cNvSpPr/>
          <p:nvPr/>
        </p:nvSpPr>
        <p:spPr>
          <a:xfrm>
            <a:off x="5214960" y="2016000"/>
            <a:ext cx="330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6220-0BDA-4F2D-80AC-C3D15530E23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"/>
          <p:cNvSpPr/>
          <p:nvPr/>
        </p:nvSpPr>
        <p:spPr>
          <a:xfrm>
            <a:off x="285840" y="1645560"/>
            <a:ext cx="250020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entagon 44"/>
          <p:cNvSpPr/>
          <p:nvPr/>
        </p:nvSpPr>
        <p:spPr>
          <a:xfrm>
            <a:off x="2857680" y="1663560"/>
            <a:ext cx="295200" cy="738360"/>
          </a:xfrm>
          <a:custGeom>
            <a:avLst/>
            <a:gdLst>
              <a:gd name="textAreaLeft" fmla="*/ 0 w 295200"/>
              <a:gd name="textAreaRight" fmla="*/ 295200 w 2952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5"/>
          <p:cNvSpPr/>
          <p:nvPr/>
        </p:nvSpPr>
        <p:spPr>
          <a:xfrm>
            <a:off x="3143160" y="928800"/>
            <a:ext cx="571500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ะบุประเภทของส่วนราชการว่ามีภารกิจหลักที่ควรกำหนดให้เป็นกรมด้านนโยบาย หรือ กรมด้านบริการ ตามขอบเขตและลักษณะของหน่วยง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3929040" y="5004360"/>
            <a:ext cx="4357800" cy="9464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ประเภทของกรมตามลักษณะภารกิจหลักได้ตามความเหมาะสม หรือใช้ประเภทของกรมตามหนังสือสำนักงาน ก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ที่ นร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200/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ว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6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ลงวันที่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ิถุนายน พ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2551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็ได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"/>
          <p:cNvSpPr/>
          <p:nvPr/>
        </p:nvSpPr>
        <p:spPr>
          <a:xfrm>
            <a:off x="3929040" y="1862640"/>
            <a:ext cx="13572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รมนโยบา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Elbow Connector 9"/>
          <p:cNvCxnSpPr>
            <a:endCxn id="545" idx="1"/>
          </p:cNvCxnSpPr>
          <p:nvPr/>
        </p:nvCxnSpPr>
        <p:spPr>
          <a:xfrm flipH="1" rot="16200000">
            <a:off x="3634560" y="1722240"/>
            <a:ext cx="3736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47" name="Elbow Connector 9"/>
          <p:cNvCxnSpPr>
            <a:endCxn id="548" idx="1"/>
          </p:cNvCxnSpPr>
          <p:nvPr/>
        </p:nvCxnSpPr>
        <p:spPr>
          <a:xfrm flipH="1" rot="16200000">
            <a:off x="3004920" y="2735640"/>
            <a:ext cx="16326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48" name="Rectangle 1"/>
          <p:cNvSpPr/>
          <p:nvPr/>
        </p:nvSpPr>
        <p:spPr>
          <a:xfrm>
            <a:off x="3929040" y="3505680"/>
            <a:ext cx="13572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รมบริ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5500800" y="1863000"/>
            <a:ext cx="2787480" cy="13726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หลักของส่วนราชการ เป็นการเสนอแนะในการจัดทำนโยบาย แผน และมาตรการต่าง ๆ ที่เกี่ยวข้อง รวมทั้ง การกำหนดกฎ ระเบียบ การประสานติดตามประเมินผลให้เป็นไปตามนโยบายที่กำหน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5500800" y="3614400"/>
            <a:ext cx="2787480" cy="11595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หลักของส่วนราชการที่รับผิดชอบการให้บริการสาธารณะ การอนุมัติ อนุญาต ควบคุม กำกับ ให้เป็นไปตามกฎหมาย ทั้งนี้ ให้หมายความรวมถึงงานบริการทางวิชาการด้ว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Elbow Connector 9"/>
          <p:cNvCxnSpPr/>
          <p:nvPr/>
        </p:nvCxnSpPr>
        <p:spPr>
          <a:xfrm flipH="1" rot="16200000">
            <a:off x="3070800" y="4286160"/>
            <a:ext cx="1501200" cy="214920"/>
          </a:xfrm>
          <a:prstGeom prst="bentConnector3">
            <a:avLst>
              <a:gd name="adj1" fmla="val 100935"/>
            </a:avLst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C0E6-D3EC-4E0C-AD2A-C68FB512D4E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5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 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จัดทำ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รายหมวด จำนวน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อาจกำหน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Roadmap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พัฒนาองค์การ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5500800" y="1634760"/>
            <a:ext cx="13572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ภาคบังค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"/>
          <p:cNvSpPr/>
          <p:nvPr/>
        </p:nvSpPr>
        <p:spPr>
          <a:xfrm>
            <a:off x="7143840" y="1634760"/>
            <a:ext cx="155556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ภาคสมัครใจ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"/>
          <p:cNvSpPr/>
          <p:nvPr/>
        </p:nvSpPr>
        <p:spPr>
          <a:xfrm>
            <a:off x="3857760" y="2117520"/>
            <a:ext cx="13572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รมนโยบา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3857760" y="2668320"/>
            <a:ext cx="13572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รมบริ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53"/>
          <p:cNvSpPr/>
          <p:nvPr/>
        </p:nvSpPr>
        <p:spPr>
          <a:xfrm>
            <a:off x="6974640" y="1571760"/>
            <a:ext cx="25560" cy="148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54"/>
          <p:cNvSpPr/>
          <p:nvPr/>
        </p:nvSpPr>
        <p:spPr>
          <a:xfrm flipH="1" flipV="1">
            <a:off x="3785760" y="2536560"/>
            <a:ext cx="493884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5"/>
          <p:cNvSpPr/>
          <p:nvPr/>
        </p:nvSpPr>
        <p:spPr>
          <a:xfrm>
            <a:off x="3786120" y="1571760"/>
            <a:ext cx="4951440" cy="15159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56"/>
          <p:cNvSpPr/>
          <p:nvPr/>
        </p:nvSpPr>
        <p:spPr>
          <a:xfrm>
            <a:off x="5357880" y="1571760"/>
            <a:ext cx="25200" cy="148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57"/>
          <p:cNvSpPr/>
          <p:nvPr/>
        </p:nvSpPr>
        <p:spPr>
          <a:xfrm flipH="1" flipV="1">
            <a:off x="3786120" y="1983960"/>
            <a:ext cx="4786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"/>
          <p:cNvSpPr/>
          <p:nvPr/>
        </p:nvSpPr>
        <p:spPr>
          <a:xfrm>
            <a:off x="5500800" y="2638080"/>
            <a:ext cx="1357200" cy="307080"/>
          </a:xfrm>
          <a:prstGeom prst="rect">
            <a:avLst/>
          </a:prstGeom>
          <a:solidFill>
            <a:srgbClr val="cceedf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5500800" y="2126880"/>
            <a:ext cx="1357200" cy="307080"/>
          </a:xfrm>
          <a:prstGeom prst="rect">
            <a:avLst/>
          </a:prstGeom>
          <a:solidFill>
            <a:srgbClr val="cceedf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"/>
          <p:cNvSpPr/>
          <p:nvPr/>
        </p:nvSpPr>
        <p:spPr>
          <a:xfrm>
            <a:off x="7143840" y="2117520"/>
            <a:ext cx="1555560" cy="307080"/>
          </a:xfrm>
          <a:prstGeom prst="rect">
            <a:avLst/>
          </a:prstGeom>
          <a:solidFill>
            <a:srgbClr val="cceedf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รือ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"/>
          <p:cNvSpPr/>
          <p:nvPr/>
        </p:nvSpPr>
        <p:spPr>
          <a:xfrm>
            <a:off x="7143840" y="2647800"/>
            <a:ext cx="1542960" cy="307080"/>
          </a:xfrm>
          <a:prstGeom prst="rect">
            <a:avLst/>
          </a:prstGeom>
          <a:solidFill>
            <a:srgbClr val="cceedf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รือ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3857760" y="1614240"/>
            <a:ext cx="13572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เภทกร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786120" y="3071880"/>
            <a:ext cx="1000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  <a:ea typeface="Tahoma"/>
              </a:rPr>
              <a:t>* </a:t>
            </a:r>
            <a:r>
              <a:rPr b="1" lang="th-TH" sz="1200" spc="-1" strike="noStrike">
                <a:solidFill>
                  <a:srgbClr val="ff0000"/>
                </a:solidFill>
                <a:latin typeface="Tahoma"/>
                <a:cs typeface="Tahoma"/>
              </a:rPr>
              <a:t>ข้อแนะน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/>
          <p:cNvSpPr/>
          <p:nvPr/>
        </p:nvSpPr>
        <p:spPr>
          <a:xfrm>
            <a:off x="4994280" y="3786120"/>
            <a:ext cx="1292400" cy="54144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19" y="0"/>
                </a:lnTo>
                <a:lnTo>
                  <a:pt x="21600" y="10800"/>
                </a:lnTo>
                <a:lnTo>
                  <a:pt x="116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4"/>
          <p:cNvSpPr/>
          <p:nvPr/>
        </p:nvSpPr>
        <p:spPr>
          <a:xfrm>
            <a:off x="6037200" y="3809880"/>
            <a:ext cx="1392480" cy="51588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19" y="0"/>
                </a:lnTo>
                <a:lnTo>
                  <a:pt x="21600" y="10800"/>
                </a:lnTo>
                <a:lnTo>
                  <a:pt x="11619" y="21600"/>
                </a:lnTo>
                <a:lnTo>
                  <a:pt x="0" y="21600"/>
                </a:lnTo>
                <a:lnTo>
                  <a:pt x="9981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>
            <a:off x="7143840" y="3786120"/>
            <a:ext cx="1433520" cy="51588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19" y="0"/>
                </a:lnTo>
                <a:lnTo>
                  <a:pt x="21600" y="10800"/>
                </a:lnTo>
                <a:lnTo>
                  <a:pt x="11619" y="21600"/>
                </a:lnTo>
                <a:lnTo>
                  <a:pt x="0" y="21600"/>
                </a:lnTo>
                <a:lnTo>
                  <a:pt x="9981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5280120" y="3938760"/>
            <a:ext cx="56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7786800" y="3911760"/>
            <a:ext cx="7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3"/>
          <p:cNvSpPr/>
          <p:nvPr/>
        </p:nvSpPr>
        <p:spPr>
          <a:xfrm>
            <a:off x="6635880" y="3938760"/>
            <a:ext cx="6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99"/>
          <p:cNvGrpSpPr/>
          <p:nvPr/>
        </p:nvGrpSpPr>
        <p:grpSpPr>
          <a:xfrm>
            <a:off x="4000680" y="4429080"/>
            <a:ext cx="4632120" cy="1785960"/>
            <a:chOff x="4000680" y="4429080"/>
            <a:chExt cx="4632120" cy="1785960"/>
          </a:xfrm>
        </p:grpSpPr>
        <p:sp>
          <p:nvSpPr>
            <p:cNvPr id="577" name="AutoShape 8"/>
            <p:cNvSpPr/>
            <p:nvPr/>
          </p:nvSpPr>
          <p:spPr>
            <a:xfrm>
              <a:off x="4067280" y="4429080"/>
              <a:ext cx="4526280" cy="823680"/>
            </a:xfrm>
            <a:prstGeom prst="roundRect">
              <a:avLst>
                <a:gd name="adj" fmla="val 16667"/>
              </a:avLst>
            </a:prstGeom>
            <a:solidFill>
              <a:srgbClr val="edf6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9"/>
            <p:cNvSpPr/>
            <p:nvPr/>
          </p:nvSpPr>
          <p:spPr>
            <a:xfrm>
              <a:off x="4143240" y="4641120"/>
              <a:ext cx="889560" cy="366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0"/>
            <p:cNvSpPr/>
            <p:nvPr/>
          </p:nvSpPr>
          <p:spPr>
            <a:xfrm>
              <a:off x="4000680" y="4635360"/>
              <a:ext cx="1203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รมด้า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บริกา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1"/>
            <p:cNvSpPr/>
            <p:nvPr/>
          </p:nvSpPr>
          <p:spPr>
            <a:xfrm>
              <a:off x="4027320" y="5289120"/>
              <a:ext cx="4605480" cy="9259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2"/>
            <p:cNvSpPr/>
            <p:nvPr/>
          </p:nvSpPr>
          <p:spPr>
            <a:xfrm>
              <a:off x="4149360" y="5601240"/>
              <a:ext cx="916920" cy="366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3"/>
            <p:cNvSpPr/>
            <p:nvPr/>
          </p:nvSpPr>
          <p:spPr>
            <a:xfrm>
              <a:off x="4258080" y="5597640"/>
              <a:ext cx="62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รมด้า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โยบา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8"/>
            <p:cNvSpPr/>
            <p:nvPr/>
          </p:nvSpPr>
          <p:spPr>
            <a:xfrm>
              <a:off x="5120280" y="460764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9"/>
            <p:cNvSpPr/>
            <p:nvPr/>
          </p:nvSpPr>
          <p:spPr>
            <a:xfrm>
              <a:off x="5924160" y="4683240"/>
              <a:ext cx="231840" cy="228960"/>
            </a:xfrm>
            <a:prstGeom prst="rightArrow">
              <a:avLst>
                <a:gd name="adj1" fmla="val 50000"/>
                <a:gd name="adj2" fmla="val 2531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20"/>
            <p:cNvSpPr/>
            <p:nvPr/>
          </p:nvSpPr>
          <p:spPr>
            <a:xfrm>
              <a:off x="7200360" y="4683240"/>
              <a:ext cx="231840" cy="228960"/>
            </a:xfrm>
            <a:prstGeom prst="rightArrow">
              <a:avLst>
                <a:gd name="adj1" fmla="val 50000"/>
                <a:gd name="adj2" fmla="val 2531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24"/>
            <p:cNvSpPr/>
            <p:nvPr/>
          </p:nvSpPr>
          <p:spPr>
            <a:xfrm>
              <a:off x="5427360" y="479124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25"/>
            <p:cNvSpPr/>
            <p:nvPr/>
          </p:nvSpPr>
          <p:spPr>
            <a:xfrm>
              <a:off x="6464880" y="445824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6"/>
            <p:cNvSpPr/>
            <p:nvPr/>
          </p:nvSpPr>
          <p:spPr>
            <a:xfrm>
              <a:off x="6464880" y="477324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27"/>
            <p:cNvSpPr/>
            <p:nvPr/>
          </p:nvSpPr>
          <p:spPr>
            <a:xfrm>
              <a:off x="7702920" y="447624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28"/>
            <p:cNvSpPr/>
            <p:nvPr/>
          </p:nvSpPr>
          <p:spPr>
            <a:xfrm>
              <a:off x="7702920" y="479124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30"/>
            <p:cNvSpPr/>
            <p:nvPr/>
          </p:nvSpPr>
          <p:spPr>
            <a:xfrm>
              <a:off x="5937840" y="5573880"/>
              <a:ext cx="231840" cy="228960"/>
            </a:xfrm>
            <a:prstGeom prst="rightArrow">
              <a:avLst>
                <a:gd name="adj1" fmla="val 50000"/>
                <a:gd name="adj2" fmla="val 2531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31"/>
            <p:cNvSpPr/>
            <p:nvPr/>
          </p:nvSpPr>
          <p:spPr>
            <a:xfrm>
              <a:off x="7214040" y="5573880"/>
              <a:ext cx="231840" cy="228960"/>
            </a:xfrm>
            <a:prstGeom prst="rightArrow">
              <a:avLst>
                <a:gd name="adj1" fmla="val 50000"/>
                <a:gd name="adj2" fmla="val 2531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32"/>
            <p:cNvSpPr/>
            <p:nvPr/>
          </p:nvSpPr>
          <p:spPr>
            <a:xfrm>
              <a:off x="5158800" y="556200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34"/>
            <p:cNvSpPr/>
            <p:nvPr/>
          </p:nvSpPr>
          <p:spPr>
            <a:xfrm>
              <a:off x="6478560" y="566388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35"/>
            <p:cNvSpPr/>
            <p:nvPr/>
          </p:nvSpPr>
          <p:spPr>
            <a:xfrm>
              <a:off x="7716600" y="536688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36"/>
            <p:cNvSpPr/>
            <p:nvPr/>
          </p:nvSpPr>
          <p:spPr>
            <a:xfrm>
              <a:off x="7716600" y="568188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9"/>
            <p:cNvSpPr/>
            <p:nvPr/>
          </p:nvSpPr>
          <p:spPr>
            <a:xfrm>
              <a:off x="5424840" y="447120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9"/>
            <p:cNvSpPr/>
            <p:nvPr/>
          </p:nvSpPr>
          <p:spPr>
            <a:xfrm>
              <a:off x="5427360" y="533484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8"/>
            <p:cNvSpPr/>
            <p:nvPr/>
          </p:nvSpPr>
          <p:spPr>
            <a:xfrm>
              <a:off x="5427360" y="569808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8"/>
            <p:cNvSpPr/>
            <p:nvPr/>
          </p:nvSpPr>
          <p:spPr>
            <a:xfrm>
              <a:off x="6464160" y="5334840"/>
              <a:ext cx="271080" cy="27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Shape 68"/>
          <p:cNvCxnSpPr>
            <a:endCxn id="602" idx="1"/>
          </p:cNvCxnSpPr>
          <p:nvPr/>
        </p:nvCxnSpPr>
        <p:spPr>
          <a:xfrm flipH="1" rot="16200000">
            <a:off x="-7560" y="1720440"/>
            <a:ext cx="51372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03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"/>
          <p:cNvSpPr/>
          <p:nvPr/>
        </p:nvSpPr>
        <p:spPr>
          <a:xfrm>
            <a:off x="285840" y="1645560"/>
            <a:ext cx="250020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entagon 71"/>
          <p:cNvSpPr/>
          <p:nvPr/>
        </p:nvSpPr>
        <p:spPr>
          <a:xfrm>
            <a:off x="2857680" y="1663560"/>
            <a:ext cx="295200" cy="738360"/>
          </a:xfrm>
          <a:custGeom>
            <a:avLst/>
            <a:gdLst>
              <a:gd name="textAreaLeft" fmla="*/ 0 w 295200"/>
              <a:gd name="textAreaRight" fmla="*/ 295200 w 2952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1D14-52FF-4670-A0CC-C17D31D0D46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5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รอบในการจัดทำแผนภาคบังคับ และแผนภาคสมัครใ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จะแต่งตั้งคณะทำงานซึ่งประกอบด้วยผู้ทรงคุณวุฒิที่เชี่ยวชาญในด้านการพัฒนาองค์การ เพื่อทำหน้าที่กลั่นกรองแผนพัฒนาองค์การที่ส่วนราชการส่งเข้ามา และจะแจ้งผลให้ทราบ</a:t>
            </a:r>
            <a:r>
              <a:rPr b="0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ภายในกลางเดือนกุมภาพันธ์ </a:t>
            </a:r>
            <a:r>
              <a:rPr b="0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ใช้ในการจัดทำ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การส่ง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้องได้รับความเห็นชอบจากหัวหน้าส่วนราชกา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"/>
          <p:cNvSpPr/>
          <p:nvPr/>
        </p:nvSpPr>
        <p:spPr>
          <a:xfrm>
            <a:off x="4357800" y="133704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ปรับปรุงที่ได้จัดทำไว้จำนว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ผนในปีงบประมาณ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551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Elbow Connector 9"/>
          <p:cNvCxnSpPr>
            <a:endCxn id="608" idx="1"/>
          </p:cNvCxnSpPr>
          <p:nvPr/>
        </p:nvCxnSpPr>
        <p:spPr>
          <a:xfrm flipH="1" rot="16200000">
            <a:off x="4083840" y="1322640"/>
            <a:ext cx="3340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10" name="Elbow Connector 9"/>
          <p:cNvCxnSpPr>
            <a:endCxn id="611" idx="1"/>
          </p:cNvCxnSpPr>
          <p:nvPr/>
        </p:nvCxnSpPr>
        <p:spPr>
          <a:xfrm flipH="1" rot="16200000">
            <a:off x="3959280" y="1755360"/>
            <a:ext cx="5832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11" name="Rectangle 1"/>
          <p:cNvSpPr/>
          <p:nvPr/>
        </p:nvSpPr>
        <p:spPr>
          <a:xfrm>
            <a:off x="4357800" y="2000520"/>
            <a:ext cx="43416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"/>
          <p:cNvSpPr/>
          <p:nvPr/>
        </p:nvSpPr>
        <p:spPr>
          <a:xfrm>
            <a:off x="4429080" y="412128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Elbow Connector 9"/>
          <p:cNvCxnSpPr>
            <a:endCxn id="612" idx="1"/>
          </p:cNvCxnSpPr>
          <p:nvPr/>
        </p:nvCxnSpPr>
        <p:spPr>
          <a:xfrm flipH="1" rot="16200000">
            <a:off x="4154400" y="4107600"/>
            <a:ext cx="334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14" name="Rectangle 1"/>
          <p:cNvSpPr/>
          <p:nvPr/>
        </p:nvSpPr>
        <p:spPr>
          <a:xfrm>
            <a:off x="4429080" y="514404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ภายใ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กราคม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Elbow Connector 9"/>
          <p:cNvCxnSpPr>
            <a:endCxn id="614" idx="1"/>
          </p:cNvCxnSpPr>
          <p:nvPr/>
        </p:nvCxnSpPr>
        <p:spPr>
          <a:xfrm flipH="1" rot="16200000">
            <a:off x="4208400" y="5077440"/>
            <a:ext cx="226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16" name="Rectangle 1"/>
          <p:cNvSpPr/>
          <p:nvPr/>
        </p:nvSpPr>
        <p:spPr>
          <a:xfrm>
            <a:off x="4429080" y="557388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ากจัดส่งไม่ทันในระยะเวลาที่กำหนดจะปรับลดคะแนนจากผลคะแนนรวมของตัวชี้วัดนี้</a:t>
            </a: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1400" spc="-1" strike="noStrike">
                <a:solidFill>
                  <a:srgbClr val="ff0000"/>
                </a:solidFill>
                <a:latin typeface="Tahoma"/>
                <a:ea typeface="Tahoma"/>
              </a:rPr>
              <a:t>0.5000 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คะแน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Elbow Connector 9"/>
          <p:cNvCxnSpPr>
            <a:endCxn id="616" idx="1"/>
          </p:cNvCxnSpPr>
          <p:nvPr/>
        </p:nvCxnSpPr>
        <p:spPr>
          <a:xfrm flipH="1" rot="16200000">
            <a:off x="4047120" y="5452920"/>
            <a:ext cx="54864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18" name="Shape 18"/>
          <p:cNvCxnSpPr>
            <a:endCxn id="619" idx="1"/>
          </p:cNvCxnSpPr>
          <p:nvPr/>
        </p:nvCxnSpPr>
        <p:spPr>
          <a:xfrm flipH="1" rot="16200000">
            <a:off x="-7560" y="1720440"/>
            <a:ext cx="51372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0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"/>
          <p:cNvSpPr/>
          <p:nvPr/>
        </p:nvSpPr>
        <p:spPr>
          <a:xfrm>
            <a:off x="285840" y="1645560"/>
            <a:ext cx="250020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entagon 21"/>
          <p:cNvSpPr/>
          <p:nvPr/>
        </p:nvSpPr>
        <p:spPr>
          <a:xfrm>
            <a:off x="2857680" y="1663560"/>
            <a:ext cx="295200" cy="738360"/>
          </a:xfrm>
          <a:custGeom>
            <a:avLst/>
            <a:gdLst>
              <a:gd name="textAreaLeft" fmla="*/ 0 w 295200"/>
              <a:gd name="textAreaRight" fmla="*/ 295200 w 2952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0C26-9789-4C95-9F52-7A2F952C0C1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5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3286080" y="1428840"/>
            <a:ext cx="5572080" cy="479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6" name="Rectangle 29"/>
          <p:cNvSpPr/>
          <p:nvPr/>
        </p:nvSpPr>
        <p:spPr>
          <a:xfrm>
            <a:off x="3286080" y="915840"/>
            <a:ext cx="557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Shape 10"/>
          <p:cNvCxnSpPr>
            <a:endCxn id="628" idx="1"/>
          </p:cNvCxnSpPr>
          <p:nvPr/>
        </p:nvCxnSpPr>
        <p:spPr>
          <a:xfrm flipH="1" rot="16200000">
            <a:off x="-7560" y="1720440"/>
            <a:ext cx="51372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9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285840" y="1645560"/>
            <a:ext cx="250020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entagon 13"/>
          <p:cNvSpPr/>
          <p:nvPr/>
        </p:nvSpPr>
        <p:spPr>
          <a:xfrm>
            <a:off x="2857680" y="1663560"/>
            <a:ext cx="295200" cy="738360"/>
          </a:xfrm>
          <a:custGeom>
            <a:avLst/>
            <a:gdLst>
              <a:gd name="textAreaLeft" fmla="*/ 0 w 295200"/>
              <a:gd name="textAreaRight" fmla="*/ 295200 w 2952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9366-0971-4805-B584-DC5360BD50B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5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3357720" y="915840"/>
            <a:ext cx="55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ัวอย่างการจัดทำแบบฟอร์มที่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1"/>
          <a:stretch/>
        </p:blipFill>
        <p:spPr>
          <a:xfrm>
            <a:off x="3357720" y="1498680"/>
            <a:ext cx="5481360" cy="4716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36" name="Rectangle 21"/>
          <p:cNvSpPr/>
          <p:nvPr/>
        </p:nvSpPr>
        <p:spPr>
          <a:xfrm>
            <a:off x="6786720" y="1785960"/>
            <a:ext cx="2071440" cy="571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hape 11"/>
          <p:cNvCxnSpPr>
            <a:endCxn id="638" idx="1"/>
          </p:cNvCxnSpPr>
          <p:nvPr/>
        </p:nvCxnSpPr>
        <p:spPr>
          <a:xfrm flipH="1" rot="16200000">
            <a:off x="-7560" y="1720440"/>
            <a:ext cx="51372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39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"/>
          <p:cNvSpPr/>
          <p:nvPr/>
        </p:nvSpPr>
        <p:spPr>
          <a:xfrm>
            <a:off x="285840" y="1645560"/>
            <a:ext cx="250020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วิเคราะห์และจัดทำ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entagon 14"/>
          <p:cNvSpPr/>
          <p:nvPr/>
        </p:nvSpPr>
        <p:spPr>
          <a:xfrm>
            <a:off x="2857680" y="1663560"/>
            <a:ext cx="295200" cy="738360"/>
          </a:xfrm>
          <a:custGeom>
            <a:avLst/>
            <a:gdLst>
              <a:gd name="textAreaLeft" fmla="*/ 0 w 295200"/>
              <a:gd name="textAreaRight" fmla="*/ 295200 w 2952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41" name="Shape 37"/>
          <p:cNvCxnSpPr>
            <a:endCxn id="642" idx="1"/>
          </p:cNvCxnSpPr>
          <p:nvPr/>
        </p:nvCxnSpPr>
        <p:spPr>
          <a:xfrm flipH="1" rot="16200000">
            <a:off x="-169200" y="1740240"/>
            <a:ext cx="874080" cy="107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43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F455-A289-4FFF-81D3-04427D50BF3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"/>
          <p:cNvSpPr/>
          <p:nvPr/>
        </p:nvSpPr>
        <p:spPr>
          <a:xfrm>
            <a:off x="320760" y="1863000"/>
            <a:ext cx="246528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ตัวชี้วัดความสำเร็จของกระบวนการและผลลัพธ์ของ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entagon 44"/>
          <p:cNvSpPr/>
          <p:nvPr/>
        </p:nvSpPr>
        <p:spPr>
          <a:xfrm>
            <a:off x="2857680" y="1747800"/>
            <a:ext cx="357120" cy="966960"/>
          </a:xfrm>
          <a:custGeom>
            <a:avLst/>
            <a:gdLst>
              <a:gd name="textAreaLeft" fmla="*/ 0 w 357120"/>
              <a:gd name="textAreaRight" fmla="*/ 357480 w 35712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5"/>
          <p:cNvSpPr/>
          <p:nvPr/>
        </p:nvSpPr>
        <p:spPr>
          <a:xfrm>
            <a:off x="3286080" y="928800"/>
            <a:ext cx="557208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ตัวชี้วัดความสำเร็จของการดำเนินการตามแผนพัฒนาองค์การ 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รายละเอียดตัวชี้วัดเพื่อการประเมินผ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ใช้ในการจัดทำ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ตัวชี้วัดความสำเร็จของการดำเนินการตามแผนพัฒนาองค์กา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การส่ง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้องได้รับความเห็นชอบจากหัวหน้าส่วนราชกา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"/>
          <p:cNvSpPr/>
          <p:nvPr/>
        </p:nvSpPr>
        <p:spPr>
          <a:xfrm>
            <a:off x="4357800" y="3859920"/>
            <a:ext cx="435744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 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Elbow Connector 9"/>
          <p:cNvCxnSpPr>
            <a:endCxn id="648" idx="1"/>
          </p:cNvCxnSpPr>
          <p:nvPr/>
        </p:nvCxnSpPr>
        <p:spPr>
          <a:xfrm flipH="1" rot="16200000">
            <a:off x="4030560" y="3898440"/>
            <a:ext cx="44064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50" name="Rectangle 1"/>
          <p:cNvSpPr/>
          <p:nvPr/>
        </p:nvSpPr>
        <p:spPr>
          <a:xfrm>
            <a:off x="4357800" y="5144040"/>
            <a:ext cx="435744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ภายใน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กราคม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Elbow Connector 9"/>
          <p:cNvCxnSpPr>
            <a:endCxn id="650" idx="1"/>
          </p:cNvCxnSpPr>
          <p:nvPr/>
        </p:nvCxnSpPr>
        <p:spPr>
          <a:xfrm flipH="1" rot="16200000">
            <a:off x="4137840" y="5077080"/>
            <a:ext cx="2260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52" name="Rectangle 1"/>
          <p:cNvSpPr/>
          <p:nvPr/>
        </p:nvSpPr>
        <p:spPr>
          <a:xfrm>
            <a:off x="4357800" y="557388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ากจัดส่งไม่ทันในระยะเวลาที่กำหนดจะปรับลดคะแนนจากผลคะแนนรวมของตัวชี้วัดนี้</a:t>
            </a: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1400" spc="-1" strike="noStrike">
                <a:solidFill>
                  <a:srgbClr val="ff0000"/>
                </a:solidFill>
                <a:latin typeface="Tahoma"/>
                <a:ea typeface="Tahoma"/>
              </a:rPr>
              <a:t>0.5000 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คะแน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Elbow Connector 9"/>
          <p:cNvCxnSpPr>
            <a:endCxn id="652" idx="1"/>
          </p:cNvCxnSpPr>
          <p:nvPr/>
        </p:nvCxnSpPr>
        <p:spPr>
          <a:xfrm flipH="1" rot="16200000">
            <a:off x="3976560" y="5452560"/>
            <a:ext cx="54864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54" name="Rectangle 1"/>
          <p:cNvSpPr/>
          <p:nvPr/>
        </p:nvSpPr>
        <p:spPr>
          <a:xfrm>
            <a:off x="4286160" y="171504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น้ำหนักเท่ากันทุก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Elbow Connector 9"/>
          <p:cNvCxnSpPr>
            <a:endCxn id="654" idx="1"/>
          </p:cNvCxnSpPr>
          <p:nvPr/>
        </p:nvCxnSpPr>
        <p:spPr>
          <a:xfrm flipH="1" rot="16200000">
            <a:off x="4065480" y="1648440"/>
            <a:ext cx="226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56" name="Rectangle 1"/>
          <p:cNvSpPr/>
          <p:nvPr/>
        </p:nvSpPr>
        <p:spPr>
          <a:xfrm>
            <a:off x="4286160" y="214344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นำค่าเป้าหมายไว้ที่ค่าคะแนนระดับ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7" name="Elbow Connector 9"/>
          <p:cNvCxnSpPr>
            <a:endCxn id="656" idx="1"/>
          </p:cNvCxnSpPr>
          <p:nvPr/>
        </p:nvCxnSpPr>
        <p:spPr>
          <a:xfrm flipH="1" rot="16200000">
            <a:off x="3958200" y="1969920"/>
            <a:ext cx="44064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58" name="Rectangle 1"/>
          <p:cNvSpPr/>
          <p:nvPr/>
        </p:nvSpPr>
        <p:spPr>
          <a:xfrm>
            <a:off x="4286160" y="265644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ำหนดเกณฑ์การให้คะแนนแต่ละตัวชี้วัดตามความเหมาะส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9" name="Elbow Connector 9"/>
          <p:cNvCxnSpPr/>
          <p:nvPr/>
        </p:nvCxnSpPr>
        <p:spPr>
          <a:xfrm flipH="1" rot="16200000">
            <a:off x="3958200" y="2398320"/>
            <a:ext cx="4402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801E-00A4-4916-9CA9-DA0D84647546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162920" y="785880"/>
            <a:ext cx="1828800" cy="4952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3880" y="785880"/>
            <a:ext cx="5639040" cy="4952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52280" y="785880"/>
            <a:ext cx="1371600" cy="4952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0"/>
            <a:ext cx="6215040" cy="518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รางวัลด้านคุณภาพของนานาประเท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52280" y="785880"/>
            <a:ext cx="8839440" cy="4848120"/>
            <a:chOff x="152280" y="785880"/>
            <a:chExt cx="8839440" cy="4848120"/>
          </a:xfrm>
        </p:grpSpPr>
        <p:sp>
          <p:nvSpPr>
            <p:cNvPr id="71" name="Text Box 7"/>
            <p:cNvSpPr/>
            <p:nvPr/>
          </p:nvSpPr>
          <p:spPr>
            <a:xfrm>
              <a:off x="425520" y="863640"/>
              <a:ext cx="1098000" cy="46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51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84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87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88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91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94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95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999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2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570320" y="878040"/>
              <a:ext cx="5697360" cy="47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ming Prize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nada Award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alcolm Baldrige National Quality Aw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ustralian Business Excellence Award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European Foundation Quality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ngapore Quality Aw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Japan Quality Award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BNQA : Education and Healthcare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hailand Quality Award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7136280" y="785880"/>
              <a:ext cx="1722960" cy="48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Japan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an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US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ustr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U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Singap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Japan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US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Thai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152280" y="785880"/>
              <a:ext cx="184320" cy="46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>
              <a:off x="152280" y="147168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152280" y="200520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152280" y="253872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152280" y="299592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152280" y="352908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152280" y="406260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152280" y="459612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152280" y="5129280"/>
              <a:ext cx="8839440" cy="0"/>
            </a:xfrm>
            <a:prstGeom prst="line">
              <a:avLst/>
            </a:prstGeom>
            <a:ln w="32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9"/>
          <p:cNvGrpSpPr/>
          <p:nvPr/>
        </p:nvGrpSpPr>
        <p:grpSpPr>
          <a:xfrm>
            <a:off x="1143000" y="5943600"/>
            <a:ext cx="6643800" cy="765000"/>
            <a:chOff x="1143000" y="5943600"/>
            <a:chExt cx="6643800" cy="765000"/>
          </a:xfrm>
        </p:grpSpPr>
        <p:sp>
          <p:nvSpPr>
            <p:cNvPr id="84" name="Rectangle 20"/>
            <p:cNvSpPr/>
            <p:nvPr/>
          </p:nvSpPr>
          <p:spPr>
            <a:xfrm>
              <a:off x="1143000" y="5943600"/>
              <a:ext cx="6643800" cy="765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Comic Sans MS"/>
                </a:rPr>
                <a:t>Quality         Performance / Organizational  Excell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2202840" y="6324480"/>
              <a:ext cx="4237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F0C5-6BDB-494A-8945-BA4D7550605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45"/>
          <p:cNvSpPr/>
          <p:nvPr/>
        </p:nvSpPr>
        <p:spPr>
          <a:xfrm>
            <a:off x="3143160" y="785880"/>
            <a:ext cx="571500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5"/>
          <p:cNvSpPr/>
          <p:nvPr/>
        </p:nvSpPr>
        <p:spPr>
          <a:xfrm>
            <a:off x="3143160" y="785880"/>
            <a:ext cx="571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 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26" descr=""/>
          <p:cNvPicPr/>
          <p:nvPr/>
        </p:nvPicPr>
        <p:blipFill>
          <a:blip r:embed="rId1"/>
          <a:srcRect l="736" t="1079" r="1383" b="1473"/>
          <a:stretch/>
        </p:blipFill>
        <p:spPr>
          <a:xfrm>
            <a:off x="3214800" y="1357200"/>
            <a:ext cx="5572080" cy="4857840"/>
          </a:xfrm>
          <a:prstGeom prst="rect">
            <a:avLst/>
          </a:prstGeom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666" name="Shape 21"/>
          <p:cNvCxnSpPr>
            <a:endCxn id="667" idx="1"/>
          </p:cNvCxnSpPr>
          <p:nvPr/>
        </p:nvCxnSpPr>
        <p:spPr>
          <a:xfrm flipH="1" rot="16200000">
            <a:off x="-169200" y="1740240"/>
            <a:ext cx="874080" cy="107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68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"/>
          <p:cNvSpPr/>
          <p:nvPr/>
        </p:nvSpPr>
        <p:spPr>
          <a:xfrm>
            <a:off x="320760" y="1863000"/>
            <a:ext cx="246528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ตัวชี้วัดความสำเร็จของกระบวนการและผลลัพธ์ของ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entagon 24"/>
          <p:cNvSpPr/>
          <p:nvPr/>
        </p:nvSpPr>
        <p:spPr>
          <a:xfrm>
            <a:off x="2857680" y="1747800"/>
            <a:ext cx="285480" cy="966960"/>
          </a:xfrm>
          <a:custGeom>
            <a:avLst/>
            <a:gdLst>
              <a:gd name="textAreaLeft" fmla="*/ 0 w 285480"/>
              <a:gd name="textAreaRight" fmla="*/ 285840 w 28548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427E-6049-4B65-8AAF-03B8DF5AB26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5"/>
          <p:cNvSpPr/>
          <p:nvPr/>
        </p:nvSpPr>
        <p:spPr>
          <a:xfrm>
            <a:off x="3286080" y="928800"/>
            <a:ext cx="557208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5"/>
          <p:cNvSpPr/>
          <p:nvPr/>
        </p:nvSpPr>
        <p:spPr>
          <a:xfrm>
            <a:off x="3286080" y="928800"/>
            <a:ext cx="557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ตัวอย่างการจัดทำแบบฟอร์มที่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 ประจำปีงบประมาณ  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2"/>
          <p:cNvSpPr/>
          <p:nvPr/>
        </p:nvSpPr>
        <p:spPr>
          <a:xfrm>
            <a:off x="3430440" y="-852840"/>
            <a:ext cx="2283120" cy="21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41200" rIns="114120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3" descr=""/>
          <p:cNvPicPr/>
          <p:nvPr/>
        </p:nvPicPr>
        <p:blipFill>
          <a:blip r:embed="rId1"/>
          <a:srcRect l="1070" t="1805" r="1744" b="2673"/>
          <a:stretch/>
        </p:blipFill>
        <p:spPr>
          <a:xfrm>
            <a:off x="3429000" y="1643040"/>
            <a:ext cx="5357880" cy="45799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676" name="Shape 11"/>
          <p:cNvCxnSpPr>
            <a:endCxn id="677" idx="1"/>
          </p:cNvCxnSpPr>
          <p:nvPr/>
        </p:nvCxnSpPr>
        <p:spPr>
          <a:xfrm flipH="1" rot="16200000">
            <a:off x="-169200" y="1740240"/>
            <a:ext cx="874080" cy="107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78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"/>
          <p:cNvSpPr/>
          <p:nvPr/>
        </p:nvSpPr>
        <p:spPr>
          <a:xfrm>
            <a:off x="320760" y="1863000"/>
            <a:ext cx="246528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ตัวชี้วัดความสำเร็จของกระบวนการและผลลัพธ์ของ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entagon 14"/>
          <p:cNvSpPr/>
          <p:nvPr/>
        </p:nvSpPr>
        <p:spPr>
          <a:xfrm>
            <a:off x="2857680" y="1747800"/>
            <a:ext cx="285480" cy="966960"/>
          </a:xfrm>
          <a:custGeom>
            <a:avLst/>
            <a:gdLst>
              <a:gd name="textAreaLeft" fmla="*/ 0 w 285480"/>
              <a:gd name="textAreaRight" fmla="*/ 285840 w 28548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8642-1225-4FA8-AC44-FADC29114255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"/>
          <p:cNvSpPr/>
          <p:nvPr/>
        </p:nvSpPr>
        <p:spPr>
          <a:xfrm>
            <a:off x="320760" y="1716840"/>
            <a:ext cx="2465280" cy="733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ำเนินการปรับปรุงองค์กรตามแผนพัฒนาองค์การของ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4" name="Shape 36"/>
          <p:cNvCxnSpPr/>
          <p:nvPr/>
        </p:nvCxnSpPr>
        <p:spPr>
          <a:xfrm flipH="1" rot="16200000">
            <a:off x="15480" y="1697400"/>
            <a:ext cx="467640" cy="723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5" name="Pentagon 44"/>
          <p:cNvSpPr/>
          <p:nvPr/>
        </p:nvSpPr>
        <p:spPr>
          <a:xfrm>
            <a:off x="2857680" y="1714680"/>
            <a:ext cx="285480" cy="785520"/>
          </a:xfrm>
          <a:custGeom>
            <a:avLst/>
            <a:gdLst>
              <a:gd name="textAreaLeft" fmla="*/ 0 w 285480"/>
              <a:gd name="textAreaRight" fmla="*/ 285840 w 28548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ดำเนินการตามแผนพัฒนาองค์การที่กำหนด เพื่อให้แผนดังกล่าวบรรลุเป้าหมายที่กำหนดทั้งในแง่ความครบถ้วนของกระบวนการและความสำเร็จของผลลัพธ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มีระบบสนับสนุน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"/>
          <p:cNvSpPr/>
          <p:nvPr/>
        </p:nvSpPr>
        <p:spPr>
          <a:xfrm>
            <a:off x="3929040" y="221508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ู่มือเทคนิคการปรับปรุงและพัฒนาองค์การ เวอร์ชั่น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Elbow Connector 9"/>
          <p:cNvCxnSpPr>
            <a:endCxn id="687" idx="1"/>
          </p:cNvCxnSpPr>
          <p:nvPr/>
        </p:nvCxnSpPr>
        <p:spPr>
          <a:xfrm flipH="1" rot="16200000">
            <a:off x="3708360" y="2148480"/>
            <a:ext cx="226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9" name="Rectangle 1"/>
          <p:cNvSpPr/>
          <p:nvPr/>
        </p:nvSpPr>
        <p:spPr>
          <a:xfrm>
            <a:off x="3929040" y="264348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ชุดเครื่องมือการพัฒนาองค์การ 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Elbow Connector 9"/>
          <p:cNvCxnSpPr>
            <a:endCxn id="689" idx="1"/>
          </p:cNvCxnSpPr>
          <p:nvPr/>
        </p:nvCxnSpPr>
        <p:spPr>
          <a:xfrm flipH="1" rot="16200000">
            <a:off x="3601080" y="2469960"/>
            <a:ext cx="44064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91" name="Rectangle 1"/>
          <p:cNvSpPr/>
          <p:nvPr/>
        </p:nvSpPr>
        <p:spPr>
          <a:xfrm>
            <a:off x="3929040" y="312300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คำปรึกษาในการพัฒนาองค์การโดยที่ปรึกษาในการพัฒนาองค์การที่เชี่ยวชาญในแต่ละหมว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"/>
          <p:cNvSpPr/>
          <p:nvPr/>
        </p:nvSpPr>
        <p:spPr>
          <a:xfrm>
            <a:off x="3929040" y="3837600"/>
            <a:ext cx="435780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ลีนิคให้คำปรึกษาทุกบ่ายวันศุกร์ ที่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โดยทีมเจ้าหน้าที่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ที่รับผิดชอบโครงการพัฒนาคุณภาพการบริหารจัดการภาครั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"/>
          <p:cNvSpPr/>
          <p:nvPr/>
        </p:nvSpPr>
        <p:spPr>
          <a:xfrm>
            <a:off x="3929040" y="4762800"/>
            <a:ext cx="435780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MQA e-Learning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ว็บไซต์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www.opdc.go.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Elbow Connector 9"/>
          <p:cNvCxnSpPr>
            <a:endCxn id="691" idx="1"/>
          </p:cNvCxnSpPr>
          <p:nvPr/>
        </p:nvCxnSpPr>
        <p:spPr>
          <a:xfrm flipH="1" rot="16200000">
            <a:off x="3522600" y="2977200"/>
            <a:ext cx="5976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95" name="Elbow Connector 9"/>
          <p:cNvCxnSpPr>
            <a:endCxn id="692" idx="1"/>
          </p:cNvCxnSpPr>
          <p:nvPr/>
        </p:nvCxnSpPr>
        <p:spPr>
          <a:xfrm flipH="1" rot="16200000">
            <a:off x="3348720" y="3625560"/>
            <a:ext cx="9450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96" name="Elbow Connector 9"/>
          <p:cNvCxnSpPr/>
          <p:nvPr/>
        </p:nvCxnSpPr>
        <p:spPr>
          <a:xfrm flipH="1" rot="16200000">
            <a:off x="3348720" y="4349520"/>
            <a:ext cx="9453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3307-50C3-4A21-9D0C-D9829ABCDE03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Shape 36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02" name="Pentagon 44"/>
          <p:cNvSpPr/>
          <p:nvPr/>
        </p:nvSpPr>
        <p:spPr>
          <a:xfrm>
            <a:off x="2857680" y="1631880"/>
            <a:ext cx="285480" cy="1368360"/>
          </a:xfrm>
          <a:custGeom>
            <a:avLst/>
            <a:gdLst>
              <a:gd name="textAreaLeft" fmla="*/ 0 w 285480"/>
              <a:gd name="textAreaRight" fmla="*/ 285840 w 2854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1"/>
          <p:cNvSpPr/>
          <p:nvPr/>
        </p:nvSpPr>
        <p:spPr>
          <a:xfrm>
            <a:off x="3214800" y="785880"/>
            <a:ext cx="56433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ขั้นตอนนี้จะดำเนินการประมาณเดือน </a:t>
            </a:r>
            <a:r>
              <a:rPr b="0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กันยายน ถึง ตุลาคม </a:t>
            </a:r>
            <a:r>
              <a:rPr b="0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255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"/>
          <p:cNvSpPr/>
          <p:nvPr/>
        </p:nvSpPr>
        <p:spPr>
          <a:xfrm>
            <a:off x="3714840" y="1333800"/>
            <a:ext cx="435744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รายงานลักษณะสำคัญของ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Elbow Connector 9"/>
          <p:cNvCxnSpPr>
            <a:endCxn id="704" idx="1"/>
          </p:cNvCxnSpPr>
          <p:nvPr/>
        </p:nvCxnSpPr>
        <p:spPr>
          <a:xfrm flipH="1" rot="16200000">
            <a:off x="3494880" y="1267200"/>
            <a:ext cx="2260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06" name="Rectangle 1"/>
          <p:cNvSpPr/>
          <p:nvPr/>
        </p:nvSpPr>
        <p:spPr>
          <a:xfrm>
            <a:off x="3714840" y="176400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รายงานการประเมินองค์กรด้วยตนเอง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-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7" name="Elbow Connector 9"/>
          <p:cNvCxnSpPr>
            <a:endCxn id="706" idx="1"/>
          </p:cNvCxnSpPr>
          <p:nvPr/>
        </p:nvCxnSpPr>
        <p:spPr>
          <a:xfrm flipH="1" rot="16200000">
            <a:off x="3333600" y="1642320"/>
            <a:ext cx="5482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8" name="Elbow Connector 9"/>
          <p:cNvCxnSpPr/>
          <p:nvPr/>
        </p:nvCxnSpPr>
        <p:spPr>
          <a:xfrm flipH="1" rot="16200000">
            <a:off x="3286080" y="2261520"/>
            <a:ext cx="643320" cy="215280"/>
          </a:xfrm>
          <a:prstGeom prst="bentConnector3">
            <a:avLst>
              <a:gd name="adj1" fmla="val 101455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709" name="Rectangle 1"/>
          <p:cNvSpPr/>
          <p:nvPr/>
        </p:nvSpPr>
        <p:spPr>
          <a:xfrm>
            <a:off x="3714840" y="243072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532-03C7-467E-A267-8C6BEFBC539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3214800" y="785880"/>
            <a:ext cx="564336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รายงานลักษณะสำคัญของ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"/>
          <p:cNvSpPr/>
          <p:nvPr/>
        </p:nvSpPr>
        <p:spPr>
          <a:xfrm>
            <a:off x="3692520" y="1216440"/>
            <a:ext cx="4357800" cy="687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ทบทวนลักษณะสำคัญขององค์กร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นำลักษณะสำคัญขององค์กรที่ได้จัดทำตามตัวชี้วัดฯ ในปีงบประมาณ พ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. 2551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มาทบทวนให้สอดคล้องกับสภาพที่เปลี่ยนแปลงไป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4" name="Elbow Connector 9"/>
          <p:cNvCxnSpPr>
            <a:endCxn id="713" idx="1"/>
          </p:cNvCxnSpPr>
          <p:nvPr/>
        </p:nvCxnSpPr>
        <p:spPr>
          <a:xfrm flipH="1" rot="16200000">
            <a:off x="3422520" y="1291320"/>
            <a:ext cx="32472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15" name="Rectangle 1"/>
          <p:cNvSpPr/>
          <p:nvPr/>
        </p:nvSpPr>
        <p:spPr>
          <a:xfrm>
            <a:off x="3692520" y="5652720"/>
            <a:ext cx="4357800" cy="489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5 :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จัดทำลักษณะสำคัญขององค์ก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Elbow Connector 9"/>
          <p:cNvCxnSpPr>
            <a:endCxn id="715" idx="1"/>
          </p:cNvCxnSpPr>
          <p:nvPr/>
        </p:nvCxnSpPr>
        <p:spPr>
          <a:xfrm flipH="1" rot="16200000">
            <a:off x="2743200" y="4948920"/>
            <a:ext cx="16833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17" name="Elbow Connector 9"/>
          <p:cNvCxnSpPr>
            <a:endCxn id="718" idx="1"/>
          </p:cNvCxnSpPr>
          <p:nvPr/>
        </p:nvCxnSpPr>
        <p:spPr>
          <a:xfrm flipH="1" rot="16200000">
            <a:off x="2980080" y="1877760"/>
            <a:ext cx="1194840" cy="2005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18" name="Rectangle 24"/>
          <p:cNvSpPr/>
          <p:nvPr/>
        </p:nvSpPr>
        <p:spPr>
          <a:xfrm>
            <a:off x="3678120" y="2079720"/>
            <a:ext cx="4367160" cy="984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คำถามที่มีเครื่องหมาย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(#)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คำถามบังคับที่ส่วนราชการต้องตอบคำถาม โดยมีข้อมูลสารสนเทศที่เกี่ยวข้องในเรื่องนั้น ๆ  จึงจะถือว่าได้ตอบคำถามในข้อนั้น ๆ แล้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9" name="Elbow Connector 9"/>
          <p:cNvCxnSpPr/>
          <p:nvPr/>
        </p:nvCxnSpPr>
        <p:spPr>
          <a:xfrm flipH="1" rot="16200000">
            <a:off x="3066120" y="2983320"/>
            <a:ext cx="997560" cy="1735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0" name="Rectangle 28"/>
          <p:cNvSpPr/>
          <p:nvPr/>
        </p:nvSpPr>
        <p:spPr>
          <a:xfrm>
            <a:off x="3651120" y="3214800"/>
            <a:ext cx="4380120" cy="687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คำถามที่ ไม่มี เครื่องหมาย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ea typeface="Tahoma"/>
              </a:rPr>
              <a:t>(#) 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คำถามที่ส่วนราชการต้องตอบคำถาม  แต่การตอบคำถามดังกล่าวอาจจะยังไม่มีความสมบูรณ์ก็ได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2"/>
          <p:cNvSpPr/>
          <p:nvPr/>
        </p:nvSpPr>
        <p:spPr>
          <a:xfrm>
            <a:off x="3692520" y="4429080"/>
            <a:ext cx="4379760" cy="8859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ส่วนราชการอธิบาย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บริบทที่สำคัญขององค์การ</a:t>
            </a:r>
            <a:r>
              <a:rPr b="0" lang="th-TH" sz="13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กี่ยวข้องในแต่ละคำถาม โดยใช้วิธีการพรรณาความ ใช้แผนภาพประกอบ หรือใช้ตาราง ตามความเหมาะสมในแต่ละคำถาม โดยมี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จำนวนหน้าไม่เกิน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15 </a:t>
            </a:r>
            <a:r>
              <a:rPr b="1" lang="th-TH" sz="13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หน้ากระดาษ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4</a:t>
            </a:r>
            <a:r>
              <a:rPr b="0" i="1" lang="en-US" sz="1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Elbow Connector 9"/>
          <p:cNvCxnSpPr/>
          <p:nvPr/>
        </p:nvCxnSpPr>
        <p:spPr>
          <a:xfrm flipH="1" rot="16200000">
            <a:off x="2814480" y="4020840"/>
            <a:ext cx="1500840" cy="173520"/>
          </a:xfrm>
          <a:prstGeom prst="bentConnector3">
            <a:avLst>
              <a:gd name="adj1" fmla="val 103814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723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Shape 2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6" name="Pentagon 22"/>
          <p:cNvSpPr/>
          <p:nvPr/>
        </p:nvSpPr>
        <p:spPr>
          <a:xfrm>
            <a:off x="2857680" y="1631880"/>
            <a:ext cx="285480" cy="1368360"/>
          </a:xfrm>
          <a:custGeom>
            <a:avLst/>
            <a:gdLst>
              <a:gd name="textAreaLeft" fmla="*/ 0 w 285480"/>
              <a:gd name="textAreaRight" fmla="*/ 285840 w 2854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D26D-B273-4541-8D7B-2B415456453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1"/>
          <p:cNvSpPr/>
          <p:nvPr/>
        </p:nvSpPr>
        <p:spPr>
          <a:xfrm>
            <a:off x="3143160" y="785880"/>
            <a:ext cx="5891400" cy="550080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5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จัดทำลักษณะสำคัญของ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27" descr=""/>
          <p:cNvPicPr/>
          <p:nvPr/>
        </p:nvPicPr>
        <p:blipFill>
          <a:blip r:embed="rId1"/>
          <a:stretch/>
        </p:blipFill>
        <p:spPr>
          <a:xfrm>
            <a:off x="3357720" y="1285920"/>
            <a:ext cx="5429160" cy="49291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31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Shape 11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34" name="Pentagon 12"/>
          <p:cNvSpPr/>
          <p:nvPr/>
        </p:nvSpPr>
        <p:spPr>
          <a:xfrm>
            <a:off x="2857680" y="1631880"/>
            <a:ext cx="268200" cy="1368360"/>
          </a:xfrm>
          <a:custGeom>
            <a:avLst/>
            <a:gdLst>
              <a:gd name="textAreaLeft" fmla="*/ 0 w 268200"/>
              <a:gd name="textAreaRight" fmla="*/ 268560 w 268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055A-575D-42AB-8626-B682EBED6527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1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รายงานการประเมินองค์กรด้วยตนเอง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-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Elbow Connector 9"/>
          <p:cNvCxnSpPr/>
          <p:nvPr/>
        </p:nvCxnSpPr>
        <p:spPr>
          <a:xfrm flipH="1" rot="16200000">
            <a:off x="3546360" y="1643760"/>
            <a:ext cx="550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39" name="Rectangle 1"/>
          <p:cNvSpPr/>
          <p:nvPr/>
        </p:nvSpPr>
        <p:spPr>
          <a:xfrm>
            <a:off x="3929040" y="1764360"/>
            <a:ext cx="435780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6 :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ประเมินองค์กรด้วยตนเอง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Shape 12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43" name="Pentagon 13"/>
          <p:cNvSpPr/>
          <p:nvPr/>
        </p:nvSpPr>
        <p:spPr>
          <a:xfrm>
            <a:off x="2857680" y="1631880"/>
            <a:ext cx="285480" cy="1368360"/>
          </a:xfrm>
          <a:custGeom>
            <a:avLst/>
            <a:gdLst>
              <a:gd name="textAreaLeft" fmla="*/ 0 w 285480"/>
              <a:gd name="textAreaRight" fmla="*/ 285840 w 2854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AB66-D1E8-47D6-A870-A884766724C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1"/>
          <p:cNvSpPr/>
          <p:nvPr/>
        </p:nvSpPr>
        <p:spPr>
          <a:xfrm>
            <a:off x="3143160" y="928800"/>
            <a:ext cx="571500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6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ประเมินองค์กรด้วยตนเองตาม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hape 1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50" name="Pentagon 11"/>
          <p:cNvSpPr/>
          <p:nvPr/>
        </p:nvSpPr>
        <p:spPr>
          <a:xfrm>
            <a:off x="2857680" y="1631880"/>
            <a:ext cx="285480" cy="1368360"/>
          </a:xfrm>
          <a:custGeom>
            <a:avLst/>
            <a:gdLst>
              <a:gd name="textAreaLeft" fmla="*/ 0 w 285480"/>
              <a:gd name="textAreaRight" fmla="*/ 285840 w 2854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0" descr=""/>
          <p:cNvPicPr/>
          <p:nvPr/>
        </p:nvPicPr>
        <p:blipFill>
          <a:blip r:embed="rId1"/>
          <a:srcRect l="0" t="0" r="0" b="2254"/>
          <a:stretch/>
        </p:blipFill>
        <p:spPr>
          <a:xfrm>
            <a:off x="3286080" y="1500120"/>
            <a:ext cx="5572080" cy="47149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52" name="Group 17"/>
          <p:cNvGrpSpPr/>
          <p:nvPr/>
        </p:nvGrpSpPr>
        <p:grpSpPr>
          <a:xfrm>
            <a:off x="3357720" y="4530600"/>
            <a:ext cx="2000160" cy="1440000"/>
            <a:chOff x="3357720" y="4530600"/>
            <a:chExt cx="2000160" cy="1440000"/>
          </a:xfrm>
        </p:grpSpPr>
        <p:sp>
          <p:nvSpPr>
            <p:cNvPr id="753" name="Rectangle 13"/>
            <p:cNvSpPr/>
            <p:nvPr/>
          </p:nvSpPr>
          <p:spPr>
            <a:xfrm>
              <a:off x="3357720" y="4530600"/>
              <a:ext cx="19288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</a:rPr>
                <a:t>....................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4"/>
            <p:cNvSpPr/>
            <p:nvPr/>
          </p:nvSpPr>
          <p:spPr>
            <a:xfrm>
              <a:off x="3429000" y="4959360"/>
              <a:ext cx="19288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</a:rPr>
                <a:t>....................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5"/>
            <p:cNvSpPr/>
            <p:nvPr/>
          </p:nvSpPr>
          <p:spPr>
            <a:xfrm>
              <a:off x="3429000" y="5357880"/>
              <a:ext cx="19288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</a:rPr>
                <a:t>....................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6"/>
            <p:cNvSpPr/>
            <p:nvPr/>
          </p:nvSpPr>
          <p:spPr>
            <a:xfrm>
              <a:off x="3357720" y="5786640"/>
              <a:ext cx="19288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</a:rPr>
                <a:t>....................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57" name="Elbow Connector 9"/>
          <p:cNvCxnSpPr/>
          <p:nvPr/>
        </p:nvCxnSpPr>
        <p:spPr>
          <a:xfrm flipH="1" rot="16200000">
            <a:off x="3224520" y="3106440"/>
            <a:ext cx="1621800" cy="214920"/>
          </a:xfrm>
          <a:prstGeom prst="bentConnector3">
            <a:avLst>
              <a:gd name="adj1" fmla="val 10051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58" name="Elbow Connector 9"/>
          <p:cNvCxnSpPr/>
          <p:nvPr/>
        </p:nvCxnSpPr>
        <p:spPr>
          <a:xfrm flipH="1" rot="16200000">
            <a:off x="3760560" y="2213640"/>
            <a:ext cx="550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59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0EE9-566D-4CCB-A0F3-EDFA395FB54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1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ทำ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"/>
          <p:cNvSpPr/>
          <p:nvPr/>
        </p:nvSpPr>
        <p:spPr>
          <a:xfrm>
            <a:off x="3857760" y="150192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นวทางเช่นเดียวกับการจัดทำแผนพัฒนาองค์การ 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3" name="Elbow Connector 9"/>
          <p:cNvCxnSpPr/>
          <p:nvPr/>
        </p:nvCxnSpPr>
        <p:spPr>
          <a:xfrm flipH="1" rot="16200000">
            <a:off x="3475800" y="1452960"/>
            <a:ext cx="5500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64" name="Rectangle 1"/>
          <p:cNvSpPr/>
          <p:nvPr/>
        </p:nvSpPr>
        <p:spPr>
          <a:xfrm>
            <a:off x="3857760" y="476424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.1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Elbow Connector 9"/>
          <p:cNvCxnSpPr>
            <a:endCxn id="764" idx="1"/>
          </p:cNvCxnSpPr>
          <p:nvPr/>
        </p:nvCxnSpPr>
        <p:spPr>
          <a:xfrm flipH="1" rot="16200000">
            <a:off x="2131200" y="3297600"/>
            <a:ext cx="32392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66" name="Rectangle 1"/>
          <p:cNvSpPr/>
          <p:nvPr/>
        </p:nvSpPr>
        <p:spPr>
          <a:xfrm>
            <a:off x="3857760" y="5407920"/>
            <a:ext cx="435744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.2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: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ประจำ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Elbow Connector 9"/>
          <p:cNvCxnSpPr/>
          <p:nvPr/>
        </p:nvCxnSpPr>
        <p:spPr>
          <a:xfrm flipH="1" rot="16200000">
            <a:off x="3131280" y="4988160"/>
            <a:ext cx="123912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68" name="Rectangle 32"/>
          <p:cNvSpPr/>
          <p:nvPr/>
        </p:nvSpPr>
        <p:spPr>
          <a:xfrm>
            <a:off x="4000680" y="2259000"/>
            <a:ext cx="4714560" cy="13726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รมด้านนโยบาย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ให้ดำเนินการหมวดบังคับ คือ 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4 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ากส่วนราชการเลือกดำเนินการใน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้ว ให้ดำเนินการใน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ทน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กรมด้านบริการ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ให้ดำเนินการหมวดบังคับ คือ 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6 (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ากส่วนราชการเลือกดำเนินการในปี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้ว ให้ดำเนินการในหมวด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ทน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4000680" y="3786120"/>
            <a:ext cx="4714560" cy="73332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รณีส่วนราชการที่ยังไม่ผ่านเกณฑ์คุณภาพการบริหารจัดการภาครัฐระดับพื้นฐาน ในปี งบประมาณ พ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จะต้องจัดทำแผนฯเพิ่มเติมมาด้ว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Shape 2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73" name="Pentagon 22"/>
          <p:cNvSpPr/>
          <p:nvPr/>
        </p:nvSpPr>
        <p:spPr>
          <a:xfrm>
            <a:off x="2857680" y="1631880"/>
            <a:ext cx="285480" cy="1368360"/>
          </a:xfrm>
          <a:custGeom>
            <a:avLst/>
            <a:gdLst>
              <a:gd name="textAreaLeft" fmla="*/ 0 w 285480"/>
              <a:gd name="textAreaRight" fmla="*/ 285840 w 2854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4592-39C0-425A-919E-162AD2342C6C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1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.1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3286080" y="1428840"/>
            <a:ext cx="5500800" cy="47862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78" name="Text Box 3"/>
          <p:cNvSpPr/>
          <p:nvPr/>
        </p:nvSpPr>
        <p:spPr>
          <a:xfrm>
            <a:off x="4643280" y="1444680"/>
            <a:ext cx="342900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แผนพัฒนาองค์การประจำปีงบประมาณ พ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Cordia New"/>
              </a:rPr>
              <a:t>25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Shape 12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82" name="Pentagon 13"/>
          <p:cNvSpPr/>
          <p:nvPr/>
        </p:nvSpPr>
        <p:spPr>
          <a:xfrm>
            <a:off x="2857680" y="1631880"/>
            <a:ext cx="285480" cy="1368360"/>
          </a:xfrm>
          <a:custGeom>
            <a:avLst/>
            <a:gdLst>
              <a:gd name="textAreaLeft" fmla="*/ 0 w 285480"/>
              <a:gd name="textAreaRight" fmla="*/ 285840 w 2854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443B-A437-4075-A662-34C03DB5F72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"/>
          <p:cNvSpPr/>
          <p:nvPr/>
        </p:nvSpPr>
        <p:spPr>
          <a:xfrm>
            <a:off x="2124000" y="1773360"/>
            <a:ext cx="5256360" cy="865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Organizational Prof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Environment, Relationships, and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32000" y="5157720"/>
            <a:ext cx="662472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Information, Analysis, and Knowledg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16000" y="3357720"/>
            <a:ext cx="1297080" cy="865080"/>
          </a:xfrm>
          <a:prstGeom prst="rect">
            <a:avLst/>
          </a:prstGeom>
          <a:solidFill>
            <a:srgbClr val="a4fa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132000" y="2925720"/>
            <a:ext cx="1152720" cy="793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Strate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132000" y="4221000"/>
            <a:ext cx="1152720" cy="793800"/>
          </a:xfrm>
          <a:prstGeom prst="rect">
            <a:avLst/>
          </a:prstGeom>
          <a:solidFill>
            <a:srgbClr val="d1cc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Customer&amp;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Market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932360" y="2925720"/>
            <a:ext cx="1152360" cy="793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ahoma"/>
                <a:ea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ahoma"/>
                <a:ea typeface="Tahoma"/>
              </a:rPr>
              <a:t>Hu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ahoma"/>
                <a:ea typeface="Tahoma"/>
              </a:rPr>
              <a:t>Resou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ahoma"/>
                <a:ea typeface="Tahoma"/>
              </a:rPr>
              <a:t>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932360" y="4219560"/>
            <a:ext cx="1152360" cy="793800"/>
          </a:xfrm>
          <a:prstGeom prst="rect">
            <a:avLst/>
          </a:prstGeom>
          <a:solidFill>
            <a:srgbClr val="f9a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Process 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804000" y="3284640"/>
            <a:ext cx="1152720" cy="79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4211640" y="3718080"/>
            <a:ext cx="792000" cy="431640"/>
          </a:xfrm>
          <a:prstGeom prst="leftRightArrow">
            <a:avLst>
              <a:gd name="adj1" fmla="val 50000"/>
              <a:gd name="adj2" fmla="val 365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3635280" y="3790800"/>
            <a:ext cx="144720" cy="358920"/>
          </a:xfrm>
          <a:prstGeom prst="upDownArrow">
            <a:avLst>
              <a:gd name="adj1" fmla="val 50000"/>
              <a:gd name="adj2" fmla="val 493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364000" y="3790800"/>
            <a:ext cx="144720" cy="358920"/>
          </a:xfrm>
          <a:prstGeom prst="upDownArrow">
            <a:avLst>
              <a:gd name="adj1" fmla="val 50000"/>
              <a:gd name="adj2" fmla="val 493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 rot="2738400">
            <a:off x="2663280" y="3250080"/>
            <a:ext cx="144360" cy="648000"/>
          </a:xfrm>
          <a:prstGeom prst="upDownArrow">
            <a:avLst>
              <a:gd name="adj1" fmla="val 50000"/>
              <a:gd name="adj2" fmla="val 893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427640" y="4294080"/>
            <a:ext cx="431640" cy="432000"/>
          </a:xfrm>
          <a:prstGeom prst="upDownArrow">
            <a:avLst>
              <a:gd name="adj1" fmla="val 50000"/>
              <a:gd name="adj2" fmla="val 199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 rot="18674400">
            <a:off x="1330920" y="263700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 rot="7495800">
            <a:off x="2672280" y="3878640"/>
            <a:ext cx="144360" cy="647640"/>
          </a:xfrm>
          <a:prstGeom prst="upDownArrow">
            <a:avLst>
              <a:gd name="adj1" fmla="val 50000"/>
              <a:gd name="adj2" fmla="val 893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 rot="13683600">
            <a:off x="7020360" y="2709000"/>
            <a:ext cx="792000" cy="216000"/>
          </a:xfrm>
          <a:prstGeom prst="leftRightArrow">
            <a:avLst>
              <a:gd name="adj1" fmla="val 50000"/>
              <a:gd name="adj2" fmla="val 729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 rot="1521600">
            <a:off x="6156000" y="343044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 rot="18636600">
            <a:off x="6084360" y="400680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533520" y="533520"/>
            <a:ext cx="8153280" cy="965160"/>
          </a:xfrm>
          <a:prstGeom prst="rect">
            <a:avLst/>
          </a:prstGeom>
          <a:solidFill>
            <a:srgbClr val="ff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mic Sans MS"/>
                <a:ea typeface="Tahoma"/>
              </a:rPr>
              <a:t>Baldridge Criteria for Performance Excellent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1617840" y="6213600"/>
            <a:ext cx="58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ource: http://www.quality.nist.gov/Business_Criteri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 rot="7303800">
            <a:off x="7236360" y="450900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14183400">
            <a:off x="1043640" y="4580640"/>
            <a:ext cx="792000" cy="215640"/>
          </a:xfrm>
          <a:prstGeom prst="leftRightArrow">
            <a:avLst>
              <a:gd name="adj1" fmla="val 50000"/>
              <a:gd name="adj2" fmla="val 731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3013-C53F-40A4-8088-25256B88667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21"/>
          <p:cNvSpPr/>
          <p:nvPr/>
        </p:nvSpPr>
        <p:spPr>
          <a:xfrm>
            <a:off x="3214800" y="928800"/>
            <a:ext cx="56433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.2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แสดงตัวชี้วัดความสำเร็จของการดำเนินการตาม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6" descr=""/>
          <p:cNvPicPr/>
          <p:nvPr/>
        </p:nvPicPr>
        <p:blipFill>
          <a:blip r:embed="rId1"/>
          <a:srcRect l="736" t="1079" r="1383" b="1473"/>
          <a:stretch/>
        </p:blipFill>
        <p:spPr>
          <a:xfrm>
            <a:off x="3286080" y="1500120"/>
            <a:ext cx="5500800" cy="4714920"/>
          </a:xfrm>
          <a:prstGeom prst="rect">
            <a:avLst/>
          </a:prstGeom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7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"/>
          <p:cNvSpPr/>
          <p:nvPr/>
        </p:nvSpPr>
        <p:spPr>
          <a:xfrm>
            <a:off x="320760" y="1744200"/>
            <a:ext cx="2463840" cy="11595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ประเมินองค์กรตามเกณฑ์ระดับพื้นฐา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2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การจัดทำแผนพัฒนาองค์การประจำปีงบประมาณ พ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ศ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. 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hape 11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90" name="Pentagon 12"/>
          <p:cNvSpPr/>
          <p:nvPr/>
        </p:nvSpPr>
        <p:spPr>
          <a:xfrm>
            <a:off x="2857680" y="1631880"/>
            <a:ext cx="285480" cy="1368360"/>
          </a:xfrm>
          <a:custGeom>
            <a:avLst/>
            <a:gdLst>
              <a:gd name="textAreaLeft" fmla="*/ 0 w 285480"/>
              <a:gd name="textAreaRight" fmla="*/ 285840 w 2854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1" name="Shape 36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92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F01F-7FF7-458C-8AF3-7C944843B66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entagon 44"/>
          <p:cNvSpPr/>
          <p:nvPr/>
        </p:nvSpPr>
        <p:spPr>
          <a:xfrm>
            <a:off x="2857680" y="1714680"/>
            <a:ext cx="285480" cy="571320"/>
          </a:xfrm>
          <a:custGeom>
            <a:avLst/>
            <a:gdLst>
              <a:gd name="textAreaLeft" fmla="*/ 0 w 285480"/>
              <a:gd name="textAreaRight" fmla="*/ 285840 w 2854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การดำเนินการตามตัวชี้วัดในรายงานรอบ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6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และ รอบ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1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ของแต่ละแผน ประกอบด้วย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ัวข้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"/>
          <p:cNvSpPr/>
          <p:nvPr/>
        </p:nvSpPr>
        <p:spPr>
          <a:xfrm>
            <a:off x="4000680" y="1938600"/>
            <a:ext cx="435744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การดำเนินการเมื่อเทียบกับ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Elbow Connector 9"/>
          <p:cNvCxnSpPr>
            <a:endCxn id="798" idx="1"/>
          </p:cNvCxnSpPr>
          <p:nvPr/>
        </p:nvCxnSpPr>
        <p:spPr>
          <a:xfrm flipH="1" rot="16200000">
            <a:off x="3722760" y="1920240"/>
            <a:ext cx="34200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00" name="Rectangle 1"/>
          <p:cNvSpPr/>
          <p:nvPr/>
        </p:nvSpPr>
        <p:spPr>
          <a:xfrm>
            <a:off x="4000680" y="2723040"/>
            <a:ext cx="435744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ลัพธ์การดำเนินการตามแผนพัฒนาองค์การ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1" name="Elbow Connector 9"/>
          <p:cNvCxnSpPr>
            <a:endCxn id="800" idx="1"/>
          </p:cNvCxnSpPr>
          <p:nvPr/>
        </p:nvCxnSpPr>
        <p:spPr>
          <a:xfrm flipH="1" rot="16200000">
            <a:off x="3471120" y="2346480"/>
            <a:ext cx="845280" cy="215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02" name="Rectangle 1"/>
          <p:cNvSpPr/>
          <p:nvPr/>
        </p:nvSpPr>
        <p:spPr>
          <a:xfrm>
            <a:off x="4010040" y="3407040"/>
            <a:ext cx="4357800" cy="115956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ff0000"/>
                </a:solidFill>
                <a:uFillTx/>
                <a:latin typeface="Tahoma"/>
                <a:cs typeface="Tahoma"/>
              </a:rPr>
              <a:t>หมายเหตุ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รอบ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เป็นการรายงานปกติตามแบบฟอร์มคำรับรองการปฏิบัติราชการ ไม่ต้องใช้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โดยเป็นการรายงานผลการดำเนินงานในภาพรวมของตัวชี้วัดนี้เท่านั้น  ส่วนการรายงานรอบ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2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ส่วนราชการจึงใช้แบบฟอร์มที่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57B8-D8A2-4213-AA05-E70319346669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การดำเนินการเมื่อเทียบกับ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"/>
          <p:cNvSpPr/>
          <p:nvPr/>
        </p:nvSpPr>
        <p:spPr>
          <a:xfrm>
            <a:off x="4214880" y="168840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ดำเนินการเมื่อเทียบกับเกณฑ์คุณภาพการบริหารจัดการภาครัฐระดับพื้น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7" name="Elbow Connector 9"/>
          <p:cNvCxnSpPr>
            <a:endCxn id="806" idx="1"/>
          </p:cNvCxnSpPr>
          <p:nvPr/>
        </p:nvCxnSpPr>
        <p:spPr>
          <a:xfrm flipH="1" rot="16200000">
            <a:off x="3882240" y="1617480"/>
            <a:ext cx="4500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08" name="Rectangle 1"/>
          <p:cNvSpPr/>
          <p:nvPr/>
        </p:nvSpPr>
        <p:spPr>
          <a:xfrm>
            <a:off x="4572000" y="2468880"/>
            <a:ext cx="241128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ภาคบังค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"/>
          <p:cNvSpPr/>
          <p:nvPr/>
        </p:nvSpPr>
        <p:spPr>
          <a:xfrm>
            <a:off x="4572000" y="3034080"/>
            <a:ext cx="241128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ภาคสมัครใ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Elbow Connector 9"/>
          <p:cNvCxnSpPr/>
          <p:nvPr/>
        </p:nvCxnSpPr>
        <p:spPr>
          <a:xfrm flipH="1" rot="16200000">
            <a:off x="4301280" y="2341440"/>
            <a:ext cx="3261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11" name="Elbow Connector 9"/>
          <p:cNvCxnSpPr>
            <a:endCxn id="809" idx="1"/>
          </p:cNvCxnSpPr>
          <p:nvPr/>
        </p:nvCxnSpPr>
        <p:spPr>
          <a:xfrm flipH="1" rot="16200000">
            <a:off x="4155840" y="2772360"/>
            <a:ext cx="6166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12" name="Rectangle 1"/>
          <p:cNvSpPr/>
          <p:nvPr/>
        </p:nvSpPr>
        <p:spPr>
          <a:xfrm>
            <a:off x="4572000" y="3611880"/>
            <a:ext cx="2411280" cy="30708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มวด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ผลลัพธ์การดำเนิ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Elbow Connector 9"/>
          <p:cNvCxnSpPr/>
          <p:nvPr/>
        </p:nvCxnSpPr>
        <p:spPr>
          <a:xfrm flipH="1" rot="16200000">
            <a:off x="4142520" y="3325680"/>
            <a:ext cx="643320" cy="214920"/>
          </a:xfrm>
          <a:prstGeom prst="bentConnector3">
            <a:avLst>
              <a:gd name="adj1" fmla="val 9664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14" name="Shape 2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15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entagon 24"/>
          <p:cNvSpPr/>
          <p:nvPr/>
        </p:nvSpPr>
        <p:spPr>
          <a:xfrm>
            <a:off x="2857680" y="1714680"/>
            <a:ext cx="285480" cy="571320"/>
          </a:xfrm>
          <a:custGeom>
            <a:avLst/>
            <a:gdLst>
              <a:gd name="textAreaLeft" fmla="*/ 0 w 285480"/>
              <a:gd name="textAreaRight" fmla="*/ 285840 w 2854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8C74-56D9-4C22-92F2-A1B44F5BF2A1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4"/>
          <p:cNvSpPr/>
          <p:nvPr/>
        </p:nvSpPr>
        <p:spPr>
          <a:xfrm>
            <a:off x="3214800" y="9288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.1 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ดำเนินการในหมวดบังค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hape 9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23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entagon 12"/>
          <p:cNvSpPr/>
          <p:nvPr/>
        </p:nvSpPr>
        <p:spPr>
          <a:xfrm>
            <a:off x="2857680" y="1714680"/>
            <a:ext cx="285480" cy="571320"/>
          </a:xfrm>
          <a:custGeom>
            <a:avLst/>
            <a:gdLst>
              <a:gd name="textAreaLeft" fmla="*/ 0 w 285480"/>
              <a:gd name="textAreaRight" fmla="*/ 285840 w 2854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10" descr=""/>
          <p:cNvPicPr/>
          <p:nvPr/>
        </p:nvPicPr>
        <p:blipFill>
          <a:blip r:embed="rId1"/>
          <a:srcRect l="0" t="0" r="0" b="12172"/>
          <a:stretch/>
        </p:blipFill>
        <p:spPr>
          <a:xfrm>
            <a:off x="3286080" y="1285920"/>
            <a:ext cx="5643720" cy="48578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27" name="Rectangle 14"/>
          <p:cNvSpPr/>
          <p:nvPr/>
        </p:nvSpPr>
        <p:spPr>
          <a:xfrm>
            <a:off x="3357720" y="4286160"/>
            <a:ext cx="192852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3429000" y="4786200"/>
            <a:ext cx="19288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6"/>
          <p:cNvSpPr/>
          <p:nvPr/>
        </p:nvSpPr>
        <p:spPr>
          <a:xfrm>
            <a:off x="3429000" y="5245200"/>
            <a:ext cx="192888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7"/>
          <p:cNvSpPr/>
          <p:nvPr/>
        </p:nvSpPr>
        <p:spPr>
          <a:xfrm>
            <a:off x="3357720" y="5673600"/>
            <a:ext cx="192852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C5A-376C-45BD-93BB-4A1B2FE08CD6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38"/>
          <p:cNvSpPr/>
          <p:nvPr/>
        </p:nvSpPr>
        <p:spPr>
          <a:xfrm>
            <a:off x="3214800" y="10000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ดำเนินการในหมวดสมัครใ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Shape 9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36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entagon 12"/>
          <p:cNvSpPr/>
          <p:nvPr/>
        </p:nvSpPr>
        <p:spPr>
          <a:xfrm>
            <a:off x="2857680" y="1714680"/>
            <a:ext cx="285480" cy="571320"/>
          </a:xfrm>
          <a:custGeom>
            <a:avLst/>
            <a:gdLst>
              <a:gd name="textAreaLeft" fmla="*/ 0 w 285480"/>
              <a:gd name="textAreaRight" fmla="*/ 285840 w 2854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0" descr=""/>
          <p:cNvPicPr/>
          <p:nvPr/>
        </p:nvPicPr>
        <p:blipFill>
          <a:blip r:embed="rId1"/>
          <a:srcRect l="0" t="0" r="0" b="2254"/>
          <a:stretch/>
        </p:blipFill>
        <p:spPr>
          <a:xfrm>
            <a:off x="3357720" y="1357200"/>
            <a:ext cx="5572080" cy="48578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0" name="Rectangle 14"/>
          <p:cNvSpPr/>
          <p:nvPr/>
        </p:nvSpPr>
        <p:spPr>
          <a:xfrm>
            <a:off x="3429000" y="4071960"/>
            <a:ext cx="192888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5"/>
          <p:cNvSpPr/>
          <p:nvPr/>
        </p:nvSpPr>
        <p:spPr>
          <a:xfrm>
            <a:off x="3429000" y="4500720"/>
            <a:ext cx="192888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6"/>
          <p:cNvSpPr/>
          <p:nvPr/>
        </p:nvSpPr>
        <p:spPr>
          <a:xfrm>
            <a:off x="3429000" y="4929120"/>
            <a:ext cx="19288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7"/>
          <p:cNvSpPr/>
          <p:nvPr/>
        </p:nvSpPr>
        <p:spPr>
          <a:xfrm>
            <a:off x="3429000" y="5357880"/>
            <a:ext cx="192888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8"/>
          <p:cNvSpPr/>
          <p:nvPr/>
        </p:nvSpPr>
        <p:spPr>
          <a:xfrm>
            <a:off x="3429000" y="5786280"/>
            <a:ext cx="19288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65A6-700D-40E7-8855-AA5396AC1EB8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3214800" y="928800"/>
            <a:ext cx="571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3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การดำเนินการหมวด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7           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ผลลัพธ์การดำเนินการ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9" name="Shape 9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50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entagon 12"/>
          <p:cNvSpPr/>
          <p:nvPr/>
        </p:nvSpPr>
        <p:spPr>
          <a:xfrm>
            <a:off x="2857680" y="1714680"/>
            <a:ext cx="285480" cy="571320"/>
          </a:xfrm>
          <a:custGeom>
            <a:avLst/>
            <a:gdLst>
              <a:gd name="textAreaLeft" fmla="*/ 0 w 285480"/>
              <a:gd name="textAreaRight" fmla="*/ 285840 w 2854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10" descr=""/>
          <p:cNvPicPr/>
          <p:nvPr/>
        </p:nvPicPr>
        <p:blipFill>
          <a:blip r:embed="rId1"/>
          <a:srcRect l="0" t="0" r="0" b="4634"/>
          <a:stretch/>
        </p:blipFill>
        <p:spPr>
          <a:xfrm>
            <a:off x="3308400" y="1447920"/>
            <a:ext cx="5549760" cy="47671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54" name="Rectangle 13"/>
          <p:cNvSpPr/>
          <p:nvPr/>
        </p:nvSpPr>
        <p:spPr>
          <a:xfrm>
            <a:off x="3429000" y="4173480"/>
            <a:ext cx="19288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4"/>
          <p:cNvSpPr/>
          <p:nvPr/>
        </p:nvSpPr>
        <p:spPr>
          <a:xfrm>
            <a:off x="3429000" y="4602240"/>
            <a:ext cx="192888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5"/>
          <p:cNvSpPr/>
          <p:nvPr/>
        </p:nvSpPr>
        <p:spPr>
          <a:xfrm>
            <a:off x="3429000" y="5030640"/>
            <a:ext cx="19288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6"/>
          <p:cNvSpPr/>
          <p:nvPr/>
        </p:nvSpPr>
        <p:spPr>
          <a:xfrm>
            <a:off x="3429000" y="5459400"/>
            <a:ext cx="192888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7"/>
          <p:cNvSpPr/>
          <p:nvPr/>
        </p:nvSpPr>
        <p:spPr>
          <a:xfrm>
            <a:off x="3429000" y="5888160"/>
            <a:ext cx="192888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9571-166D-4340-A166-D86BEC7419AE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รายงานผลลัพธ์การดำเนินการตามแผนพัฒนาองค์การ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"/>
          <p:cNvSpPr/>
          <p:nvPr/>
        </p:nvSpPr>
        <p:spPr>
          <a:xfrm>
            <a:off x="3929040" y="3265560"/>
            <a:ext cx="4357800" cy="52020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ที่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ลัพธ์การดำเนินการตาม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3" name="Elbow Connector 9"/>
          <p:cNvCxnSpPr>
            <a:endCxn id="862" idx="1"/>
          </p:cNvCxnSpPr>
          <p:nvPr/>
        </p:nvCxnSpPr>
        <p:spPr>
          <a:xfrm flipH="1" rot="16200000">
            <a:off x="3415320" y="3012840"/>
            <a:ext cx="8118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64" name="Rectangle 22"/>
          <p:cNvSpPr/>
          <p:nvPr/>
        </p:nvSpPr>
        <p:spPr>
          <a:xfrm>
            <a:off x="3929040" y="1584360"/>
            <a:ext cx="240048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ผลการดำเนินงาน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4"/>
          <p:cNvSpPr/>
          <p:nvPr/>
        </p:nvSpPr>
        <p:spPr>
          <a:xfrm>
            <a:off x="3929040" y="2127240"/>
            <a:ext cx="240048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่าคะแนนของ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7"/>
          <p:cNvSpPr/>
          <p:nvPr/>
        </p:nvSpPr>
        <p:spPr>
          <a:xfrm>
            <a:off x="3929040" y="2630520"/>
            <a:ext cx="2400480" cy="4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ค่าคะแนนของแต่ละแผน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 flipH="1" rot="16200000">
            <a:off x="3650400" y="1495440"/>
            <a:ext cx="34200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68" name="Elbow Connector 9"/>
          <p:cNvCxnSpPr>
            <a:endCxn id="865" idx="1"/>
          </p:cNvCxnSpPr>
          <p:nvPr/>
        </p:nvCxnSpPr>
        <p:spPr>
          <a:xfrm flipH="1" rot="16200000">
            <a:off x="3559320" y="1943280"/>
            <a:ext cx="52416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69" name="Elbow Connector 9"/>
          <p:cNvCxnSpPr/>
          <p:nvPr/>
        </p:nvCxnSpPr>
        <p:spPr>
          <a:xfrm flipH="1" rot="16200000">
            <a:off x="3559680" y="2476080"/>
            <a:ext cx="5230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70" name="Shape 16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71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entagon 19"/>
          <p:cNvSpPr/>
          <p:nvPr/>
        </p:nvSpPr>
        <p:spPr>
          <a:xfrm>
            <a:off x="2857680" y="1714680"/>
            <a:ext cx="285480" cy="571320"/>
          </a:xfrm>
          <a:custGeom>
            <a:avLst/>
            <a:gdLst>
              <a:gd name="textAreaLeft" fmla="*/ 0 w 285480"/>
              <a:gd name="textAreaRight" fmla="*/ 285840 w 2854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A0F0-F19D-48AF-8EA0-D8060CE1292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1"/>
          <p:cNvSpPr/>
          <p:nvPr/>
        </p:nvSpPr>
        <p:spPr>
          <a:xfrm>
            <a:off x="3214800" y="928800"/>
            <a:ext cx="576396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"/>
          <p:cNvSpPr/>
          <p:nvPr/>
        </p:nvSpPr>
        <p:spPr>
          <a:xfrm>
            <a:off x="3643200" y="930600"/>
            <a:ext cx="52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cs typeface="Tahoma"/>
              </a:rPr>
              <a:t>แบบฟอร์มที่ </a:t>
            </a:r>
            <a:r>
              <a:rPr b="1" lang="th-TH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4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แบบฟอร์มรายงานผลลัพธ์การดำเนินการตามแผนพัฒนาองค์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" descr=""/>
          <p:cNvPicPr/>
          <p:nvPr/>
        </p:nvPicPr>
        <p:blipFill>
          <a:blip r:embed="rId1"/>
          <a:srcRect l="1350" t="1676" r="1350" b="2540"/>
          <a:stretch/>
        </p:blipFill>
        <p:spPr>
          <a:xfrm>
            <a:off x="3357720" y="1500120"/>
            <a:ext cx="5500440" cy="46436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879" name="Shape 10"/>
          <p:cNvCxnSpPr/>
          <p:nvPr/>
        </p:nvCxnSpPr>
        <p:spPr>
          <a:xfrm flipH="1" rot="16200000">
            <a:off x="39960" y="1672920"/>
            <a:ext cx="467640" cy="12132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80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"/>
          <p:cNvSpPr/>
          <p:nvPr/>
        </p:nvSpPr>
        <p:spPr>
          <a:xfrm>
            <a:off x="320760" y="17164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รายงานผลการดำเนินการตามตัวชี้ว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entagon 13"/>
          <p:cNvSpPr/>
          <p:nvPr/>
        </p:nvSpPr>
        <p:spPr>
          <a:xfrm>
            <a:off x="2857680" y="1714680"/>
            <a:ext cx="285480" cy="571320"/>
          </a:xfrm>
          <a:custGeom>
            <a:avLst/>
            <a:gdLst>
              <a:gd name="textAreaLeft" fmla="*/ 0 w 285480"/>
              <a:gd name="textAreaRight" fmla="*/ 285840 w 2854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83" name="Shape 43"/>
          <p:cNvCxnSpPr/>
          <p:nvPr/>
        </p:nvCxnSpPr>
        <p:spPr>
          <a:xfrm flipH="1" rot="16200000">
            <a:off x="-202320" y="1487880"/>
            <a:ext cx="940320" cy="1072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84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7DCF-F0BA-4FC2-B139-7E0AAF82255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"/>
          <p:cNvSpPr/>
          <p:nvPr/>
        </p:nvSpPr>
        <p:spPr>
          <a:xfrm>
            <a:off x="139680" y="1001880"/>
            <a:ext cx="2646360" cy="5806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Tahoma"/>
              </a:rPr>
              <a:t>วิธีการและขั้นตอนการดำเนินการตามตัวชี้วั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"/>
          <p:cNvSpPr/>
          <p:nvPr/>
        </p:nvSpPr>
        <p:spPr>
          <a:xfrm>
            <a:off x="320760" y="1754280"/>
            <a:ext cx="2465280" cy="520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6.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ประเมินจากผู้ตรวจประเมินภายนอ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entagon 44"/>
          <p:cNvSpPr/>
          <p:nvPr/>
        </p:nvSpPr>
        <p:spPr>
          <a:xfrm>
            <a:off x="2857680" y="1746360"/>
            <a:ext cx="285480" cy="539640"/>
          </a:xfrm>
          <a:custGeom>
            <a:avLst/>
            <a:gdLst>
              <a:gd name="textAreaLeft" fmla="*/ 0 w 285480"/>
              <a:gd name="textAreaRight" fmla="*/ 285840 w 2854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21"/>
          <p:cNvSpPr/>
          <p:nvPr/>
        </p:nvSpPr>
        <p:spPr>
          <a:xfrm>
            <a:off x="3286080" y="928800"/>
            <a:ext cx="5692680" cy="535788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8"/>
          <p:cNvSpPr/>
          <p:nvPr/>
        </p:nvSpPr>
        <p:spPr>
          <a:xfrm>
            <a:off x="3643200" y="1714680"/>
            <a:ext cx="5000760" cy="1313640"/>
          </a:xfrm>
          <a:prstGeom prst="rect">
            <a:avLst/>
          </a:prstGeom>
          <a:solidFill>
            <a:srgbClr val="47ffd1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ประเมินตามคำรับรองการปฏิบัติราชการ รอบ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12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จะเป็นการตรวจสอบการประเมินความสำเร็จที่ส่วนราชการได้ประเมินตนเองมาว่าตรงตามคะแนนที่ประเมินหรือไม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E2E1-5A5F-4C6E-AF17-EA4E0D934CB7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214200" y="714240"/>
          <a:ext cx="8804520" cy="4915080"/>
        </p:xfrm>
        <a:graphic>
          <a:graphicData uri="http://schemas.openxmlformats.org/drawingml/2006/table">
            <a:tbl>
              <a:tblPr/>
              <a:tblGrid>
                <a:gridCol w="2619360"/>
                <a:gridCol w="522360"/>
                <a:gridCol w="523800"/>
                <a:gridCol w="524160"/>
                <a:gridCol w="420480"/>
                <a:gridCol w="420840"/>
                <a:gridCol w="446040"/>
                <a:gridCol w="447480"/>
                <a:gridCol w="420840"/>
                <a:gridCol w="406440"/>
                <a:gridCol w="419040"/>
                <a:gridCol w="419040"/>
                <a:gridCol w="419040"/>
                <a:gridCol w="419400"/>
                <a:gridCol w="376200"/>
              </a:tblGrid>
              <a:tr h="251280">
                <a:tc rowSpan="3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งา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14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งบประมาณ 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ธ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ม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1122480"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ัดคลีนิกให้คำปรึกษาโดยสำนักงาน ก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200"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ahoma"/>
                        <a:buAutoNum type="arabicPeriod" startAt="2"/>
                        <a:tabLst>
                          <a:tab algn="l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วิเคราะห์และจัดทำแผนพัฒนาองค์การ ประจำปีงบประมาณ พ</a:t>
                      </a:r>
                      <a:r>
                        <a:rPr b="0" lang="ar-S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0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บุประเภทของส่วนราชการว่ามีภารกิจหลักที่ควรกำหนดให้เป็นกรมด้านนโยบาย หรือ กรมด้านบริการ  ตามขอบเขตและลักษณะของหน่วยงา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496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่วนราชการนำโอกาสในการปรับปรุงจากผลการประเมินองค์กรด้วยตนเองและแผนปรับปรุงองค์กรของปีงบประมาณ พ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251 </a:t>
                      </a:r>
                      <a:r>
                        <a:rPr b="0" lang="th-TH" sz="11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าทบทวนโดยเทียบกับเกณฑ์คุณภาพการบริหารจัดการภาครัฐระดับพื้นฐา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3" name="Isosceles Triangle 45"/>
          <p:cNvSpPr/>
          <p:nvPr/>
        </p:nvSpPr>
        <p:spPr>
          <a:xfrm>
            <a:off x="4071960" y="164304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47"/>
          <p:cNvSpPr/>
          <p:nvPr/>
        </p:nvSpPr>
        <p:spPr>
          <a:xfrm>
            <a:off x="3894120" y="1852560"/>
            <a:ext cx="249120" cy="648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8"/>
          <p:cNvSpPr/>
          <p:nvPr/>
        </p:nvSpPr>
        <p:spPr>
          <a:xfrm>
            <a:off x="4214880" y="15717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รั้งที่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1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จัดทำแผนพัฒนาองค์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1"/>
          <p:cNvSpPr/>
          <p:nvPr/>
        </p:nvSpPr>
        <p:spPr>
          <a:xfrm>
            <a:off x="6035760" y="1776240"/>
            <a:ext cx="27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รั้งที่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เทคนิคการปรับปรุงองค์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52"/>
          <p:cNvSpPr/>
          <p:nvPr/>
        </p:nvSpPr>
        <p:spPr>
          <a:xfrm flipV="1">
            <a:off x="5429160" y="2064960"/>
            <a:ext cx="466920" cy="468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Isosceles Triangle 54"/>
          <p:cNvSpPr/>
          <p:nvPr/>
        </p:nvSpPr>
        <p:spPr>
          <a:xfrm>
            <a:off x="5821200" y="184788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5"/>
          <p:cNvSpPr/>
          <p:nvPr/>
        </p:nvSpPr>
        <p:spPr>
          <a:xfrm>
            <a:off x="7786800" y="2027160"/>
            <a:ext cx="13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รั้งที่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ิดตามผลการ ปรับปรุงและแนะน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ประเมิ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56"/>
          <p:cNvSpPr/>
          <p:nvPr/>
        </p:nvSpPr>
        <p:spPr>
          <a:xfrm>
            <a:off x="7394400" y="2357280"/>
            <a:ext cx="39240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57"/>
          <p:cNvSpPr/>
          <p:nvPr/>
        </p:nvSpPr>
        <p:spPr>
          <a:xfrm>
            <a:off x="7643880" y="21430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8"/>
          <p:cNvSpPr/>
          <p:nvPr/>
        </p:nvSpPr>
        <p:spPr>
          <a:xfrm>
            <a:off x="3887640" y="3070080"/>
            <a:ext cx="527040" cy="504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1"/>
          <p:cNvSpPr/>
          <p:nvPr/>
        </p:nvSpPr>
        <p:spPr>
          <a:xfrm>
            <a:off x="3643200" y="5000760"/>
            <a:ext cx="214560" cy="144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63"/>
          <p:cNvSpPr/>
          <p:nvPr/>
        </p:nvSpPr>
        <p:spPr>
          <a:xfrm>
            <a:off x="132120" y="0"/>
            <a:ext cx="2747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ฏิทิ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15"/>
          <p:cNvSpPr/>
          <p:nvPr/>
        </p:nvSpPr>
        <p:spPr>
          <a:xfrm>
            <a:off x="3643200" y="3713040"/>
            <a:ext cx="21456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2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BDEF-09F3-40C0-939B-5898464F9F9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2303640" y="1685880"/>
            <a:ext cx="532764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MQA  Framework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470560" y="2670120"/>
            <a:ext cx="3529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riteria /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Assessment T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143000" y="2779560"/>
            <a:ext cx="3576600" cy="45972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d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Management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cept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5500800"/>
            <a:ext cx="3576600" cy="82548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d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mprove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(Tools &amp; Stand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2847960" y="3357720"/>
            <a:ext cx="46080" cy="576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472000" y="4195800"/>
            <a:ext cx="3529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essmen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199280" y="2060640"/>
            <a:ext cx="0" cy="576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2847960" y="2060640"/>
            <a:ext cx="0" cy="576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7199280" y="3645000"/>
            <a:ext cx="0" cy="50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384720" y="677880"/>
            <a:ext cx="32493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QM 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968720" y="1123920"/>
            <a:ext cx="0" cy="576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679640" y="4437000"/>
            <a:ext cx="576360" cy="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43000" y="4005360"/>
            <a:ext cx="3576600" cy="825480"/>
          </a:xfrm>
          <a:prstGeom prst="rect">
            <a:avLst/>
          </a:prstGeom>
          <a:solidFill>
            <a:srgbClr val="006666"/>
          </a:solidFill>
          <a:ln w="0">
            <a:noFill/>
          </a:ln>
          <a:effectLst>
            <a:outerShdw dist="17819" dir="2700000" blurRad="0" rotWithShape="0">
              <a:srgbClr val="003d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(SWOT/Map/C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 flipH="1">
            <a:off x="2847960" y="4941720"/>
            <a:ext cx="46080" cy="576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0" y="0"/>
            <a:ext cx="4429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จัดการเชิงกลยุทธ์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M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D37-F38D-4CC5-A723-5370493E7C15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285840" y="785880"/>
          <a:ext cx="8643960" cy="5160960"/>
        </p:xfrm>
        <a:graphic>
          <a:graphicData uri="http://schemas.openxmlformats.org/drawingml/2006/table">
            <a:tbl>
              <a:tblPr/>
              <a:tblGrid>
                <a:gridCol w="2603520"/>
                <a:gridCol w="520560"/>
                <a:gridCol w="417600"/>
                <a:gridCol w="520560"/>
                <a:gridCol w="416160"/>
                <a:gridCol w="419040"/>
                <a:gridCol w="414360"/>
                <a:gridCol w="444240"/>
                <a:gridCol w="419400"/>
                <a:gridCol w="396720"/>
                <a:gridCol w="404640"/>
                <a:gridCol w="417600"/>
                <a:gridCol w="416160"/>
                <a:gridCol w="417240"/>
                <a:gridCol w="416160"/>
              </a:tblGrid>
              <a:tr h="273960">
                <a:tc rowSpan="3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นวทางการดำเนินง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gridSpan="14"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ีงบประมาณ 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ธ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ี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ม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มิ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ส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ค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พ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ย</a:t>
                      </a:r>
                      <a:r>
                        <a:rPr b="1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8211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ัดทำแผนพัฒนาองค์การประจำปีงบประมาณ พ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จำนว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ผ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จัดทำตัวชี้วัดความสำเร็จของกระบวนการและผลลัพธ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ดำเนินการปรับปรุงองค์กรตามแผนพัฒนาองค์การของปีงบประมาณ  พ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เมินองค์กรตามเกณฑ์ระดับพื้นฐา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ประจำปีงบประมาณ พ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รายงานผลการดำเนินการตามตัวชี้วัดรอบ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ือน แล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เดือ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.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การตรวจประเมินจากผู้ตรวจประเมินภายนอ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8" name="Text Box 4"/>
          <p:cNvSpPr/>
          <p:nvPr/>
        </p:nvSpPr>
        <p:spPr>
          <a:xfrm>
            <a:off x="297000" y="311040"/>
            <a:ext cx="919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7"/>
          <p:cNvSpPr/>
          <p:nvPr/>
        </p:nvSpPr>
        <p:spPr>
          <a:xfrm>
            <a:off x="4857840" y="17305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่ง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ม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8"/>
          <p:cNvSpPr/>
          <p:nvPr/>
        </p:nvSpPr>
        <p:spPr>
          <a:xfrm>
            <a:off x="3857760" y="2062080"/>
            <a:ext cx="88236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19"/>
          <p:cNvSpPr/>
          <p:nvPr/>
        </p:nvSpPr>
        <p:spPr>
          <a:xfrm>
            <a:off x="4643280" y="184788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1"/>
          <p:cNvSpPr/>
          <p:nvPr/>
        </p:nvSpPr>
        <p:spPr>
          <a:xfrm>
            <a:off x="4857840" y="25401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่ง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ม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2"/>
          <p:cNvSpPr/>
          <p:nvPr/>
        </p:nvSpPr>
        <p:spPr>
          <a:xfrm>
            <a:off x="3857760" y="2871720"/>
            <a:ext cx="88236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23"/>
          <p:cNvSpPr/>
          <p:nvPr/>
        </p:nvSpPr>
        <p:spPr>
          <a:xfrm>
            <a:off x="4643280" y="265752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4"/>
          <p:cNvSpPr/>
          <p:nvPr/>
        </p:nvSpPr>
        <p:spPr>
          <a:xfrm>
            <a:off x="4761000" y="3570120"/>
            <a:ext cx="3311280" cy="180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26"/>
          <p:cNvSpPr/>
          <p:nvPr/>
        </p:nvSpPr>
        <p:spPr>
          <a:xfrm flipV="1">
            <a:off x="7913520" y="4284720"/>
            <a:ext cx="373320" cy="144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28"/>
          <p:cNvSpPr/>
          <p:nvPr/>
        </p:nvSpPr>
        <p:spPr>
          <a:xfrm>
            <a:off x="5429160" y="5072040"/>
            <a:ext cx="373320" cy="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29"/>
          <p:cNvSpPr/>
          <p:nvPr/>
        </p:nvSpPr>
        <p:spPr>
          <a:xfrm>
            <a:off x="8497800" y="5572080"/>
            <a:ext cx="425520" cy="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33"/>
          <p:cNvSpPr/>
          <p:nvPr/>
        </p:nvSpPr>
        <p:spPr>
          <a:xfrm>
            <a:off x="132120" y="0"/>
            <a:ext cx="2747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ฏิทิ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15"/>
          <p:cNvSpPr/>
          <p:nvPr/>
        </p:nvSpPr>
        <p:spPr>
          <a:xfrm>
            <a:off x="8143920" y="5072040"/>
            <a:ext cx="372960" cy="0"/>
          </a:xfrm>
          <a:prstGeom prst="line">
            <a:avLst/>
          </a:prstGeom>
          <a:ln w="127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7"/>
          <p:cNvSpPr/>
          <p:nvPr/>
        </p:nvSpPr>
        <p:spPr>
          <a:xfrm>
            <a:off x="8143920" y="489600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ส่ง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ต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ค</a:t>
            </a:r>
            <a:r>
              <a:rPr b="1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Isosceles Triangle 17"/>
          <p:cNvSpPr/>
          <p:nvPr/>
        </p:nvSpPr>
        <p:spPr>
          <a:xfrm>
            <a:off x="8429760" y="478620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CA33-23D5-45FC-BEDC-C14E78F4F3B0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"/>
          <p:cNvSpPr/>
          <p:nvPr/>
        </p:nvSpPr>
        <p:spPr>
          <a:xfrm>
            <a:off x="0" y="1800"/>
            <a:ext cx="6006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ัวชี้วัดระดับความสำเร็จของการพัฒนาคุณภาพการบริหารจัดการภาครัฐ  ประจำปีงบประมาณ 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ศ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 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"/>
          <p:cNvSpPr/>
          <p:nvPr/>
        </p:nvSpPr>
        <p:spPr>
          <a:xfrm>
            <a:off x="1177920" y="1121400"/>
            <a:ext cx="5180040" cy="3988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กณฑ์การประเมินผลตัวชี้วั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6" name="Elbow Connector 9"/>
          <p:cNvCxnSpPr/>
          <p:nvPr/>
        </p:nvCxnSpPr>
        <p:spPr>
          <a:xfrm flipH="1" rot="16200000">
            <a:off x="1035000" y="2035800"/>
            <a:ext cx="1357920" cy="429480"/>
          </a:xfrm>
          <a:prstGeom prst="bentConnector3">
            <a:avLst>
              <a:gd name="adj1" fmla="val 98647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27" name="Elbow Connector 9"/>
          <p:cNvCxnSpPr/>
          <p:nvPr/>
        </p:nvCxnSpPr>
        <p:spPr>
          <a:xfrm flipH="1" rot="16200000">
            <a:off x="1392120" y="3035880"/>
            <a:ext cx="643320" cy="429480"/>
          </a:xfrm>
          <a:prstGeom prst="bentConnector3">
            <a:avLst>
              <a:gd name="adj1" fmla="val 9742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28" name="Elbow Connector 9"/>
          <p:cNvCxnSpPr/>
          <p:nvPr/>
        </p:nvCxnSpPr>
        <p:spPr>
          <a:xfrm flipH="1" rot="16200000">
            <a:off x="1070640" y="3928680"/>
            <a:ext cx="1286640" cy="429480"/>
          </a:xfrm>
          <a:prstGeom prst="bentConnector3">
            <a:avLst>
              <a:gd name="adj1" fmla="val 98376"/>
            </a:avLst>
          </a:prstGeom>
          <a:ln w="38160">
            <a:solidFill>
              <a:srgbClr val="000000"/>
            </a:solidFill>
            <a:miter/>
          </a:ln>
        </p:spPr>
      </p:cxnSp>
      <p:graphicFrame>
        <p:nvGraphicFramePr>
          <p:cNvPr id="929" name=""/>
          <p:cNvGraphicFramePr/>
          <p:nvPr/>
        </p:nvGraphicFramePr>
        <p:xfrm>
          <a:off x="1928880" y="1946160"/>
          <a:ext cx="6215040" cy="3657600"/>
        </p:xfrm>
        <a:graphic>
          <a:graphicData uri="http://schemas.openxmlformats.org/drawingml/2006/table">
            <a:tbl>
              <a:tblPr/>
              <a:tblGrid>
                <a:gridCol w="657000"/>
                <a:gridCol w="4551480"/>
                <a:gridCol w="1006560"/>
              </a:tblGrid>
              <a:tr h="1095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ตัวชี้วั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น้ำหนัก            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้อยละ</a:t>
                      </a: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การดำเนินการตามแผนการพัฒนาองค์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ของร้อยละเฉลี่ยถ่วงน้ำหนักในการบรรลุเป้าหมายความสำเร็จของผลลัพธ์ในการดำเนินการของส่วนราชการ ตามเกณฑ์คุณภาพการบริหารจัดการภาครัฐระดับพื้นฐาน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หมวด 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ะดับความสำเร็จเฉลี่ยถ่วงน้ำหนักของการจัดทำแผนพัฒนาองค์การ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รว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79C9-A23C-4FB8-AF7E-50C70F9B6CA3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0" y="1800"/>
            <a:ext cx="6357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รายงานผลตัวชี้วัด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14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ความสำเร็จของการพัฒนาคุณภาพการบริหารจัดการภาครัฐ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"/>
          <p:cNvSpPr/>
          <p:nvPr/>
        </p:nvSpPr>
        <p:spPr>
          <a:xfrm>
            <a:off x="357120" y="1072440"/>
            <a:ext cx="2214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ส่งมอบงา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3" name="Elbow Connector 9"/>
          <p:cNvCxnSpPr>
            <a:endCxn id="934" idx="1"/>
          </p:cNvCxnSpPr>
          <p:nvPr/>
        </p:nvCxnSpPr>
        <p:spPr>
          <a:xfrm flipH="1" rot="16200000">
            <a:off x="739440" y="1902960"/>
            <a:ext cx="1235880" cy="2865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935" name="Rectangle 1"/>
          <p:cNvSpPr/>
          <p:nvPr/>
        </p:nvSpPr>
        <p:spPr>
          <a:xfrm>
            <a:off x="2214720" y="5346000"/>
            <a:ext cx="5786280" cy="36828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-8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ภายในวัน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30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ตุลาคม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6" name="Elbow Connector 9"/>
          <p:cNvCxnSpPr>
            <a:endCxn id="937" idx="1"/>
          </p:cNvCxnSpPr>
          <p:nvPr/>
        </p:nvCxnSpPr>
        <p:spPr>
          <a:xfrm flipH="1" rot="16200000">
            <a:off x="1716840" y="3555720"/>
            <a:ext cx="637200" cy="358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38" name="Elbow Connector 9"/>
          <p:cNvCxnSpPr>
            <a:endCxn id="935" idx="1"/>
          </p:cNvCxnSpPr>
          <p:nvPr/>
        </p:nvCxnSpPr>
        <p:spPr>
          <a:xfrm flipH="1" rot="16200000">
            <a:off x="1191960" y="4508640"/>
            <a:ext cx="1686600" cy="358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39" name="Elbow Connector 9"/>
          <p:cNvCxnSpPr/>
          <p:nvPr/>
        </p:nvCxnSpPr>
        <p:spPr>
          <a:xfrm flipH="1" rot="16200000">
            <a:off x="2216520" y="4360320"/>
            <a:ext cx="637560" cy="358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940" name="Rectangle 1"/>
          <p:cNvSpPr/>
          <p:nvPr/>
        </p:nvSpPr>
        <p:spPr>
          <a:xfrm>
            <a:off x="2500200" y="4550040"/>
            <a:ext cx="5500800" cy="520200"/>
          </a:xfrm>
          <a:prstGeom prst="rect">
            <a:avLst/>
          </a:prstGeom>
          <a:solidFill>
            <a:srgbClr val="99ff99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หากจัดส่งไม่ทันในระยะเวลาที่กำหนดจะปรับลดคะแนนจากผลคะแนนรวมของตัวชี้วัดนี้</a:t>
            </a: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1400" spc="-1" strike="noStrike">
                <a:solidFill>
                  <a:srgbClr val="ff0000"/>
                </a:solidFill>
                <a:latin typeface="Tahoma"/>
                <a:ea typeface="Tahoma"/>
              </a:rPr>
              <a:t>0.5000 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คะแน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2214720" y="3868560"/>
            <a:ext cx="5786280" cy="36828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ที่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1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ละ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 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ภายในวัน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30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มกราคม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5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"/>
          <p:cNvSpPr/>
          <p:nvPr/>
        </p:nvSpPr>
        <p:spPr>
          <a:xfrm>
            <a:off x="1500120" y="1793160"/>
            <a:ext cx="6500880" cy="1739880"/>
          </a:xfrm>
          <a:prstGeom prst="rect">
            <a:avLst/>
          </a:prstGeom>
          <a:solidFill>
            <a:srgbClr val="00664d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ส่วนราชการจัดส่งรายงานการดำเนินการพัฒนาคุณภาพการบริหารจัดการภาครัฐ จำนวน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4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ชุดข้อมูลบรรจุในแผ่นซีดีรอม จำนวน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ผ่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จำนวนที่กำหนดนี้ ได้รวมถึงการส่งเอกสารหลักฐานแนบตามคำรับรองการปฏิบัติราชการรอบ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12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เดือนด้วยแล้ว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ไปยังสำนักบริหารการเปลี่ยนแปลงและนวัตกรรม สำนักงาน ก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พ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1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2FAE-3D41-461F-9410-1ED45E972F9F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785880" y="845280"/>
            <a:ext cx="4143240" cy="368280"/>
          </a:xfrm>
          <a:prstGeom prst="rect">
            <a:avLst/>
          </a:prstGeom>
          <a:solidFill>
            <a:srgbClr val="663300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  <a:cs typeface="Tahoma"/>
              </a:rPr>
              <a:t>แบบฟอร์มรายงานผลการดำเนินกา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3" name="Elbow Connector 9"/>
          <p:cNvCxnSpPr/>
          <p:nvPr/>
        </p:nvCxnSpPr>
        <p:spPr>
          <a:xfrm flipH="1" rot="16200000">
            <a:off x="595800" y="1688760"/>
            <a:ext cx="1235880" cy="286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944" name="Rectangle 1"/>
          <p:cNvSpPr/>
          <p:nvPr/>
        </p:nvSpPr>
        <p:spPr>
          <a:xfrm>
            <a:off x="0" y="1800"/>
            <a:ext cx="6357960" cy="6426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7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รายงานผลตัวชี้วัดที่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14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ระดับความสำเร็จของการพัฒนาคุณภาพการบริหารจัดการภาครัฐ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1428840" y="1498680"/>
          <a:ext cx="6937200" cy="4505400"/>
        </p:xfrm>
        <a:graphic>
          <a:graphicData uri="http://schemas.openxmlformats.org/drawingml/2006/table">
            <a:tbl>
              <a:tblPr/>
              <a:tblGrid>
                <a:gridCol w="1500120"/>
                <a:gridCol w="5437080"/>
              </a:tblGrid>
              <a:tr h="5410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แผนพัฒนาองค์การประจำปีงบประมาณ พ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แสดงตัวชี้วัดความสำเร็จของการดำเนินการตามแผนพัฒนาองค์การ  ประจำปีงบประมาณ พ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 2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การดำเนินการเมื่อเทียบกับ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ลัพธ์การดำเนินการตามแผนพัฒนาองค์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การจัดทำลักษณะสำคัญขององค์ก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การประเมินองค์กรด้วยตนเองตามเกณฑ์คุณภาพการบริหารจัดการภาครัฐระดับพื้นฐา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แผนพัฒนาองค์การประจำปีงบประมาณ พ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ศ</a:t>
                      </a: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2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0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ที่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แบบฟอร์มรายงานผลระดับคะแนนระดับความสำเร็จของการพัฒนาคุณภาพการบริหารจัดการภาครั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9640" y="1052640"/>
            <a:ext cx="7993080" cy="48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630520" y="4613400"/>
            <a:ext cx="4027320" cy="14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V="1">
            <a:off x="3228840" y="2544480"/>
            <a:ext cx="1471680" cy="1925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4670280" y="2544840"/>
            <a:ext cx="1438560" cy="1925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164040" y="1811160"/>
            <a:ext cx="3112920" cy="82548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Management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029200" y="3894120"/>
            <a:ext cx="2951280" cy="119124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Systems &amp; 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355760" y="3906720"/>
            <a:ext cx="2889360" cy="119124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Management &amp; Improve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608120" y="1244520"/>
            <a:ext cx="1955880" cy="43200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17819" dir="2700000" blurRad="0" rotWithShape="0">
              <a:srgbClr val="00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TQA</a:t>
            </a:r>
            <a:r>
              <a:rPr b="1" i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1" i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PMQA</a:t>
            </a:r>
            <a:r>
              <a:rPr b="1" i="1" lang="th-TH" sz="16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3419640" y="1460520"/>
            <a:ext cx="25200" cy="635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08000" y="2900520"/>
            <a:ext cx="3456000" cy="64764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17819" dir="2700000" blurRad="0" rotWithShape="0">
              <a:srgbClr val="00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PMQA , PART (Assessment tool) BSC, SWOT, BM,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419640" y="3462480"/>
            <a:ext cx="0" cy="576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748480" y="3244680"/>
            <a:ext cx="3216240" cy="3812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ISO ,  HACCP , HA …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892840" y="3460680"/>
            <a:ext cx="0" cy="576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0" y="0"/>
            <a:ext cx="3564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9f9"/>
                </a:solidFill>
                <a:latin typeface="Tahoma"/>
                <a:ea typeface="Tahoma"/>
              </a:rPr>
              <a:t>Fusion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SCIEN024"/>
          <p:cNvPicPr/>
          <p:nvPr/>
        </p:nvPicPr>
        <p:blipFill>
          <a:blip r:embed="rId1"/>
          <a:stretch/>
        </p:blipFill>
        <p:spPr>
          <a:xfrm>
            <a:off x="4308480" y="3102120"/>
            <a:ext cx="700200" cy="73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76F8-72F3-4E07-9ABA-D3C64864D51A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0F33-833B-4C31-9BF9-CF7BECBB1EBB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3851280" cy="4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ลักคิด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11 Core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28600" y="1254240"/>
            <a:ext cx="26989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นำองค์กา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ย่างมีวิสัยทัศน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8600" y="4307040"/>
            <a:ext cx="2671920" cy="8334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ป็นเลิ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ที่มุ่งเน้นที่ลูกค้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048120" y="1258920"/>
            <a:ext cx="2744640" cy="7570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มุ่งเน้นอนาค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943600" y="2146320"/>
            <a:ext cx="2895480" cy="8348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โดยใช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จริ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2160" y="4307040"/>
            <a:ext cx="2896920" cy="8334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มุมมองเชิงระบ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28600" y="2193840"/>
            <a:ext cx="2666880" cy="835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ับผิดชอ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ต่อสังค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943600" y="3083040"/>
            <a:ext cx="2897280" cy="11048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มุ่งเน้นที่ผลลัพธ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และการสร้างคุณค่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3048120" y="4307040"/>
            <a:ext cx="2732040" cy="8334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จัดการเพื่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นวัตกรร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048120" y="2193840"/>
            <a:ext cx="2732040" cy="835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คล่องตั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228600" y="3144960"/>
            <a:ext cx="2698920" cy="10252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ให้ความสำคัญกั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พนักงานและคู่ค้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3048120" y="3159000"/>
            <a:ext cx="2732040" cy="10083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รียนรู้ขอ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องค์การแล</a:t>
            </a:r>
            <a:r>
              <a:rPr b="1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cs typeface="Tahoma"/>
              </a:rPr>
              <a:t>แต่ละบุคค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40120" y="121428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240120" y="214956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059640" y="121428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059640" y="214956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3059640" y="311472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3059640" y="426240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5958360" y="210168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5965200" y="3038400"/>
            <a:ext cx="52812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5965200" y="4262400"/>
            <a:ext cx="52812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40120" y="425772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40120" y="3092400"/>
            <a:ext cx="354600" cy="45972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2"/>
          <p:cNvSpPr/>
          <p:nvPr/>
        </p:nvSpPr>
        <p:spPr>
          <a:xfrm>
            <a:off x="7010280" y="631044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A6D3-0666-4C32-BCCB-DCC5C9D58045}" type="slidenum"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3851280" cy="4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ลักคิด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11 Core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90440" y="5662440"/>
            <a:ext cx="2847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 the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255840" y="5662440"/>
            <a:ext cx="2954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the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321600" y="5662440"/>
            <a:ext cx="2539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 the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79280" y="5359320"/>
            <a:ext cx="288000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rategic 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276720" y="5359320"/>
            <a:ext cx="287964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ecution Excel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372360" y="5359320"/>
            <a:ext cx="252072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ational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3610080" y="2556000"/>
            <a:ext cx="1066680" cy="12189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xcel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มุ่งเน้นลูกค้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5176800" y="2556000"/>
            <a:ext cx="1066680" cy="1233360"/>
          </a:xfrm>
          <a:prstGeom prst="flowChartAlternateProcess">
            <a:avLst/>
          </a:prstGeom>
          <a:solidFill>
            <a:srgbClr val="dbffdb"/>
          </a:solidFill>
          <a:ln w="0">
            <a:noFill/>
          </a:ln>
          <a:effectLst>
            <a:outerShdw dist="17819" dir="2700000" blurRad="0" rotWithShape="0">
              <a:srgbClr val="8399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ocu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esults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Cr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เน้นผลลัพธ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สร้างคุณค่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281160" y="955800"/>
            <a:ext cx="1066680" cy="1218960"/>
          </a:xfrm>
          <a:prstGeom prst="flowChartAlternateProcess">
            <a:avLst/>
          </a:prstGeom>
          <a:solidFill>
            <a:srgbClr val="ffdbdb"/>
          </a:solidFill>
          <a:ln w="0">
            <a:noFill/>
          </a:ln>
          <a:effectLst>
            <a:outerShdw dist="17819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มองเชิงระบ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281160" y="2556000"/>
            <a:ext cx="1066680" cy="1218960"/>
          </a:xfrm>
          <a:prstGeom prst="flowChartAlternateProcess">
            <a:avLst/>
          </a:prstGeom>
          <a:solidFill>
            <a:srgbClr val="ffdbdb"/>
          </a:solidFill>
          <a:ln w="0">
            <a:noFill/>
          </a:ln>
          <a:effectLst>
            <a:outerShdw dist="17819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ocus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เน้นอนาค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281160" y="4003560"/>
            <a:ext cx="1066680" cy="1219320"/>
          </a:xfrm>
          <a:prstGeom prst="flowChartAlternateProcess">
            <a:avLst/>
          </a:prstGeom>
          <a:solidFill>
            <a:srgbClr val="ffdbdb"/>
          </a:solidFill>
          <a:ln w="0">
            <a:noFill/>
          </a:ln>
          <a:effectLst>
            <a:outerShdw dist="17819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Soc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รับผิดชอ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1790640" y="2556000"/>
            <a:ext cx="1067040" cy="1218960"/>
          </a:xfrm>
          <a:prstGeom prst="flowChartAlternateProcess">
            <a:avLst/>
          </a:prstGeom>
          <a:solidFill>
            <a:srgbClr val="ffdbdb"/>
          </a:solidFill>
          <a:ln w="0">
            <a:noFill/>
          </a:ln>
          <a:effectLst>
            <a:outerShdw dist="17819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Visio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นำอย่างม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วิสัยทัศน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33440" y="1488960"/>
            <a:ext cx="990720" cy="3276720"/>
            <a:chOff x="1333440" y="1488960"/>
            <a:chExt cx="990720" cy="3276720"/>
          </a:xfrm>
        </p:grpSpPr>
        <p:sp>
          <p:nvSpPr>
            <p:cNvPr id="180" name="Line 16"/>
            <p:cNvSpPr/>
            <p:nvPr/>
          </p:nvSpPr>
          <p:spPr>
            <a:xfrm>
              <a:off x="1333440" y="148896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1333440" y="47606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2324160" y="148896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V="1">
              <a:off x="2324160" y="3751200"/>
              <a:ext cx="0" cy="101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1333440" y="3165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Line 21"/>
          <p:cNvSpPr/>
          <p:nvPr/>
        </p:nvSpPr>
        <p:spPr>
          <a:xfrm>
            <a:off x="2857680" y="316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2"/>
          <p:cNvSpPr/>
          <p:nvPr/>
        </p:nvSpPr>
        <p:spPr>
          <a:xfrm>
            <a:off x="3610080" y="955800"/>
            <a:ext cx="1066680" cy="1218960"/>
          </a:xfrm>
          <a:prstGeom prst="flowChartAlternateProcess">
            <a:avLst/>
          </a:prstGeom>
          <a:solidFill>
            <a:srgbClr val="dbffdb"/>
          </a:solidFill>
          <a:ln w="0">
            <a:noFill/>
          </a:ln>
          <a:effectLst>
            <a:outerShdw dist="17819" dir="2700000" blurRad="0" rotWithShape="0">
              <a:srgbClr val="8399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g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คล่องตั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3"/>
          <p:cNvSpPr/>
          <p:nvPr/>
        </p:nvSpPr>
        <p:spPr>
          <a:xfrm>
            <a:off x="3610080" y="4003560"/>
            <a:ext cx="1066680" cy="1219320"/>
          </a:xfrm>
          <a:prstGeom prst="flowChartAlternateProcess">
            <a:avLst/>
          </a:prstGeom>
          <a:solidFill>
            <a:srgbClr val="dbffdb"/>
          </a:solidFill>
          <a:ln w="0">
            <a:noFill/>
          </a:ln>
          <a:effectLst>
            <a:outerShdw dist="17819" dir="2700000" blurRad="0" rotWithShape="0">
              <a:srgbClr val="8399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Valu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amp;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ให้ความสำคั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พนักงาน เครือข่า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>
            <a:off x="4143240" y="217476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4138560" y="3774960"/>
            <a:ext cx="468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6"/>
          <p:cNvSpPr/>
          <p:nvPr/>
        </p:nvSpPr>
        <p:spPr>
          <a:xfrm flipH="1">
            <a:off x="4676760" y="3165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7"/>
          <p:cNvSpPr/>
          <p:nvPr/>
        </p:nvSpPr>
        <p:spPr>
          <a:xfrm>
            <a:off x="7043760" y="955800"/>
            <a:ext cx="1300320" cy="1218960"/>
          </a:xfrm>
          <a:prstGeom prst="flowChartAlternateProcess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Man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เน้นนวัตก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7043760" y="2556000"/>
            <a:ext cx="1300320" cy="1218960"/>
          </a:xfrm>
          <a:prstGeom prst="flowChartAlternateProcess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rg.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องค์กรเรียนรู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9"/>
          <p:cNvSpPr/>
          <p:nvPr/>
        </p:nvSpPr>
        <p:spPr>
          <a:xfrm>
            <a:off x="7043760" y="4076640"/>
            <a:ext cx="1300320" cy="1146240"/>
          </a:xfrm>
          <a:prstGeom prst="flowChartAlternateProcess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By F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ตัดสินด้ว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Tahoma"/>
              </a:rPr>
              <a:t>ข้อเท็จจริ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7658280" y="217476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1"/>
          <p:cNvSpPr/>
          <p:nvPr/>
        </p:nvSpPr>
        <p:spPr>
          <a:xfrm flipH="1" flipV="1">
            <a:off x="7658280" y="3774600"/>
            <a:ext cx="9360" cy="3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 flipH="1">
            <a:off x="6300360" y="3141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2651040" y="227664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133640" y="3716280"/>
            <a:ext cx="3236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27160" y="2347920"/>
            <a:ext cx="326880" cy="398880"/>
          </a:xfrm>
          <a:prstGeom prst="rect">
            <a:avLst/>
          </a:prstGeom>
          <a:solidFill>
            <a:srgbClr val="99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128600" y="692280"/>
            <a:ext cx="4734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449600" y="83664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4449600" y="231156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473720" y="3753000"/>
            <a:ext cx="3124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5952960" y="2205000"/>
            <a:ext cx="4734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8123040" y="76500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8109000" y="234936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8123040" y="3824280"/>
            <a:ext cx="3268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45:09Z</dcterms:created>
  <dc:creator>supachai</dc:creator>
  <dc:description/>
  <dc:language>en-US</dc:language>
  <cp:lastModifiedBy>.....</cp:lastModifiedBy>
  <dcterms:modified xsi:type="dcterms:W3CDTF">2008-11-25T10:38:15Z</dcterms:modified>
  <cp:revision>502</cp:revision>
  <dc:subject/>
  <dc:title>Slide 1</dc:title>
</cp:coreProperties>
</file>